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2440" y="8845560"/>
            <a:ext cx="987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TA-44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995080" y="887724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T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04920" y="380880"/>
            <a:ext cx="6300720" cy="8291520"/>
            <a:chOff x="304920" y="380880"/>
            <a:chExt cx="6300720" cy="8291520"/>
          </a:xfrm>
        </p:grpSpPr>
        <p:sp>
          <p:nvSpPr>
            <p:cNvPr id="41" name=""/>
            <p:cNvSpPr/>
            <p:nvPr/>
          </p:nvSpPr>
          <p:spPr>
            <a:xfrm>
              <a:off x="304920" y="380880"/>
              <a:ext cx="6300720" cy="827748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606960" y="533520"/>
              <a:ext cx="5742720" cy="7373520"/>
              <a:chOff x="606960" y="533520"/>
              <a:chExt cx="5742720" cy="737352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2042280" y="1753560"/>
                <a:ext cx="2911680" cy="3474360"/>
                <a:chOff x="2042280" y="1753560"/>
                <a:chExt cx="2911680" cy="347436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2042280" y="1753560"/>
                  <a:ext cx="2809440" cy="3354840"/>
                  <a:chOff x="2042280" y="1753560"/>
                  <a:chExt cx="2809440" cy="335484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2042280" y="1753560"/>
                    <a:ext cx="2809440" cy="335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" name=""/>
                  <p:cNvGrpSpPr/>
                  <p:nvPr/>
                </p:nvGrpSpPr>
                <p:grpSpPr>
                  <a:xfrm>
                    <a:off x="4488120" y="3924360"/>
                    <a:ext cx="330480" cy="491400"/>
                    <a:chOff x="4488120" y="3924360"/>
                    <a:chExt cx="330480" cy="491400"/>
                  </a:xfrm>
                </p:grpSpPr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4488120" y="3924360"/>
                      <a:ext cx="33048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312">
                          <a:moveTo>
                            <a:pt x="151" y="290"/>
                          </a:moveTo>
                          <a:lnTo>
                            <a:pt x="112" y="312"/>
                          </a:lnTo>
                          <a:lnTo>
                            <a:pt x="123" y="290"/>
                          </a:lnTo>
                          <a:lnTo>
                            <a:pt x="128" y="266"/>
                          </a:lnTo>
                          <a:lnTo>
                            <a:pt x="128" y="235"/>
                          </a:lnTo>
                          <a:lnTo>
                            <a:pt x="123" y="213"/>
                          </a:lnTo>
                          <a:lnTo>
                            <a:pt x="114" y="190"/>
                          </a:lnTo>
                          <a:lnTo>
                            <a:pt x="100" y="170"/>
                          </a:lnTo>
                          <a:lnTo>
                            <a:pt x="82" y="156"/>
                          </a:lnTo>
                          <a:lnTo>
                            <a:pt x="63" y="150"/>
                          </a:lnTo>
                          <a:lnTo>
                            <a:pt x="44" y="150"/>
                          </a:lnTo>
                          <a:lnTo>
                            <a:pt x="25" y="154"/>
                          </a:lnTo>
                          <a:lnTo>
                            <a:pt x="7" y="168"/>
                          </a:lnTo>
                          <a:lnTo>
                            <a:pt x="0" y="174"/>
                          </a:lnTo>
                          <a:lnTo>
                            <a:pt x="0" y="26"/>
                          </a:lnTo>
                          <a:lnTo>
                            <a:pt x="21" y="13"/>
                          </a:lnTo>
                          <a:lnTo>
                            <a:pt x="47" y="5"/>
                          </a:lnTo>
                          <a:lnTo>
                            <a:pt x="74" y="0"/>
                          </a:lnTo>
                          <a:lnTo>
                            <a:pt x="102" y="5"/>
                          </a:lnTo>
                          <a:lnTo>
                            <a:pt x="128" y="17"/>
                          </a:lnTo>
                          <a:lnTo>
                            <a:pt x="151" y="30"/>
                          </a:lnTo>
                          <a:lnTo>
                            <a:pt x="172" y="53"/>
                          </a:lnTo>
                          <a:lnTo>
                            <a:pt x="189" y="82"/>
                          </a:lnTo>
                          <a:lnTo>
                            <a:pt x="200" y="111"/>
                          </a:lnTo>
                          <a:lnTo>
                            <a:pt x="208" y="144"/>
                          </a:lnTo>
                          <a:lnTo>
                            <a:pt x="210" y="178"/>
                          </a:lnTo>
                          <a:lnTo>
                            <a:pt x="206" y="207"/>
                          </a:lnTo>
                          <a:lnTo>
                            <a:pt x="187" y="250"/>
                          </a:lnTo>
                          <a:lnTo>
                            <a:pt x="151" y="29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4488120" y="3924360"/>
                      <a:ext cx="33048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312">
                          <a:moveTo>
                            <a:pt x="151" y="290"/>
                          </a:moveTo>
                          <a:lnTo>
                            <a:pt x="112" y="312"/>
                          </a:lnTo>
                          <a:lnTo>
                            <a:pt x="123" y="290"/>
                          </a:lnTo>
                          <a:lnTo>
                            <a:pt x="128" y="266"/>
                          </a:lnTo>
                          <a:lnTo>
                            <a:pt x="128" y="235"/>
                          </a:lnTo>
                          <a:lnTo>
                            <a:pt x="123" y="213"/>
                          </a:lnTo>
                          <a:lnTo>
                            <a:pt x="114" y="190"/>
                          </a:lnTo>
                          <a:lnTo>
                            <a:pt x="100" y="170"/>
                          </a:lnTo>
                          <a:lnTo>
                            <a:pt x="82" y="156"/>
                          </a:lnTo>
                          <a:lnTo>
                            <a:pt x="63" y="150"/>
                          </a:lnTo>
                          <a:lnTo>
                            <a:pt x="44" y="150"/>
                          </a:lnTo>
                          <a:lnTo>
                            <a:pt x="25" y="154"/>
                          </a:lnTo>
                          <a:lnTo>
                            <a:pt x="7" y="168"/>
                          </a:lnTo>
                          <a:lnTo>
                            <a:pt x="0" y="174"/>
                          </a:lnTo>
                          <a:lnTo>
                            <a:pt x="0" y="26"/>
                          </a:lnTo>
                          <a:lnTo>
                            <a:pt x="21" y="13"/>
                          </a:lnTo>
                          <a:lnTo>
                            <a:pt x="47" y="5"/>
                          </a:lnTo>
                          <a:lnTo>
                            <a:pt x="74" y="0"/>
                          </a:lnTo>
                          <a:lnTo>
                            <a:pt x="102" y="5"/>
                          </a:lnTo>
                          <a:lnTo>
                            <a:pt x="128" y="17"/>
                          </a:lnTo>
                          <a:lnTo>
                            <a:pt x="151" y="30"/>
                          </a:lnTo>
                          <a:lnTo>
                            <a:pt x="172" y="53"/>
                          </a:lnTo>
                          <a:lnTo>
                            <a:pt x="189" y="82"/>
                          </a:lnTo>
                          <a:lnTo>
                            <a:pt x="200" y="111"/>
                          </a:lnTo>
                          <a:lnTo>
                            <a:pt x="208" y="144"/>
                          </a:lnTo>
                          <a:lnTo>
                            <a:pt x="210" y="178"/>
                          </a:lnTo>
                          <a:lnTo>
                            <a:pt x="206" y="207"/>
                          </a:lnTo>
                          <a:lnTo>
                            <a:pt x="187" y="250"/>
                          </a:lnTo>
                          <a:lnTo>
                            <a:pt x="151" y="29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" name=""/>
                  <p:cNvSpPr/>
                  <p:nvPr/>
                </p:nvSpPr>
                <p:spPr>
                  <a:xfrm>
                    <a:off x="2442240" y="1806840"/>
                    <a:ext cx="2045880" cy="28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9" h="1779">
                        <a:moveTo>
                          <a:pt x="0" y="0"/>
                        </a:moveTo>
                        <a:lnTo>
                          <a:pt x="1299" y="0"/>
                        </a:lnTo>
                        <a:lnTo>
                          <a:pt x="1299" y="1511"/>
                        </a:lnTo>
                        <a:lnTo>
                          <a:pt x="1286" y="1541"/>
                        </a:lnTo>
                        <a:lnTo>
                          <a:pt x="1260" y="1569"/>
                        </a:lnTo>
                        <a:lnTo>
                          <a:pt x="1233" y="1595"/>
                        </a:lnTo>
                        <a:lnTo>
                          <a:pt x="1199" y="1617"/>
                        </a:lnTo>
                        <a:lnTo>
                          <a:pt x="1167" y="1628"/>
                        </a:lnTo>
                        <a:lnTo>
                          <a:pt x="1131" y="1635"/>
                        </a:lnTo>
                        <a:lnTo>
                          <a:pt x="1095" y="1633"/>
                        </a:lnTo>
                        <a:lnTo>
                          <a:pt x="815" y="1633"/>
                        </a:lnTo>
                        <a:lnTo>
                          <a:pt x="780" y="1636"/>
                        </a:lnTo>
                        <a:lnTo>
                          <a:pt x="751" y="1645"/>
                        </a:lnTo>
                        <a:lnTo>
                          <a:pt x="724" y="1663"/>
                        </a:lnTo>
                        <a:lnTo>
                          <a:pt x="698" y="1684"/>
                        </a:lnTo>
                        <a:lnTo>
                          <a:pt x="675" y="1715"/>
                        </a:lnTo>
                        <a:lnTo>
                          <a:pt x="657" y="1748"/>
                        </a:lnTo>
                        <a:lnTo>
                          <a:pt x="649" y="1779"/>
                        </a:lnTo>
                        <a:lnTo>
                          <a:pt x="638" y="1743"/>
                        </a:lnTo>
                        <a:lnTo>
                          <a:pt x="621" y="1710"/>
                        </a:lnTo>
                        <a:lnTo>
                          <a:pt x="600" y="1683"/>
                        </a:lnTo>
                        <a:lnTo>
                          <a:pt x="577" y="1660"/>
                        </a:lnTo>
                        <a:lnTo>
                          <a:pt x="545" y="1643"/>
                        </a:lnTo>
                        <a:lnTo>
                          <a:pt x="513" y="1635"/>
                        </a:lnTo>
                        <a:lnTo>
                          <a:pt x="487" y="1633"/>
                        </a:lnTo>
                        <a:lnTo>
                          <a:pt x="205" y="1633"/>
                        </a:lnTo>
                        <a:lnTo>
                          <a:pt x="203" y="1633"/>
                        </a:lnTo>
                        <a:lnTo>
                          <a:pt x="172" y="1635"/>
                        </a:lnTo>
                        <a:lnTo>
                          <a:pt x="137" y="1631"/>
                        </a:lnTo>
                        <a:lnTo>
                          <a:pt x="101" y="1619"/>
                        </a:lnTo>
                        <a:lnTo>
                          <a:pt x="72" y="1600"/>
                        </a:lnTo>
                        <a:lnTo>
                          <a:pt x="42" y="1571"/>
                        </a:lnTo>
                        <a:lnTo>
                          <a:pt x="21" y="1543"/>
                        </a:lnTo>
                        <a:lnTo>
                          <a:pt x="0" y="15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442240" y="1806840"/>
                    <a:ext cx="2059560" cy="28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8" h="1789">
                        <a:moveTo>
                          <a:pt x="0" y="0"/>
                        </a:moveTo>
                        <a:lnTo>
                          <a:pt x="1308" y="0"/>
                        </a:lnTo>
                        <a:lnTo>
                          <a:pt x="1308" y="1519"/>
                        </a:lnTo>
                        <a:lnTo>
                          <a:pt x="1295" y="1550"/>
                        </a:lnTo>
                        <a:lnTo>
                          <a:pt x="1270" y="1578"/>
                        </a:lnTo>
                        <a:lnTo>
                          <a:pt x="1240" y="1604"/>
                        </a:lnTo>
                        <a:lnTo>
                          <a:pt x="1208" y="1626"/>
                        </a:lnTo>
                        <a:lnTo>
                          <a:pt x="1176" y="1639"/>
                        </a:lnTo>
                        <a:lnTo>
                          <a:pt x="1138" y="1645"/>
                        </a:lnTo>
                        <a:lnTo>
                          <a:pt x="1104" y="1643"/>
                        </a:lnTo>
                        <a:lnTo>
                          <a:pt x="819" y="1643"/>
                        </a:lnTo>
                        <a:lnTo>
                          <a:pt x="788" y="1648"/>
                        </a:lnTo>
                        <a:lnTo>
                          <a:pt x="756" y="1654"/>
                        </a:lnTo>
                        <a:lnTo>
                          <a:pt x="728" y="1674"/>
                        </a:lnTo>
                        <a:lnTo>
                          <a:pt x="703" y="1695"/>
                        </a:lnTo>
                        <a:lnTo>
                          <a:pt x="679" y="1726"/>
                        </a:lnTo>
                        <a:lnTo>
                          <a:pt x="663" y="1758"/>
                        </a:lnTo>
                        <a:lnTo>
                          <a:pt x="654" y="1789"/>
                        </a:lnTo>
                        <a:lnTo>
                          <a:pt x="643" y="1755"/>
                        </a:lnTo>
                        <a:lnTo>
                          <a:pt x="626" y="1722"/>
                        </a:lnTo>
                        <a:lnTo>
                          <a:pt x="605" y="1691"/>
                        </a:lnTo>
                        <a:lnTo>
                          <a:pt x="582" y="1669"/>
                        </a:lnTo>
                        <a:lnTo>
                          <a:pt x="549" y="1654"/>
                        </a:lnTo>
                        <a:lnTo>
                          <a:pt x="518" y="1645"/>
                        </a:lnTo>
                        <a:lnTo>
                          <a:pt x="490" y="1643"/>
                        </a:lnTo>
                        <a:lnTo>
                          <a:pt x="208" y="1643"/>
                        </a:lnTo>
                        <a:lnTo>
                          <a:pt x="204" y="1643"/>
                        </a:lnTo>
                        <a:lnTo>
                          <a:pt x="174" y="1645"/>
                        </a:lnTo>
                        <a:lnTo>
                          <a:pt x="137" y="1641"/>
                        </a:lnTo>
                        <a:lnTo>
                          <a:pt x="102" y="1628"/>
                        </a:lnTo>
                        <a:lnTo>
                          <a:pt x="74" y="1611"/>
                        </a:lnTo>
                        <a:lnTo>
                          <a:pt x="42" y="1583"/>
                        </a:lnTo>
                        <a:lnTo>
                          <a:pt x="21" y="1552"/>
                        </a:lnTo>
                        <a:lnTo>
                          <a:pt x="0" y="151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" name=""/>
                  <p:cNvGrpSpPr/>
                  <p:nvPr/>
                </p:nvGrpSpPr>
                <p:grpSpPr>
                  <a:xfrm>
                    <a:off x="2097360" y="4250520"/>
                    <a:ext cx="2718000" cy="833760"/>
                    <a:chOff x="2097360" y="4250520"/>
                    <a:chExt cx="2718000" cy="833760"/>
                  </a:xfrm>
                </p:grpSpPr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2097360" y="4250520"/>
                      <a:ext cx="2718000" cy="83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6" h="529">
                          <a:moveTo>
                            <a:pt x="1721" y="0"/>
                          </a:moveTo>
                          <a:lnTo>
                            <a:pt x="1707" y="45"/>
                          </a:lnTo>
                          <a:lnTo>
                            <a:pt x="1667" y="83"/>
                          </a:lnTo>
                          <a:lnTo>
                            <a:pt x="1552" y="148"/>
                          </a:lnTo>
                          <a:lnTo>
                            <a:pt x="1474" y="169"/>
                          </a:lnTo>
                          <a:lnTo>
                            <a:pt x="1367" y="205"/>
                          </a:lnTo>
                          <a:lnTo>
                            <a:pt x="1293" y="226"/>
                          </a:lnTo>
                          <a:lnTo>
                            <a:pt x="1204" y="235"/>
                          </a:lnTo>
                          <a:lnTo>
                            <a:pt x="1113" y="254"/>
                          </a:lnTo>
                          <a:lnTo>
                            <a:pt x="1025" y="265"/>
                          </a:lnTo>
                          <a:lnTo>
                            <a:pt x="927" y="270"/>
                          </a:lnTo>
                          <a:lnTo>
                            <a:pt x="862" y="287"/>
                          </a:lnTo>
                          <a:lnTo>
                            <a:pt x="796" y="270"/>
                          </a:lnTo>
                          <a:lnTo>
                            <a:pt x="701" y="265"/>
                          </a:lnTo>
                          <a:lnTo>
                            <a:pt x="615" y="254"/>
                          </a:lnTo>
                          <a:lnTo>
                            <a:pt x="522" y="235"/>
                          </a:lnTo>
                          <a:lnTo>
                            <a:pt x="431" y="226"/>
                          </a:lnTo>
                          <a:lnTo>
                            <a:pt x="352" y="208"/>
                          </a:lnTo>
                          <a:lnTo>
                            <a:pt x="252" y="172"/>
                          </a:lnTo>
                          <a:lnTo>
                            <a:pt x="172" y="139"/>
                          </a:lnTo>
                          <a:lnTo>
                            <a:pt x="59" y="83"/>
                          </a:lnTo>
                          <a:lnTo>
                            <a:pt x="19" y="45"/>
                          </a:lnTo>
                          <a:lnTo>
                            <a:pt x="0" y="0"/>
                          </a:lnTo>
                          <a:lnTo>
                            <a:pt x="4" y="17"/>
                          </a:lnTo>
                          <a:lnTo>
                            <a:pt x="40" y="261"/>
                          </a:lnTo>
                          <a:lnTo>
                            <a:pt x="37" y="244"/>
                          </a:lnTo>
                          <a:lnTo>
                            <a:pt x="54" y="287"/>
                          </a:lnTo>
                          <a:lnTo>
                            <a:pt x="93" y="326"/>
                          </a:lnTo>
                          <a:lnTo>
                            <a:pt x="201" y="392"/>
                          </a:lnTo>
                          <a:lnTo>
                            <a:pt x="280" y="411"/>
                          </a:lnTo>
                          <a:lnTo>
                            <a:pt x="365" y="431"/>
                          </a:lnTo>
                          <a:lnTo>
                            <a:pt x="450" y="452"/>
                          </a:lnTo>
                          <a:lnTo>
                            <a:pt x="535" y="464"/>
                          </a:lnTo>
                          <a:lnTo>
                            <a:pt x="624" y="474"/>
                          </a:lnTo>
                          <a:lnTo>
                            <a:pt x="706" y="483"/>
                          </a:lnTo>
                          <a:lnTo>
                            <a:pt x="798" y="502"/>
                          </a:lnTo>
                          <a:lnTo>
                            <a:pt x="862" y="529"/>
                          </a:lnTo>
                          <a:lnTo>
                            <a:pt x="927" y="502"/>
                          </a:lnTo>
                          <a:lnTo>
                            <a:pt x="1019" y="483"/>
                          </a:lnTo>
                          <a:lnTo>
                            <a:pt x="1104" y="474"/>
                          </a:lnTo>
                          <a:lnTo>
                            <a:pt x="1190" y="464"/>
                          </a:lnTo>
                          <a:lnTo>
                            <a:pt x="1276" y="452"/>
                          </a:lnTo>
                          <a:lnTo>
                            <a:pt x="1358" y="431"/>
                          </a:lnTo>
                          <a:lnTo>
                            <a:pt x="1446" y="411"/>
                          </a:lnTo>
                          <a:lnTo>
                            <a:pt x="1526" y="392"/>
                          </a:lnTo>
                          <a:lnTo>
                            <a:pt x="1635" y="326"/>
                          </a:lnTo>
                          <a:lnTo>
                            <a:pt x="1670" y="287"/>
                          </a:lnTo>
                          <a:lnTo>
                            <a:pt x="1688" y="244"/>
                          </a:lnTo>
                          <a:lnTo>
                            <a:pt x="1681" y="261"/>
                          </a:lnTo>
                          <a:lnTo>
                            <a:pt x="1726" y="17"/>
                          </a:lnTo>
                          <a:lnTo>
                            <a:pt x="1721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" name=""/>
                    <p:cNvSpPr/>
                    <p:nvPr/>
                  </p:nvSpPr>
                  <p:spPr>
                    <a:xfrm>
                      <a:off x="2097360" y="4250520"/>
                      <a:ext cx="2718000" cy="83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6" h="529">
                          <a:moveTo>
                            <a:pt x="1721" y="0"/>
                          </a:moveTo>
                          <a:lnTo>
                            <a:pt x="1707" y="45"/>
                          </a:lnTo>
                          <a:lnTo>
                            <a:pt x="1667" y="83"/>
                          </a:lnTo>
                          <a:lnTo>
                            <a:pt x="1552" y="148"/>
                          </a:lnTo>
                          <a:lnTo>
                            <a:pt x="1474" y="169"/>
                          </a:lnTo>
                          <a:lnTo>
                            <a:pt x="1367" y="205"/>
                          </a:lnTo>
                          <a:lnTo>
                            <a:pt x="1293" y="226"/>
                          </a:lnTo>
                          <a:lnTo>
                            <a:pt x="1204" y="235"/>
                          </a:lnTo>
                          <a:lnTo>
                            <a:pt x="1113" y="254"/>
                          </a:lnTo>
                          <a:lnTo>
                            <a:pt x="1025" y="265"/>
                          </a:lnTo>
                          <a:lnTo>
                            <a:pt x="927" y="270"/>
                          </a:lnTo>
                          <a:lnTo>
                            <a:pt x="862" y="287"/>
                          </a:lnTo>
                          <a:lnTo>
                            <a:pt x="796" y="270"/>
                          </a:lnTo>
                          <a:lnTo>
                            <a:pt x="701" y="265"/>
                          </a:lnTo>
                          <a:lnTo>
                            <a:pt x="615" y="254"/>
                          </a:lnTo>
                          <a:lnTo>
                            <a:pt x="522" y="235"/>
                          </a:lnTo>
                          <a:lnTo>
                            <a:pt x="431" y="226"/>
                          </a:lnTo>
                          <a:lnTo>
                            <a:pt x="352" y="208"/>
                          </a:lnTo>
                          <a:lnTo>
                            <a:pt x="252" y="172"/>
                          </a:lnTo>
                          <a:lnTo>
                            <a:pt x="172" y="139"/>
                          </a:lnTo>
                          <a:lnTo>
                            <a:pt x="59" y="83"/>
                          </a:lnTo>
                          <a:lnTo>
                            <a:pt x="19" y="45"/>
                          </a:lnTo>
                          <a:lnTo>
                            <a:pt x="0" y="0"/>
                          </a:lnTo>
                          <a:lnTo>
                            <a:pt x="4" y="17"/>
                          </a:lnTo>
                          <a:lnTo>
                            <a:pt x="40" y="261"/>
                          </a:lnTo>
                          <a:lnTo>
                            <a:pt x="37" y="244"/>
                          </a:lnTo>
                          <a:lnTo>
                            <a:pt x="54" y="287"/>
                          </a:lnTo>
                          <a:lnTo>
                            <a:pt x="93" y="326"/>
                          </a:lnTo>
                          <a:lnTo>
                            <a:pt x="201" y="392"/>
                          </a:lnTo>
                          <a:lnTo>
                            <a:pt x="280" y="411"/>
                          </a:lnTo>
                          <a:lnTo>
                            <a:pt x="365" y="431"/>
                          </a:lnTo>
                          <a:lnTo>
                            <a:pt x="450" y="452"/>
                          </a:lnTo>
                          <a:lnTo>
                            <a:pt x="535" y="464"/>
                          </a:lnTo>
                          <a:lnTo>
                            <a:pt x="624" y="474"/>
                          </a:lnTo>
                          <a:lnTo>
                            <a:pt x="706" y="483"/>
                          </a:lnTo>
                          <a:lnTo>
                            <a:pt x="798" y="502"/>
                          </a:lnTo>
                          <a:lnTo>
                            <a:pt x="862" y="529"/>
                          </a:lnTo>
                          <a:lnTo>
                            <a:pt x="927" y="502"/>
                          </a:lnTo>
                          <a:lnTo>
                            <a:pt x="1019" y="483"/>
                          </a:lnTo>
                          <a:lnTo>
                            <a:pt x="1104" y="474"/>
                          </a:lnTo>
                          <a:lnTo>
                            <a:pt x="1190" y="464"/>
                          </a:lnTo>
                          <a:lnTo>
                            <a:pt x="1276" y="452"/>
                          </a:lnTo>
                          <a:lnTo>
                            <a:pt x="1358" y="431"/>
                          </a:lnTo>
                          <a:lnTo>
                            <a:pt x="1446" y="411"/>
                          </a:lnTo>
                          <a:lnTo>
                            <a:pt x="1526" y="392"/>
                          </a:lnTo>
                          <a:lnTo>
                            <a:pt x="1635" y="326"/>
                          </a:lnTo>
                          <a:lnTo>
                            <a:pt x="1670" y="287"/>
                          </a:lnTo>
                          <a:lnTo>
                            <a:pt x="1688" y="244"/>
                          </a:lnTo>
                          <a:lnTo>
                            <a:pt x="1681" y="261"/>
                          </a:lnTo>
                          <a:lnTo>
                            <a:pt x="1726" y="17"/>
                          </a:lnTo>
                          <a:lnTo>
                            <a:pt x="1721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" name=""/>
                  <p:cNvGrpSpPr/>
                  <p:nvPr/>
                </p:nvGrpSpPr>
                <p:grpSpPr>
                  <a:xfrm>
                    <a:off x="2097360" y="3924360"/>
                    <a:ext cx="325800" cy="491400"/>
                    <a:chOff x="2097360" y="3924360"/>
                    <a:chExt cx="325800" cy="491400"/>
                  </a:xfrm>
                </p:grpSpPr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097360" y="3924360"/>
                      <a:ext cx="32580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7" h="312">
                          <a:moveTo>
                            <a:pt x="59" y="290"/>
                          </a:moveTo>
                          <a:lnTo>
                            <a:pt x="95" y="312"/>
                          </a:lnTo>
                          <a:lnTo>
                            <a:pt x="93" y="307"/>
                          </a:lnTo>
                          <a:lnTo>
                            <a:pt x="84" y="288"/>
                          </a:lnTo>
                          <a:lnTo>
                            <a:pt x="80" y="261"/>
                          </a:lnTo>
                          <a:lnTo>
                            <a:pt x="80" y="233"/>
                          </a:lnTo>
                          <a:lnTo>
                            <a:pt x="84" y="209"/>
                          </a:lnTo>
                          <a:lnTo>
                            <a:pt x="95" y="187"/>
                          </a:lnTo>
                          <a:lnTo>
                            <a:pt x="110" y="168"/>
                          </a:lnTo>
                          <a:lnTo>
                            <a:pt x="128" y="154"/>
                          </a:lnTo>
                          <a:lnTo>
                            <a:pt x="146" y="150"/>
                          </a:lnTo>
                          <a:lnTo>
                            <a:pt x="165" y="150"/>
                          </a:lnTo>
                          <a:lnTo>
                            <a:pt x="186" y="156"/>
                          </a:lnTo>
                          <a:lnTo>
                            <a:pt x="207" y="178"/>
                          </a:lnTo>
                          <a:lnTo>
                            <a:pt x="207" y="26"/>
                          </a:lnTo>
                          <a:lnTo>
                            <a:pt x="182" y="11"/>
                          </a:lnTo>
                          <a:lnTo>
                            <a:pt x="158" y="0"/>
                          </a:lnTo>
                          <a:lnTo>
                            <a:pt x="128" y="0"/>
                          </a:lnTo>
                          <a:lnTo>
                            <a:pt x="102" y="6"/>
                          </a:lnTo>
                          <a:lnTo>
                            <a:pt x="76" y="17"/>
                          </a:lnTo>
                          <a:lnTo>
                            <a:pt x="53" y="32"/>
                          </a:lnTo>
                          <a:lnTo>
                            <a:pt x="31" y="58"/>
                          </a:lnTo>
                          <a:lnTo>
                            <a:pt x="16" y="82"/>
                          </a:lnTo>
                          <a:lnTo>
                            <a:pt x="6" y="118"/>
                          </a:lnTo>
                          <a:lnTo>
                            <a:pt x="0" y="150"/>
                          </a:lnTo>
                          <a:lnTo>
                            <a:pt x="0" y="187"/>
                          </a:lnTo>
                          <a:lnTo>
                            <a:pt x="4" y="213"/>
                          </a:lnTo>
                          <a:lnTo>
                            <a:pt x="19" y="250"/>
                          </a:lnTo>
                          <a:lnTo>
                            <a:pt x="59" y="29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097360" y="3924360"/>
                      <a:ext cx="325800" cy="49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7" h="312">
                          <a:moveTo>
                            <a:pt x="59" y="290"/>
                          </a:moveTo>
                          <a:lnTo>
                            <a:pt x="95" y="312"/>
                          </a:lnTo>
                          <a:lnTo>
                            <a:pt x="93" y="307"/>
                          </a:lnTo>
                          <a:lnTo>
                            <a:pt x="84" y="288"/>
                          </a:lnTo>
                          <a:lnTo>
                            <a:pt x="80" y="261"/>
                          </a:lnTo>
                          <a:lnTo>
                            <a:pt x="80" y="233"/>
                          </a:lnTo>
                          <a:lnTo>
                            <a:pt x="84" y="209"/>
                          </a:lnTo>
                          <a:lnTo>
                            <a:pt x="95" y="187"/>
                          </a:lnTo>
                          <a:lnTo>
                            <a:pt x="110" y="168"/>
                          </a:lnTo>
                          <a:lnTo>
                            <a:pt x="128" y="154"/>
                          </a:lnTo>
                          <a:lnTo>
                            <a:pt x="146" y="150"/>
                          </a:lnTo>
                          <a:lnTo>
                            <a:pt x="165" y="150"/>
                          </a:lnTo>
                          <a:lnTo>
                            <a:pt x="186" y="156"/>
                          </a:lnTo>
                          <a:lnTo>
                            <a:pt x="207" y="178"/>
                          </a:lnTo>
                          <a:lnTo>
                            <a:pt x="207" y="26"/>
                          </a:lnTo>
                          <a:lnTo>
                            <a:pt x="182" y="11"/>
                          </a:lnTo>
                          <a:lnTo>
                            <a:pt x="158" y="0"/>
                          </a:lnTo>
                          <a:lnTo>
                            <a:pt x="128" y="0"/>
                          </a:lnTo>
                          <a:lnTo>
                            <a:pt x="102" y="6"/>
                          </a:lnTo>
                          <a:lnTo>
                            <a:pt x="76" y="17"/>
                          </a:lnTo>
                          <a:lnTo>
                            <a:pt x="53" y="32"/>
                          </a:lnTo>
                          <a:lnTo>
                            <a:pt x="31" y="58"/>
                          </a:lnTo>
                          <a:lnTo>
                            <a:pt x="16" y="82"/>
                          </a:lnTo>
                          <a:lnTo>
                            <a:pt x="6" y="118"/>
                          </a:lnTo>
                          <a:lnTo>
                            <a:pt x="0" y="150"/>
                          </a:lnTo>
                          <a:lnTo>
                            <a:pt x="0" y="187"/>
                          </a:lnTo>
                          <a:lnTo>
                            <a:pt x="4" y="213"/>
                          </a:lnTo>
                          <a:lnTo>
                            <a:pt x="19" y="250"/>
                          </a:lnTo>
                          <a:lnTo>
                            <a:pt x="59" y="29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" name=""/>
                  <p:cNvSpPr/>
                  <p:nvPr/>
                </p:nvSpPr>
                <p:spPr>
                  <a:xfrm>
                    <a:off x="2719440" y="2172600"/>
                    <a:ext cx="330480" cy="50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23">
                        <a:moveTo>
                          <a:pt x="208" y="27"/>
                        </a:moveTo>
                        <a:lnTo>
                          <a:pt x="210" y="22"/>
                        </a:lnTo>
                        <a:lnTo>
                          <a:pt x="210" y="16"/>
                        </a:lnTo>
                        <a:lnTo>
                          <a:pt x="210" y="14"/>
                        </a:lnTo>
                        <a:lnTo>
                          <a:pt x="206" y="7"/>
                        </a:lnTo>
                        <a:lnTo>
                          <a:pt x="200" y="3"/>
                        </a:lnTo>
                        <a:lnTo>
                          <a:pt x="193" y="0"/>
                        </a:lnTo>
                        <a:lnTo>
                          <a:pt x="172" y="7"/>
                        </a:lnTo>
                        <a:lnTo>
                          <a:pt x="149" y="16"/>
                        </a:lnTo>
                        <a:lnTo>
                          <a:pt x="117" y="36"/>
                        </a:lnTo>
                        <a:lnTo>
                          <a:pt x="87" y="57"/>
                        </a:lnTo>
                        <a:lnTo>
                          <a:pt x="63" y="92"/>
                        </a:lnTo>
                        <a:lnTo>
                          <a:pt x="36" y="120"/>
                        </a:lnTo>
                        <a:lnTo>
                          <a:pt x="19" y="160"/>
                        </a:lnTo>
                        <a:lnTo>
                          <a:pt x="9" y="201"/>
                        </a:lnTo>
                        <a:lnTo>
                          <a:pt x="0" y="251"/>
                        </a:lnTo>
                        <a:lnTo>
                          <a:pt x="0" y="288"/>
                        </a:lnTo>
                        <a:lnTo>
                          <a:pt x="2" y="319"/>
                        </a:lnTo>
                        <a:lnTo>
                          <a:pt x="9" y="323"/>
                        </a:lnTo>
                        <a:lnTo>
                          <a:pt x="19" y="323"/>
                        </a:lnTo>
                        <a:lnTo>
                          <a:pt x="21" y="314"/>
                        </a:lnTo>
                        <a:lnTo>
                          <a:pt x="28" y="288"/>
                        </a:lnTo>
                        <a:lnTo>
                          <a:pt x="40" y="233"/>
                        </a:lnTo>
                        <a:lnTo>
                          <a:pt x="63" y="182"/>
                        </a:lnTo>
                        <a:lnTo>
                          <a:pt x="93" y="140"/>
                        </a:lnTo>
                        <a:lnTo>
                          <a:pt x="117" y="103"/>
                        </a:lnTo>
                        <a:lnTo>
                          <a:pt x="159" y="66"/>
                        </a:lnTo>
                        <a:lnTo>
                          <a:pt x="200" y="34"/>
                        </a:lnTo>
                        <a:lnTo>
                          <a:pt x="208" y="27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719440" y="2172600"/>
                    <a:ext cx="346320" cy="52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332">
                        <a:moveTo>
                          <a:pt x="218" y="27"/>
                        </a:moveTo>
                        <a:lnTo>
                          <a:pt x="220" y="22"/>
                        </a:lnTo>
                        <a:lnTo>
                          <a:pt x="220" y="16"/>
                        </a:lnTo>
                        <a:lnTo>
                          <a:pt x="220" y="14"/>
                        </a:lnTo>
                        <a:lnTo>
                          <a:pt x="216" y="7"/>
                        </a:lnTo>
                        <a:lnTo>
                          <a:pt x="210" y="3"/>
                        </a:lnTo>
                        <a:lnTo>
                          <a:pt x="201" y="0"/>
                        </a:lnTo>
                        <a:lnTo>
                          <a:pt x="180" y="7"/>
                        </a:lnTo>
                        <a:lnTo>
                          <a:pt x="157" y="16"/>
                        </a:lnTo>
                        <a:lnTo>
                          <a:pt x="122" y="38"/>
                        </a:lnTo>
                        <a:lnTo>
                          <a:pt x="91" y="60"/>
                        </a:lnTo>
                        <a:lnTo>
                          <a:pt x="68" y="94"/>
                        </a:lnTo>
                        <a:lnTo>
                          <a:pt x="38" y="123"/>
                        </a:lnTo>
                        <a:lnTo>
                          <a:pt x="19" y="164"/>
                        </a:lnTo>
                        <a:lnTo>
                          <a:pt x="9" y="206"/>
                        </a:lnTo>
                        <a:lnTo>
                          <a:pt x="0" y="258"/>
                        </a:lnTo>
                        <a:lnTo>
                          <a:pt x="0" y="297"/>
                        </a:lnTo>
                        <a:lnTo>
                          <a:pt x="2" y="328"/>
                        </a:lnTo>
                        <a:lnTo>
                          <a:pt x="10" y="332"/>
                        </a:lnTo>
                        <a:lnTo>
                          <a:pt x="19" y="332"/>
                        </a:lnTo>
                        <a:lnTo>
                          <a:pt x="21" y="323"/>
                        </a:lnTo>
                        <a:lnTo>
                          <a:pt x="28" y="297"/>
                        </a:lnTo>
                        <a:lnTo>
                          <a:pt x="42" y="241"/>
                        </a:lnTo>
                        <a:lnTo>
                          <a:pt x="68" y="186"/>
                        </a:lnTo>
                        <a:lnTo>
                          <a:pt x="98" y="142"/>
                        </a:lnTo>
                        <a:lnTo>
                          <a:pt x="120" y="105"/>
                        </a:lnTo>
                        <a:lnTo>
                          <a:pt x="165" y="68"/>
                        </a:lnTo>
                        <a:lnTo>
                          <a:pt x="210" y="34"/>
                        </a:lnTo>
                        <a:lnTo>
                          <a:pt x="218" y="2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81840" y="1941120"/>
                    <a:ext cx="1274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109">
                        <a:moveTo>
                          <a:pt x="81" y="55"/>
                        </a:moveTo>
                        <a:lnTo>
                          <a:pt x="74" y="29"/>
                        </a:lnTo>
                        <a:lnTo>
                          <a:pt x="60" y="9"/>
                        </a:lnTo>
                        <a:lnTo>
                          <a:pt x="42" y="0"/>
                        </a:lnTo>
                        <a:lnTo>
                          <a:pt x="19" y="9"/>
                        </a:lnTo>
                        <a:lnTo>
                          <a:pt x="4" y="29"/>
                        </a:lnTo>
                        <a:lnTo>
                          <a:pt x="0" y="55"/>
                        </a:lnTo>
                        <a:lnTo>
                          <a:pt x="4" y="81"/>
                        </a:lnTo>
                        <a:lnTo>
                          <a:pt x="19" y="101"/>
                        </a:lnTo>
                        <a:lnTo>
                          <a:pt x="42" y="109"/>
                        </a:lnTo>
                        <a:lnTo>
                          <a:pt x="60" y="101"/>
                        </a:lnTo>
                        <a:lnTo>
                          <a:pt x="74" y="81"/>
                        </a:lnTo>
                        <a:lnTo>
                          <a:pt x="81" y="55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481840" y="1941120"/>
                    <a:ext cx="14292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20">
                        <a:moveTo>
                          <a:pt x="91" y="61"/>
                        </a:moveTo>
                        <a:lnTo>
                          <a:pt x="84" y="33"/>
                        </a:lnTo>
                        <a:lnTo>
                          <a:pt x="66" y="9"/>
                        </a:lnTo>
                        <a:lnTo>
                          <a:pt x="47" y="0"/>
                        </a:lnTo>
                        <a:lnTo>
                          <a:pt x="21" y="9"/>
                        </a:lnTo>
                        <a:lnTo>
                          <a:pt x="3" y="33"/>
                        </a:lnTo>
                        <a:lnTo>
                          <a:pt x="0" y="61"/>
                        </a:lnTo>
                        <a:lnTo>
                          <a:pt x="3" y="89"/>
                        </a:lnTo>
                        <a:lnTo>
                          <a:pt x="21" y="111"/>
                        </a:lnTo>
                        <a:lnTo>
                          <a:pt x="47" y="120"/>
                        </a:lnTo>
                        <a:lnTo>
                          <a:pt x="66" y="111"/>
                        </a:lnTo>
                        <a:lnTo>
                          <a:pt x="84" y="89"/>
                        </a:lnTo>
                        <a:lnTo>
                          <a:pt x="91" y="6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580480" y="2051640"/>
                    <a:ext cx="272160" cy="31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0">
                        <a:moveTo>
                          <a:pt x="173" y="128"/>
                        </a:moveTo>
                        <a:lnTo>
                          <a:pt x="28" y="0"/>
                        </a:lnTo>
                        <a:lnTo>
                          <a:pt x="28" y="2"/>
                        </a:lnTo>
                        <a:lnTo>
                          <a:pt x="26" y="12"/>
                        </a:lnTo>
                        <a:lnTo>
                          <a:pt x="19" y="19"/>
                        </a:lnTo>
                        <a:lnTo>
                          <a:pt x="9" y="33"/>
                        </a:lnTo>
                        <a:lnTo>
                          <a:pt x="0" y="36"/>
                        </a:lnTo>
                        <a:lnTo>
                          <a:pt x="113" y="200"/>
                        </a:lnTo>
                        <a:lnTo>
                          <a:pt x="173" y="128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580480" y="2051640"/>
                    <a:ext cx="285120" cy="33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11">
                        <a:moveTo>
                          <a:pt x="181" y="135"/>
                        </a:moveTo>
                        <a:lnTo>
                          <a:pt x="30" y="0"/>
                        </a:lnTo>
                        <a:lnTo>
                          <a:pt x="30" y="2"/>
                        </a:lnTo>
                        <a:lnTo>
                          <a:pt x="26" y="12"/>
                        </a:lnTo>
                        <a:lnTo>
                          <a:pt x="22" y="22"/>
                        </a:lnTo>
                        <a:lnTo>
                          <a:pt x="12" y="33"/>
                        </a:lnTo>
                        <a:lnTo>
                          <a:pt x="0" y="39"/>
                        </a:lnTo>
                        <a:lnTo>
                          <a:pt x="119" y="211"/>
                        </a:lnTo>
                        <a:lnTo>
                          <a:pt x="181" y="13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" name=""/>
                  <p:cNvGrpSpPr/>
                  <p:nvPr/>
                </p:nvGrpSpPr>
                <p:grpSpPr>
                  <a:xfrm>
                    <a:off x="2972880" y="3344400"/>
                    <a:ext cx="946440" cy="594000"/>
                    <a:chOff x="2972880" y="3344400"/>
                    <a:chExt cx="946440" cy="594000"/>
                  </a:xfrm>
                </p:grpSpPr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972880" y="3344400"/>
                      <a:ext cx="946440" cy="59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1" h="377">
                          <a:moveTo>
                            <a:pt x="399" y="0"/>
                          </a:moveTo>
                          <a:lnTo>
                            <a:pt x="297" y="76"/>
                          </a:lnTo>
                          <a:lnTo>
                            <a:pt x="255" y="43"/>
                          </a:lnTo>
                          <a:lnTo>
                            <a:pt x="229" y="76"/>
                          </a:lnTo>
                          <a:lnTo>
                            <a:pt x="196" y="120"/>
                          </a:lnTo>
                          <a:lnTo>
                            <a:pt x="163" y="153"/>
                          </a:lnTo>
                          <a:lnTo>
                            <a:pt x="152" y="170"/>
                          </a:lnTo>
                          <a:lnTo>
                            <a:pt x="129" y="159"/>
                          </a:lnTo>
                          <a:lnTo>
                            <a:pt x="108" y="159"/>
                          </a:lnTo>
                          <a:lnTo>
                            <a:pt x="89" y="159"/>
                          </a:lnTo>
                          <a:lnTo>
                            <a:pt x="75" y="163"/>
                          </a:lnTo>
                          <a:lnTo>
                            <a:pt x="59" y="170"/>
                          </a:lnTo>
                          <a:lnTo>
                            <a:pt x="47" y="179"/>
                          </a:lnTo>
                          <a:lnTo>
                            <a:pt x="36" y="190"/>
                          </a:lnTo>
                          <a:lnTo>
                            <a:pt x="29" y="196"/>
                          </a:lnTo>
                          <a:lnTo>
                            <a:pt x="21" y="207"/>
                          </a:lnTo>
                          <a:lnTo>
                            <a:pt x="10" y="212"/>
                          </a:lnTo>
                          <a:lnTo>
                            <a:pt x="0" y="229"/>
                          </a:lnTo>
                          <a:lnTo>
                            <a:pt x="4" y="229"/>
                          </a:lnTo>
                          <a:lnTo>
                            <a:pt x="47" y="279"/>
                          </a:lnTo>
                          <a:lnTo>
                            <a:pt x="87" y="308"/>
                          </a:lnTo>
                          <a:lnTo>
                            <a:pt x="127" y="329"/>
                          </a:lnTo>
                          <a:lnTo>
                            <a:pt x="166" y="351"/>
                          </a:lnTo>
                          <a:lnTo>
                            <a:pt x="208" y="364"/>
                          </a:lnTo>
                          <a:lnTo>
                            <a:pt x="250" y="373"/>
                          </a:lnTo>
                          <a:lnTo>
                            <a:pt x="295" y="377"/>
                          </a:lnTo>
                          <a:lnTo>
                            <a:pt x="338" y="375"/>
                          </a:lnTo>
                          <a:lnTo>
                            <a:pt x="382" y="366"/>
                          </a:lnTo>
                          <a:lnTo>
                            <a:pt x="422" y="355"/>
                          </a:lnTo>
                          <a:lnTo>
                            <a:pt x="464" y="338"/>
                          </a:lnTo>
                          <a:lnTo>
                            <a:pt x="503" y="316"/>
                          </a:lnTo>
                          <a:lnTo>
                            <a:pt x="541" y="288"/>
                          </a:lnTo>
                          <a:lnTo>
                            <a:pt x="597" y="238"/>
                          </a:lnTo>
                          <a:lnTo>
                            <a:pt x="601" y="233"/>
                          </a:lnTo>
                          <a:lnTo>
                            <a:pt x="429" y="35"/>
                          </a:lnTo>
                          <a:lnTo>
                            <a:pt x="399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972880" y="3344400"/>
                      <a:ext cx="946440" cy="59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1" h="377">
                          <a:moveTo>
                            <a:pt x="399" y="0"/>
                          </a:moveTo>
                          <a:lnTo>
                            <a:pt x="297" y="76"/>
                          </a:lnTo>
                          <a:lnTo>
                            <a:pt x="255" y="43"/>
                          </a:lnTo>
                          <a:lnTo>
                            <a:pt x="229" y="76"/>
                          </a:lnTo>
                          <a:lnTo>
                            <a:pt x="196" y="120"/>
                          </a:lnTo>
                          <a:lnTo>
                            <a:pt x="163" y="153"/>
                          </a:lnTo>
                          <a:lnTo>
                            <a:pt x="152" y="170"/>
                          </a:lnTo>
                          <a:lnTo>
                            <a:pt x="129" y="159"/>
                          </a:lnTo>
                          <a:lnTo>
                            <a:pt x="108" y="159"/>
                          </a:lnTo>
                          <a:lnTo>
                            <a:pt x="89" y="159"/>
                          </a:lnTo>
                          <a:lnTo>
                            <a:pt x="75" y="163"/>
                          </a:lnTo>
                          <a:lnTo>
                            <a:pt x="59" y="170"/>
                          </a:lnTo>
                          <a:lnTo>
                            <a:pt x="47" y="179"/>
                          </a:lnTo>
                          <a:lnTo>
                            <a:pt x="36" y="190"/>
                          </a:lnTo>
                          <a:lnTo>
                            <a:pt x="29" y="196"/>
                          </a:lnTo>
                          <a:lnTo>
                            <a:pt x="21" y="207"/>
                          </a:lnTo>
                          <a:lnTo>
                            <a:pt x="10" y="212"/>
                          </a:lnTo>
                          <a:lnTo>
                            <a:pt x="0" y="229"/>
                          </a:lnTo>
                          <a:lnTo>
                            <a:pt x="4" y="229"/>
                          </a:lnTo>
                          <a:lnTo>
                            <a:pt x="47" y="279"/>
                          </a:lnTo>
                          <a:lnTo>
                            <a:pt x="87" y="308"/>
                          </a:lnTo>
                          <a:lnTo>
                            <a:pt x="127" y="329"/>
                          </a:lnTo>
                          <a:lnTo>
                            <a:pt x="166" y="351"/>
                          </a:lnTo>
                          <a:lnTo>
                            <a:pt x="208" y="364"/>
                          </a:lnTo>
                          <a:lnTo>
                            <a:pt x="250" y="373"/>
                          </a:lnTo>
                          <a:lnTo>
                            <a:pt x="295" y="377"/>
                          </a:lnTo>
                          <a:lnTo>
                            <a:pt x="338" y="375"/>
                          </a:lnTo>
                          <a:lnTo>
                            <a:pt x="382" y="366"/>
                          </a:lnTo>
                          <a:lnTo>
                            <a:pt x="422" y="355"/>
                          </a:lnTo>
                          <a:lnTo>
                            <a:pt x="464" y="338"/>
                          </a:lnTo>
                          <a:lnTo>
                            <a:pt x="503" y="316"/>
                          </a:lnTo>
                          <a:lnTo>
                            <a:pt x="541" y="288"/>
                          </a:lnTo>
                          <a:lnTo>
                            <a:pt x="597" y="238"/>
                          </a:lnTo>
                          <a:lnTo>
                            <a:pt x="601" y="233"/>
                          </a:lnTo>
                          <a:lnTo>
                            <a:pt x="429" y="35"/>
                          </a:lnTo>
                          <a:lnTo>
                            <a:pt x="399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" name=""/>
                  <p:cNvSpPr/>
                  <p:nvPr/>
                </p:nvSpPr>
                <p:spPr>
                  <a:xfrm>
                    <a:off x="3442320" y="3478320"/>
                    <a:ext cx="1080" cy="442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079800" y="3791880"/>
                    <a:ext cx="74808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519360" y="3426120"/>
                    <a:ext cx="132120" cy="1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" name=""/>
                  <p:cNvGrpSpPr/>
                  <p:nvPr/>
                </p:nvGrpSpPr>
                <p:grpSpPr>
                  <a:xfrm>
                    <a:off x="3732120" y="2576520"/>
                    <a:ext cx="444240" cy="1026360"/>
                    <a:chOff x="3732120" y="2576520"/>
                    <a:chExt cx="444240" cy="1026360"/>
                  </a:xfrm>
                </p:grpSpPr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3732120" y="2576520"/>
                      <a:ext cx="444240" cy="10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651">
                          <a:moveTo>
                            <a:pt x="75" y="192"/>
                          </a:moveTo>
                          <a:lnTo>
                            <a:pt x="113" y="132"/>
                          </a:lnTo>
                          <a:lnTo>
                            <a:pt x="155" y="89"/>
                          </a:lnTo>
                          <a:lnTo>
                            <a:pt x="198" y="36"/>
                          </a:lnTo>
                          <a:lnTo>
                            <a:pt x="217" y="0"/>
                          </a:lnTo>
                          <a:lnTo>
                            <a:pt x="219" y="4"/>
                          </a:lnTo>
                          <a:lnTo>
                            <a:pt x="222" y="13"/>
                          </a:lnTo>
                          <a:lnTo>
                            <a:pt x="246" y="60"/>
                          </a:lnTo>
                          <a:lnTo>
                            <a:pt x="261" y="117"/>
                          </a:lnTo>
                          <a:lnTo>
                            <a:pt x="271" y="170"/>
                          </a:lnTo>
                          <a:lnTo>
                            <a:pt x="278" y="222"/>
                          </a:lnTo>
                          <a:lnTo>
                            <a:pt x="282" y="278"/>
                          </a:lnTo>
                          <a:lnTo>
                            <a:pt x="282" y="335"/>
                          </a:lnTo>
                          <a:lnTo>
                            <a:pt x="278" y="392"/>
                          </a:lnTo>
                          <a:lnTo>
                            <a:pt x="271" y="444"/>
                          </a:lnTo>
                          <a:lnTo>
                            <a:pt x="257" y="498"/>
                          </a:lnTo>
                          <a:lnTo>
                            <a:pt x="240" y="551"/>
                          </a:lnTo>
                          <a:lnTo>
                            <a:pt x="217" y="601"/>
                          </a:lnTo>
                          <a:lnTo>
                            <a:pt x="191" y="651"/>
                          </a:lnTo>
                          <a:lnTo>
                            <a:pt x="191" y="649"/>
                          </a:lnTo>
                          <a:lnTo>
                            <a:pt x="0" y="431"/>
                          </a:lnTo>
                          <a:lnTo>
                            <a:pt x="199" y="283"/>
                          </a:lnTo>
                          <a:lnTo>
                            <a:pt x="75" y="19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3732120" y="2576520"/>
                      <a:ext cx="444240" cy="10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2" h="651">
                          <a:moveTo>
                            <a:pt x="75" y="192"/>
                          </a:moveTo>
                          <a:lnTo>
                            <a:pt x="113" y="132"/>
                          </a:lnTo>
                          <a:lnTo>
                            <a:pt x="155" y="89"/>
                          </a:lnTo>
                          <a:lnTo>
                            <a:pt x="198" y="36"/>
                          </a:lnTo>
                          <a:lnTo>
                            <a:pt x="217" y="0"/>
                          </a:lnTo>
                          <a:lnTo>
                            <a:pt x="219" y="4"/>
                          </a:lnTo>
                          <a:lnTo>
                            <a:pt x="222" y="13"/>
                          </a:lnTo>
                          <a:lnTo>
                            <a:pt x="246" y="60"/>
                          </a:lnTo>
                          <a:lnTo>
                            <a:pt x="261" y="117"/>
                          </a:lnTo>
                          <a:lnTo>
                            <a:pt x="271" y="170"/>
                          </a:lnTo>
                          <a:lnTo>
                            <a:pt x="278" y="222"/>
                          </a:lnTo>
                          <a:lnTo>
                            <a:pt x="282" y="278"/>
                          </a:lnTo>
                          <a:lnTo>
                            <a:pt x="282" y="335"/>
                          </a:lnTo>
                          <a:lnTo>
                            <a:pt x="278" y="392"/>
                          </a:lnTo>
                          <a:lnTo>
                            <a:pt x="271" y="444"/>
                          </a:lnTo>
                          <a:lnTo>
                            <a:pt x="257" y="498"/>
                          </a:lnTo>
                          <a:lnTo>
                            <a:pt x="240" y="551"/>
                          </a:lnTo>
                          <a:lnTo>
                            <a:pt x="217" y="601"/>
                          </a:lnTo>
                          <a:lnTo>
                            <a:pt x="191" y="651"/>
                          </a:lnTo>
                          <a:lnTo>
                            <a:pt x="191" y="649"/>
                          </a:lnTo>
                          <a:lnTo>
                            <a:pt x="0" y="431"/>
                          </a:lnTo>
                          <a:lnTo>
                            <a:pt x="199" y="283"/>
                          </a:lnTo>
                          <a:lnTo>
                            <a:pt x="75" y="19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" name=""/>
                  <p:cNvSpPr/>
                  <p:nvPr/>
                </p:nvSpPr>
                <p:spPr>
                  <a:xfrm>
                    <a:off x="4065840" y="3022560"/>
                    <a:ext cx="9720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053240" y="2640960"/>
                    <a:ext cx="26640" cy="1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>
                    <a:off x="3856320" y="3422880"/>
                    <a:ext cx="27216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2955600" y="2136600"/>
                    <a:ext cx="897480" cy="591120"/>
                    <a:chOff x="2955600" y="2136600"/>
                    <a:chExt cx="897480" cy="59112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2955600" y="2136600"/>
                      <a:ext cx="897480" cy="59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0" h="375">
                          <a:moveTo>
                            <a:pt x="378" y="335"/>
                          </a:moveTo>
                          <a:lnTo>
                            <a:pt x="308" y="285"/>
                          </a:lnTo>
                          <a:lnTo>
                            <a:pt x="189" y="375"/>
                          </a:lnTo>
                          <a:lnTo>
                            <a:pt x="174" y="363"/>
                          </a:lnTo>
                          <a:lnTo>
                            <a:pt x="0" y="159"/>
                          </a:lnTo>
                          <a:lnTo>
                            <a:pt x="4" y="155"/>
                          </a:lnTo>
                          <a:lnTo>
                            <a:pt x="13" y="146"/>
                          </a:lnTo>
                          <a:lnTo>
                            <a:pt x="44" y="112"/>
                          </a:lnTo>
                          <a:lnTo>
                            <a:pt x="81" y="79"/>
                          </a:lnTo>
                          <a:lnTo>
                            <a:pt x="119" y="57"/>
                          </a:lnTo>
                          <a:lnTo>
                            <a:pt x="161" y="33"/>
                          </a:lnTo>
                          <a:lnTo>
                            <a:pt x="202" y="17"/>
                          </a:lnTo>
                          <a:lnTo>
                            <a:pt x="244" y="4"/>
                          </a:lnTo>
                          <a:lnTo>
                            <a:pt x="284" y="0"/>
                          </a:lnTo>
                          <a:lnTo>
                            <a:pt x="331" y="0"/>
                          </a:lnTo>
                          <a:lnTo>
                            <a:pt x="374" y="4"/>
                          </a:lnTo>
                          <a:lnTo>
                            <a:pt x="417" y="14"/>
                          </a:lnTo>
                          <a:lnTo>
                            <a:pt x="457" y="31"/>
                          </a:lnTo>
                          <a:lnTo>
                            <a:pt x="499" y="48"/>
                          </a:lnTo>
                          <a:lnTo>
                            <a:pt x="538" y="74"/>
                          </a:lnTo>
                          <a:lnTo>
                            <a:pt x="570" y="102"/>
                          </a:lnTo>
                          <a:lnTo>
                            <a:pt x="565" y="105"/>
                          </a:lnTo>
                          <a:lnTo>
                            <a:pt x="540" y="135"/>
                          </a:lnTo>
                          <a:lnTo>
                            <a:pt x="465" y="224"/>
                          </a:lnTo>
                          <a:lnTo>
                            <a:pt x="429" y="268"/>
                          </a:lnTo>
                          <a:lnTo>
                            <a:pt x="393" y="311"/>
                          </a:lnTo>
                          <a:lnTo>
                            <a:pt x="378" y="335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2955600" y="2136600"/>
                      <a:ext cx="897480" cy="59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0" h="375">
                          <a:moveTo>
                            <a:pt x="378" y="335"/>
                          </a:moveTo>
                          <a:lnTo>
                            <a:pt x="308" y="285"/>
                          </a:lnTo>
                          <a:lnTo>
                            <a:pt x="189" y="375"/>
                          </a:lnTo>
                          <a:lnTo>
                            <a:pt x="174" y="363"/>
                          </a:lnTo>
                          <a:lnTo>
                            <a:pt x="0" y="159"/>
                          </a:lnTo>
                          <a:lnTo>
                            <a:pt x="4" y="155"/>
                          </a:lnTo>
                          <a:lnTo>
                            <a:pt x="13" y="146"/>
                          </a:lnTo>
                          <a:lnTo>
                            <a:pt x="44" y="112"/>
                          </a:lnTo>
                          <a:lnTo>
                            <a:pt x="81" y="79"/>
                          </a:lnTo>
                          <a:lnTo>
                            <a:pt x="119" y="57"/>
                          </a:lnTo>
                          <a:lnTo>
                            <a:pt x="161" y="33"/>
                          </a:lnTo>
                          <a:lnTo>
                            <a:pt x="202" y="17"/>
                          </a:lnTo>
                          <a:lnTo>
                            <a:pt x="244" y="4"/>
                          </a:lnTo>
                          <a:lnTo>
                            <a:pt x="284" y="0"/>
                          </a:lnTo>
                          <a:lnTo>
                            <a:pt x="331" y="0"/>
                          </a:lnTo>
                          <a:lnTo>
                            <a:pt x="374" y="4"/>
                          </a:lnTo>
                          <a:lnTo>
                            <a:pt x="417" y="14"/>
                          </a:lnTo>
                          <a:lnTo>
                            <a:pt x="457" y="31"/>
                          </a:lnTo>
                          <a:lnTo>
                            <a:pt x="499" y="48"/>
                          </a:lnTo>
                          <a:lnTo>
                            <a:pt x="538" y="74"/>
                          </a:lnTo>
                          <a:lnTo>
                            <a:pt x="570" y="102"/>
                          </a:lnTo>
                          <a:lnTo>
                            <a:pt x="565" y="105"/>
                          </a:lnTo>
                          <a:lnTo>
                            <a:pt x="540" y="135"/>
                          </a:lnTo>
                          <a:lnTo>
                            <a:pt x="465" y="224"/>
                          </a:lnTo>
                          <a:lnTo>
                            <a:pt x="429" y="268"/>
                          </a:lnTo>
                          <a:lnTo>
                            <a:pt x="393" y="311"/>
                          </a:lnTo>
                          <a:lnTo>
                            <a:pt x="378" y="335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" name=""/>
                  <p:cNvSpPr/>
                  <p:nvPr/>
                </p:nvSpPr>
                <p:spPr>
                  <a:xfrm flipV="1">
                    <a:off x="3442320" y="2118600"/>
                    <a:ext cx="1080" cy="477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3047040" y="2308680"/>
                    <a:ext cx="777600" cy="1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190320" y="2630160"/>
                    <a:ext cx="16992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2719440" y="2513520"/>
                    <a:ext cx="426600" cy="1085760"/>
                    <a:chOff x="2719440" y="2513520"/>
                    <a:chExt cx="426600" cy="108576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719440" y="2513520"/>
                      <a:ext cx="426600" cy="10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689">
                          <a:moveTo>
                            <a:pt x="100" y="689"/>
                          </a:moveTo>
                          <a:lnTo>
                            <a:pt x="81" y="660"/>
                          </a:lnTo>
                          <a:lnTo>
                            <a:pt x="59" y="617"/>
                          </a:lnTo>
                          <a:lnTo>
                            <a:pt x="38" y="569"/>
                          </a:lnTo>
                          <a:lnTo>
                            <a:pt x="21" y="516"/>
                          </a:lnTo>
                          <a:lnTo>
                            <a:pt x="10" y="471"/>
                          </a:lnTo>
                          <a:lnTo>
                            <a:pt x="4" y="414"/>
                          </a:lnTo>
                          <a:lnTo>
                            <a:pt x="0" y="362"/>
                          </a:lnTo>
                          <a:lnTo>
                            <a:pt x="0" y="307"/>
                          </a:lnTo>
                          <a:lnTo>
                            <a:pt x="4" y="253"/>
                          </a:lnTo>
                          <a:lnTo>
                            <a:pt x="12" y="203"/>
                          </a:lnTo>
                          <a:lnTo>
                            <a:pt x="28" y="153"/>
                          </a:lnTo>
                          <a:lnTo>
                            <a:pt x="44" y="103"/>
                          </a:lnTo>
                          <a:lnTo>
                            <a:pt x="66" y="55"/>
                          </a:ln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259" y="194"/>
                          </a:lnTo>
                          <a:lnTo>
                            <a:pt x="91" y="323"/>
                          </a:lnTo>
                          <a:lnTo>
                            <a:pt x="271" y="464"/>
                          </a:lnTo>
                          <a:lnTo>
                            <a:pt x="254" y="478"/>
                          </a:lnTo>
                          <a:lnTo>
                            <a:pt x="220" y="528"/>
                          </a:lnTo>
                          <a:lnTo>
                            <a:pt x="208" y="543"/>
                          </a:lnTo>
                          <a:lnTo>
                            <a:pt x="182" y="573"/>
                          </a:lnTo>
                          <a:lnTo>
                            <a:pt x="148" y="617"/>
                          </a:lnTo>
                          <a:lnTo>
                            <a:pt x="100" y="689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719440" y="2513520"/>
                      <a:ext cx="426600" cy="10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689">
                          <a:moveTo>
                            <a:pt x="100" y="689"/>
                          </a:moveTo>
                          <a:lnTo>
                            <a:pt x="81" y="660"/>
                          </a:lnTo>
                          <a:lnTo>
                            <a:pt x="59" y="617"/>
                          </a:lnTo>
                          <a:lnTo>
                            <a:pt x="38" y="569"/>
                          </a:lnTo>
                          <a:lnTo>
                            <a:pt x="21" y="516"/>
                          </a:lnTo>
                          <a:lnTo>
                            <a:pt x="10" y="471"/>
                          </a:lnTo>
                          <a:lnTo>
                            <a:pt x="4" y="414"/>
                          </a:lnTo>
                          <a:lnTo>
                            <a:pt x="0" y="362"/>
                          </a:lnTo>
                          <a:lnTo>
                            <a:pt x="0" y="307"/>
                          </a:lnTo>
                          <a:lnTo>
                            <a:pt x="4" y="253"/>
                          </a:lnTo>
                          <a:lnTo>
                            <a:pt x="12" y="203"/>
                          </a:lnTo>
                          <a:lnTo>
                            <a:pt x="28" y="153"/>
                          </a:lnTo>
                          <a:lnTo>
                            <a:pt x="44" y="103"/>
                          </a:lnTo>
                          <a:lnTo>
                            <a:pt x="66" y="55"/>
                          </a:ln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259" y="194"/>
                          </a:lnTo>
                          <a:lnTo>
                            <a:pt x="91" y="323"/>
                          </a:lnTo>
                          <a:lnTo>
                            <a:pt x="271" y="464"/>
                          </a:lnTo>
                          <a:lnTo>
                            <a:pt x="254" y="478"/>
                          </a:lnTo>
                          <a:lnTo>
                            <a:pt x="220" y="528"/>
                          </a:lnTo>
                          <a:lnTo>
                            <a:pt x="208" y="543"/>
                          </a:lnTo>
                          <a:lnTo>
                            <a:pt x="182" y="573"/>
                          </a:lnTo>
                          <a:lnTo>
                            <a:pt x="148" y="617"/>
                          </a:lnTo>
                          <a:lnTo>
                            <a:pt x="100" y="689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 flipH="1">
                    <a:off x="2705400" y="3022560"/>
                    <a:ext cx="16992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818440" y="2640960"/>
                    <a:ext cx="144720" cy="1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>
                    <a:off x="2770920" y="3413520"/>
                    <a:ext cx="240840" cy="1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229480" y="4528080"/>
                    <a:ext cx="11160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7">
                        <a:moveTo>
                          <a:pt x="30" y="87"/>
                        </a:moveTo>
                        <a:lnTo>
                          <a:pt x="41" y="87"/>
                        </a:lnTo>
                        <a:lnTo>
                          <a:pt x="41" y="11"/>
                        </a:lnTo>
                        <a:lnTo>
                          <a:pt x="71" y="11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30" y="11"/>
                        </a:lnTo>
                        <a:lnTo>
                          <a:pt x="3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320920" y="4584960"/>
                    <a:ext cx="12744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91">
                        <a:moveTo>
                          <a:pt x="0" y="45"/>
                        </a:moveTo>
                        <a:lnTo>
                          <a:pt x="0" y="47"/>
                        </a:lnTo>
                        <a:lnTo>
                          <a:pt x="0" y="50"/>
                        </a:lnTo>
                        <a:lnTo>
                          <a:pt x="0" y="54"/>
                        </a:lnTo>
                        <a:lnTo>
                          <a:pt x="2" y="54"/>
                        </a:lnTo>
                        <a:lnTo>
                          <a:pt x="2" y="58"/>
                        </a:lnTo>
                        <a:lnTo>
                          <a:pt x="2" y="60"/>
                        </a:lnTo>
                        <a:lnTo>
                          <a:pt x="2" y="62"/>
                        </a:lnTo>
                        <a:lnTo>
                          <a:pt x="2" y="65"/>
                        </a:lnTo>
                        <a:lnTo>
                          <a:pt x="4" y="67"/>
                        </a:lnTo>
                        <a:lnTo>
                          <a:pt x="4" y="69"/>
                        </a:lnTo>
                        <a:lnTo>
                          <a:pt x="7" y="69"/>
                        </a:lnTo>
                        <a:lnTo>
                          <a:pt x="7" y="74"/>
                        </a:lnTo>
                        <a:lnTo>
                          <a:pt x="8" y="76"/>
                        </a:lnTo>
                        <a:lnTo>
                          <a:pt x="10" y="78"/>
                        </a:lnTo>
                        <a:lnTo>
                          <a:pt x="12" y="78"/>
                        </a:lnTo>
                        <a:lnTo>
                          <a:pt x="12" y="79"/>
                        </a:lnTo>
                        <a:lnTo>
                          <a:pt x="14" y="82"/>
                        </a:lnTo>
                        <a:lnTo>
                          <a:pt x="14" y="84"/>
                        </a:lnTo>
                        <a:lnTo>
                          <a:pt x="17" y="84"/>
                        </a:lnTo>
                        <a:lnTo>
                          <a:pt x="19" y="84"/>
                        </a:lnTo>
                        <a:lnTo>
                          <a:pt x="21" y="86"/>
                        </a:lnTo>
                        <a:lnTo>
                          <a:pt x="21" y="89"/>
                        </a:lnTo>
                        <a:lnTo>
                          <a:pt x="23" y="89"/>
                        </a:lnTo>
                        <a:lnTo>
                          <a:pt x="26" y="89"/>
                        </a:lnTo>
                        <a:lnTo>
                          <a:pt x="28" y="89"/>
                        </a:lnTo>
                        <a:lnTo>
                          <a:pt x="30" y="89"/>
                        </a:lnTo>
                        <a:lnTo>
                          <a:pt x="32" y="91"/>
                        </a:lnTo>
                        <a:lnTo>
                          <a:pt x="33" y="91"/>
                        </a:lnTo>
                        <a:lnTo>
                          <a:pt x="36" y="91"/>
                        </a:lnTo>
                        <a:lnTo>
                          <a:pt x="38" y="91"/>
                        </a:lnTo>
                        <a:lnTo>
                          <a:pt x="40" y="91"/>
                        </a:lnTo>
                        <a:lnTo>
                          <a:pt x="42" y="91"/>
                        </a:lnTo>
                        <a:lnTo>
                          <a:pt x="44" y="91"/>
                        </a:lnTo>
                        <a:lnTo>
                          <a:pt x="47" y="91"/>
                        </a:lnTo>
                        <a:lnTo>
                          <a:pt x="49" y="91"/>
                        </a:lnTo>
                        <a:lnTo>
                          <a:pt x="51" y="89"/>
                        </a:lnTo>
                        <a:lnTo>
                          <a:pt x="55" y="89"/>
                        </a:lnTo>
                        <a:lnTo>
                          <a:pt x="57" y="89"/>
                        </a:lnTo>
                        <a:lnTo>
                          <a:pt x="59" y="89"/>
                        </a:lnTo>
                        <a:lnTo>
                          <a:pt x="61" y="86"/>
                        </a:lnTo>
                        <a:lnTo>
                          <a:pt x="63" y="84"/>
                        </a:lnTo>
                        <a:lnTo>
                          <a:pt x="66" y="84"/>
                        </a:lnTo>
                        <a:lnTo>
                          <a:pt x="68" y="82"/>
                        </a:lnTo>
                        <a:lnTo>
                          <a:pt x="68" y="79"/>
                        </a:lnTo>
                        <a:lnTo>
                          <a:pt x="70" y="78"/>
                        </a:lnTo>
                        <a:lnTo>
                          <a:pt x="72" y="78"/>
                        </a:lnTo>
                        <a:lnTo>
                          <a:pt x="72" y="76"/>
                        </a:lnTo>
                        <a:lnTo>
                          <a:pt x="74" y="74"/>
                        </a:lnTo>
                        <a:lnTo>
                          <a:pt x="74" y="69"/>
                        </a:lnTo>
                        <a:lnTo>
                          <a:pt x="77" y="69"/>
                        </a:lnTo>
                        <a:lnTo>
                          <a:pt x="79" y="67"/>
                        </a:lnTo>
                        <a:lnTo>
                          <a:pt x="79" y="65"/>
                        </a:lnTo>
                        <a:lnTo>
                          <a:pt x="79" y="62"/>
                        </a:lnTo>
                        <a:lnTo>
                          <a:pt x="79" y="60"/>
                        </a:lnTo>
                        <a:lnTo>
                          <a:pt x="79" y="58"/>
                        </a:lnTo>
                        <a:lnTo>
                          <a:pt x="79" y="54"/>
                        </a:lnTo>
                        <a:lnTo>
                          <a:pt x="81" y="54"/>
                        </a:lnTo>
                        <a:lnTo>
                          <a:pt x="81" y="50"/>
                        </a:lnTo>
                        <a:lnTo>
                          <a:pt x="81" y="47"/>
                        </a:lnTo>
                        <a:lnTo>
                          <a:pt x="81" y="45"/>
                        </a:lnTo>
                        <a:lnTo>
                          <a:pt x="81" y="43"/>
                        </a:lnTo>
                        <a:lnTo>
                          <a:pt x="81" y="41"/>
                        </a:lnTo>
                        <a:lnTo>
                          <a:pt x="81" y="36"/>
                        </a:lnTo>
                        <a:lnTo>
                          <a:pt x="79" y="36"/>
                        </a:lnTo>
                        <a:lnTo>
                          <a:pt x="79" y="32"/>
                        </a:lnTo>
                        <a:lnTo>
                          <a:pt x="79" y="30"/>
                        </a:lnTo>
                        <a:lnTo>
                          <a:pt x="79" y="28"/>
                        </a:lnTo>
                        <a:lnTo>
                          <a:pt x="79" y="26"/>
                        </a:lnTo>
                        <a:lnTo>
                          <a:pt x="79" y="24"/>
                        </a:lnTo>
                        <a:lnTo>
                          <a:pt x="77" y="21"/>
                        </a:lnTo>
                        <a:lnTo>
                          <a:pt x="74" y="21"/>
                        </a:lnTo>
                        <a:lnTo>
                          <a:pt x="74" y="19"/>
                        </a:lnTo>
                        <a:lnTo>
                          <a:pt x="74" y="17"/>
                        </a:lnTo>
                        <a:lnTo>
                          <a:pt x="72" y="14"/>
                        </a:lnTo>
                        <a:lnTo>
                          <a:pt x="72" y="12"/>
                        </a:lnTo>
                        <a:lnTo>
                          <a:pt x="70" y="12"/>
                        </a:lnTo>
                        <a:lnTo>
                          <a:pt x="68" y="10"/>
                        </a:lnTo>
                        <a:lnTo>
                          <a:pt x="68" y="8"/>
                        </a:lnTo>
                        <a:lnTo>
                          <a:pt x="66" y="8"/>
                        </a:lnTo>
                        <a:lnTo>
                          <a:pt x="63" y="6"/>
                        </a:lnTo>
                        <a:lnTo>
                          <a:pt x="61" y="4"/>
                        </a:lnTo>
                        <a:lnTo>
                          <a:pt x="59" y="4"/>
                        </a:lnTo>
                        <a:lnTo>
                          <a:pt x="57" y="2"/>
                        </a:lnTo>
                        <a:lnTo>
                          <a:pt x="55" y="2"/>
                        </a:lnTo>
                        <a:lnTo>
                          <a:pt x="51" y="2"/>
                        </a:lnTo>
                        <a:lnTo>
                          <a:pt x="49" y="2"/>
                        </a:lnTo>
                        <a:lnTo>
                          <a:pt x="47" y="2"/>
                        </a:lnTo>
                        <a:lnTo>
                          <a:pt x="44" y="2"/>
                        </a:lnTo>
                        <a:lnTo>
                          <a:pt x="42" y="0"/>
                        </a:lnTo>
                        <a:lnTo>
                          <a:pt x="40" y="0"/>
                        </a:lnTo>
                        <a:lnTo>
                          <a:pt x="38" y="0"/>
                        </a:lnTo>
                        <a:lnTo>
                          <a:pt x="36" y="2"/>
                        </a:lnTo>
                        <a:lnTo>
                          <a:pt x="33" y="2"/>
                        </a:lnTo>
                        <a:lnTo>
                          <a:pt x="32" y="2"/>
                        </a:lnTo>
                        <a:lnTo>
                          <a:pt x="30" y="2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1" y="4"/>
                        </a:lnTo>
                        <a:lnTo>
                          <a:pt x="19" y="6"/>
                        </a:lnTo>
                        <a:lnTo>
                          <a:pt x="17" y="6"/>
                        </a:lnTo>
                        <a:lnTo>
                          <a:pt x="14" y="8"/>
                        </a:lnTo>
                        <a:lnTo>
                          <a:pt x="12" y="10"/>
                        </a:lnTo>
                        <a:lnTo>
                          <a:pt x="12" y="12"/>
                        </a:lnTo>
                        <a:lnTo>
                          <a:pt x="10" y="12"/>
                        </a:lnTo>
                        <a:lnTo>
                          <a:pt x="8" y="14"/>
                        </a:lnTo>
                        <a:lnTo>
                          <a:pt x="7" y="17"/>
                        </a:lnTo>
                        <a:lnTo>
                          <a:pt x="7" y="19"/>
                        </a:lnTo>
                        <a:lnTo>
                          <a:pt x="7" y="21"/>
                        </a:lnTo>
                        <a:lnTo>
                          <a:pt x="4" y="21"/>
                        </a:lnTo>
                        <a:lnTo>
                          <a:pt x="4" y="24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2" y="32"/>
                        </a:lnTo>
                        <a:lnTo>
                          <a:pt x="2" y="36"/>
                        </a:lnTo>
                        <a:lnTo>
                          <a:pt x="0" y="36"/>
                        </a:lnTo>
                        <a:lnTo>
                          <a:pt x="0" y="41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  <a:lnTo>
                          <a:pt x="12" y="45"/>
                        </a:lnTo>
                        <a:lnTo>
                          <a:pt x="12" y="41"/>
                        </a:lnTo>
                        <a:lnTo>
                          <a:pt x="12" y="36"/>
                        </a:lnTo>
                        <a:lnTo>
                          <a:pt x="12" y="34"/>
                        </a:lnTo>
                        <a:lnTo>
                          <a:pt x="14" y="30"/>
                        </a:lnTo>
                        <a:lnTo>
                          <a:pt x="14" y="28"/>
                        </a:lnTo>
                        <a:lnTo>
                          <a:pt x="17" y="26"/>
                        </a:lnTo>
                        <a:lnTo>
                          <a:pt x="19" y="21"/>
                        </a:lnTo>
                        <a:lnTo>
                          <a:pt x="21" y="19"/>
                        </a:lnTo>
                        <a:lnTo>
                          <a:pt x="21" y="17"/>
                        </a:lnTo>
                        <a:lnTo>
                          <a:pt x="23" y="17"/>
                        </a:lnTo>
                        <a:lnTo>
                          <a:pt x="26" y="14"/>
                        </a:lnTo>
                        <a:lnTo>
                          <a:pt x="30" y="12"/>
                        </a:lnTo>
                        <a:lnTo>
                          <a:pt x="32" y="12"/>
                        </a:lnTo>
                        <a:lnTo>
                          <a:pt x="33" y="12"/>
                        </a:lnTo>
                        <a:lnTo>
                          <a:pt x="36" y="10"/>
                        </a:lnTo>
                        <a:lnTo>
                          <a:pt x="40" y="10"/>
                        </a:lnTo>
                        <a:lnTo>
                          <a:pt x="44" y="10"/>
                        </a:lnTo>
                        <a:lnTo>
                          <a:pt x="47" y="12"/>
                        </a:lnTo>
                        <a:lnTo>
                          <a:pt x="49" y="12"/>
                        </a:lnTo>
                        <a:lnTo>
                          <a:pt x="53" y="12"/>
                        </a:lnTo>
                        <a:lnTo>
                          <a:pt x="55" y="14"/>
                        </a:lnTo>
                        <a:lnTo>
                          <a:pt x="57" y="17"/>
                        </a:lnTo>
                        <a:lnTo>
                          <a:pt x="59" y="17"/>
                        </a:lnTo>
                        <a:lnTo>
                          <a:pt x="61" y="19"/>
                        </a:lnTo>
                        <a:lnTo>
                          <a:pt x="63" y="21"/>
                        </a:lnTo>
                        <a:lnTo>
                          <a:pt x="63" y="26"/>
                        </a:lnTo>
                        <a:lnTo>
                          <a:pt x="66" y="28"/>
                        </a:lnTo>
                        <a:lnTo>
                          <a:pt x="66" y="30"/>
                        </a:lnTo>
                        <a:lnTo>
                          <a:pt x="68" y="34"/>
                        </a:lnTo>
                        <a:lnTo>
                          <a:pt x="68" y="36"/>
                        </a:lnTo>
                        <a:lnTo>
                          <a:pt x="68" y="41"/>
                        </a:lnTo>
                        <a:lnTo>
                          <a:pt x="68" y="45"/>
                        </a:lnTo>
                        <a:lnTo>
                          <a:pt x="68" y="50"/>
                        </a:lnTo>
                        <a:lnTo>
                          <a:pt x="68" y="54"/>
                        </a:lnTo>
                        <a:lnTo>
                          <a:pt x="68" y="56"/>
                        </a:lnTo>
                        <a:lnTo>
                          <a:pt x="66" y="60"/>
                        </a:lnTo>
                        <a:lnTo>
                          <a:pt x="66" y="65"/>
                        </a:lnTo>
                        <a:lnTo>
                          <a:pt x="63" y="67"/>
                        </a:lnTo>
                        <a:lnTo>
                          <a:pt x="63" y="69"/>
                        </a:lnTo>
                        <a:lnTo>
                          <a:pt x="61" y="71"/>
                        </a:lnTo>
                        <a:lnTo>
                          <a:pt x="59" y="74"/>
                        </a:lnTo>
                        <a:lnTo>
                          <a:pt x="57" y="76"/>
                        </a:lnTo>
                        <a:lnTo>
                          <a:pt x="55" y="78"/>
                        </a:lnTo>
                        <a:lnTo>
                          <a:pt x="53" y="78"/>
                        </a:lnTo>
                        <a:lnTo>
                          <a:pt x="49" y="78"/>
                        </a:lnTo>
                        <a:lnTo>
                          <a:pt x="47" y="79"/>
                        </a:lnTo>
                        <a:lnTo>
                          <a:pt x="44" y="79"/>
                        </a:lnTo>
                        <a:lnTo>
                          <a:pt x="40" y="79"/>
                        </a:lnTo>
                        <a:lnTo>
                          <a:pt x="36" y="79"/>
                        </a:lnTo>
                        <a:lnTo>
                          <a:pt x="33" y="79"/>
                        </a:lnTo>
                        <a:lnTo>
                          <a:pt x="32" y="78"/>
                        </a:lnTo>
                        <a:lnTo>
                          <a:pt x="30" y="78"/>
                        </a:lnTo>
                        <a:lnTo>
                          <a:pt x="26" y="78"/>
                        </a:lnTo>
                        <a:lnTo>
                          <a:pt x="23" y="76"/>
                        </a:lnTo>
                        <a:lnTo>
                          <a:pt x="21" y="74"/>
                        </a:lnTo>
                        <a:lnTo>
                          <a:pt x="21" y="71"/>
                        </a:lnTo>
                        <a:lnTo>
                          <a:pt x="19" y="69"/>
                        </a:lnTo>
                        <a:lnTo>
                          <a:pt x="17" y="67"/>
                        </a:lnTo>
                        <a:lnTo>
                          <a:pt x="14" y="65"/>
                        </a:lnTo>
                        <a:lnTo>
                          <a:pt x="14" y="60"/>
                        </a:lnTo>
                        <a:lnTo>
                          <a:pt x="12" y="56"/>
                        </a:lnTo>
                        <a:lnTo>
                          <a:pt x="12" y="54"/>
                        </a:lnTo>
                        <a:lnTo>
                          <a:pt x="12" y="50"/>
                        </a:lnTo>
                        <a:lnTo>
                          <a:pt x="12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517840" y="4644720"/>
                    <a:ext cx="1036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92">
                        <a:moveTo>
                          <a:pt x="0" y="61"/>
                        </a:moveTo>
                        <a:lnTo>
                          <a:pt x="0" y="63"/>
                        </a:lnTo>
                        <a:lnTo>
                          <a:pt x="0" y="70"/>
                        </a:lnTo>
                        <a:lnTo>
                          <a:pt x="3" y="72"/>
                        </a:lnTo>
                        <a:lnTo>
                          <a:pt x="3" y="75"/>
                        </a:lnTo>
                        <a:lnTo>
                          <a:pt x="3" y="76"/>
                        </a:lnTo>
                        <a:lnTo>
                          <a:pt x="6" y="78"/>
                        </a:lnTo>
                        <a:lnTo>
                          <a:pt x="6" y="83"/>
                        </a:lnTo>
                        <a:lnTo>
                          <a:pt x="8" y="85"/>
                        </a:lnTo>
                        <a:lnTo>
                          <a:pt x="10" y="85"/>
                        </a:lnTo>
                        <a:lnTo>
                          <a:pt x="13" y="87"/>
                        </a:lnTo>
                        <a:lnTo>
                          <a:pt x="15" y="89"/>
                        </a:lnTo>
                        <a:lnTo>
                          <a:pt x="19" y="89"/>
                        </a:lnTo>
                        <a:lnTo>
                          <a:pt x="24" y="92"/>
                        </a:lnTo>
                        <a:lnTo>
                          <a:pt x="26" y="92"/>
                        </a:lnTo>
                        <a:lnTo>
                          <a:pt x="28" y="92"/>
                        </a:lnTo>
                        <a:lnTo>
                          <a:pt x="34" y="92"/>
                        </a:lnTo>
                        <a:lnTo>
                          <a:pt x="38" y="92"/>
                        </a:lnTo>
                        <a:lnTo>
                          <a:pt x="40" y="92"/>
                        </a:lnTo>
                        <a:lnTo>
                          <a:pt x="43" y="92"/>
                        </a:lnTo>
                        <a:lnTo>
                          <a:pt x="47" y="89"/>
                        </a:lnTo>
                        <a:lnTo>
                          <a:pt x="52" y="89"/>
                        </a:lnTo>
                        <a:lnTo>
                          <a:pt x="53" y="87"/>
                        </a:lnTo>
                        <a:lnTo>
                          <a:pt x="55" y="87"/>
                        </a:lnTo>
                        <a:lnTo>
                          <a:pt x="57" y="85"/>
                        </a:lnTo>
                        <a:lnTo>
                          <a:pt x="59" y="83"/>
                        </a:lnTo>
                        <a:lnTo>
                          <a:pt x="62" y="80"/>
                        </a:lnTo>
                        <a:lnTo>
                          <a:pt x="62" y="78"/>
                        </a:lnTo>
                        <a:lnTo>
                          <a:pt x="64" y="76"/>
                        </a:lnTo>
                        <a:lnTo>
                          <a:pt x="64" y="75"/>
                        </a:lnTo>
                        <a:lnTo>
                          <a:pt x="64" y="70"/>
                        </a:lnTo>
                        <a:lnTo>
                          <a:pt x="66" y="68"/>
                        </a:lnTo>
                        <a:lnTo>
                          <a:pt x="66" y="63"/>
                        </a:lnTo>
                        <a:lnTo>
                          <a:pt x="66" y="61"/>
                        </a:lnTo>
                        <a:lnTo>
                          <a:pt x="66" y="59"/>
                        </a:lnTo>
                        <a:lnTo>
                          <a:pt x="64" y="56"/>
                        </a:lnTo>
                        <a:lnTo>
                          <a:pt x="64" y="54"/>
                        </a:lnTo>
                        <a:lnTo>
                          <a:pt x="62" y="51"/>
                        </a:lnTo>
                        <a:lnTo>
                          <a:pt x="59" y="48"/>
                        </a:lnTo>
                        <a:lnTo>
                          <a:pt x="57" y="46"/>
                        </a:lnTo>
                        <a:lnTo>
                          <a:pt x="55" y="44"/>
                        </a:lnTo>
                        <a:lnTo>
                          <a:pt x="53" y="44"/>
                        </a:lnTo>
                        <a:lnTo>
                          <a:pt x="52" y="44"/>
                        </a:lnTo>
                        <a:lnTo>
                          <a:pt x="47" y="44"/>
                        </a:lnTo>
                        <a:lnTo>
                          <a:pt x="45" y="41"/>
                        </a:lnTo>
                        <a:lnTo>
                          <a:pt x="43" y="39"/>
                        </a:lnTo>
                        <a:lnTo>
                          <a:pt x="38" y="39"/>
                        </a:lnTo>
                        <a:lnTo>
                          <a:pt x="36" y="39"/>
                        </a:lnTo>
                        <a:lnTo>
                          <a:pt x="34" y="39"/>
                        </a:lnTo>
                        <a:lnTo>
                          <a:pt x="29" y="39"/>
                        </a:lnTo>
                        <a:lnTo>
                          <a:pt x="28" y="37"/>
                        </a:lnTo>
                        <a:lnTo>
                          <a:pt x="26" y="37"/>
                        </a:lnTo>
                        <a:lnTo>
                          <a:pt x="24" y="35"/>
                        </a:lnTo>
                        <a:lnTo>
                          <a:pt x="22" y="35"/>
                        </a:lnTo>
                        <a:lnTo>
                          <a:pt x="19" y="32"/>
                        </a:lnTo>
                        <a:lnTo>
                          <a:pt x="17" y="32"/>
                        </a:lnTo>
                        <a:lnTo>
                          <a:pt x="15" y="32"/>
                        </a:lnTo>
                        <a:lnTo>
                          <a:pt x="15" y="30"/>
                        </a:lnTo>
                        <a:lnTo>
                          <a:pt x="15" y="28"/>
                        </a:lnTo>
                        <a:lnTo>
                          <a:pt x="13" y="28"/>
                        </a:lnTo>
                        <a:lnTo>
                          <a:pt x="13" y="27"/>
                        </a:lnTo>
                        <a:lnTo>
                          <a:pt x="13" y="24"/>
                        </a:lnTo>
                        <a:lnTo>
                          <a:pt x="13" y="22"/>
                        </a:lnTo>
                        <a:lnTo>
                          <a:pt x="13" y="20"/>
                        </a:lnTo>
                        <a:lnTo>
                          <a:pt x="15" y="20"/>
                        </a:lnTo>
                        <a:lnTo>
                          <a:pt x="15" y="18"/>
                        </a:lnTo>
                        <a:lnTo>
                          <a:pt x="15" y="15"/>
                        </a:lnTo>
                        <a:lnTo>
                          <a:pt x="17" y="13"/>
                        </a:lnTo>
                        <a:lnTo>
                          <a:pt x="19" y="13"/>
                        </a:lnTo>
                        <a:lnTo>
                          <a:pt x="22" y="13"/>
                        </a:lnTo>
                        <a:lnTo>
                          <a:pt x="24" y="11"/>
                        </a:lnTo>
                        <a:lnTo>
                          <a:pt x="26" y="11"/>
                        </a:lnTo>
                        <a:lnTo>
                          <a:pt x="28" y="8"/>
                        </a:lnTo>
                        <a:lnTo>
                          <a:pt x="29" y="8"/>
                        </a:lnTo>
                        <a:lnTo>
                          <a:pt x="32" y="8"/>
                        </a:lnTo>
                        <a:lnTo>
                          <a:pt x="34" y="8"/>
                        </a:lnTo>
                        <a:lnTo>
                          <a:pt x="36" y="8"/>
                        </a:lnTo>
                        <a:lnTo>
                          <a:pt x="38" y="11"/>
                        </a:lnTo>
                        <a:lnTo>
                          <a:pt x="40" y="11"/>
                        </a:lnTo>
                        <a:lnTo>
                          <a:pt x="43" y="11"/>
                        </a:lnTo>
                        <a:lnTo>
                          <a:pt x="43" y="13"/>
                        </a:lnTo>
                        <a:lnTo>
                          <a:pt x="45" y="13"/>
                        </a:lnTo>
                        <a:lnTo>
                          <a:pt x="47" y="13"/>
                        </a:lnTo>
                        <a:lnTo>
                          <a:pt x="47" y="15"/>
                        </a:lnTo>
                        <a:lnTo>
                          <a:pt x="49" y="18"/>
                        </a:lnTo>
                        <a:lnTo>
                          <a:pt x="52" y="18"/>
                        </a:lnTo>
                        <a:lnTo>
                          <a:pt x="52" y="20"/>
                        </a:lnTo>
                        <a:lnTo>
                          <a:pt x="52" y="22"/>
                        </a:lnTo>
                        <a:lnTo>
                          <a:pt x="52" y="24"/>
                        </a:lnTo>
                        <a:lnTo>
                          <a:pt x="52" y="27"/>
                        </a:lnTo>
                        <a:lnTo>
                          <a:pt x="52" y="28"/>
                        </a:lnTo>
                        <a:lnTo>
                          <a:pt x="64" y="28"/>
                        </a:lnTo>
                        <a:lnTo>
                          <a:pt x="64" y="24"/>
                        </a:lnTo>
                        <a:lnTo>
                          <a:pt x="64" y="22"/>
                        </a:lnTo>
                        <a:lnTo>
                          <a:pt x="62" y="18"/>
                        </a:lnTo>
                        <a:lnTo>
                          <a:pt x="62" y="15"/>
                        </a:lnTo>
                        <a:lnTo>
                          <a:pt x="59" y="13"/>
                        </a:lnTo>
                        <a:lnTo>
                          <a:pt x="59" y="11"/>
                        </a:lnTo>
                        <a:lnTo>
                          <a:pt x="57" y="8"/>
                        </a:lnTo>
                        <a:lnTo>
                          <a:pt x="55" y="8"/>
                        </a:lnTo>
                        <a:lnTo>
                          <a:pt x="53" y="6"/>
                        </a:lnTo>
                        <a:lnTo>
                          <a:pt x="52" y="3"/>
                        </a:lnTo>
                        <a:lnTo>
                          <a:pt x="49" y="3"/>
                        </a:lnTo>
                        <a:lnTo>
                          <a:pt x="47" y="3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6" y="0"/>
                        </a:lnTo>
                        <a:lnTo>
                          <a:pt x="34" y="0"/>
                        </a:lnTo>
                        <a:lnTo>
                          <a:pt x="29" y="0"/>
                        </a:lnTo>
                        <a:lnTo>
                          <a:pt x="26" y="0"/>
                        </a:lnTo>
                        <a:lnTo>
                          <a:pt x="24" y="0"/>
                        </a:lnTo>
                        <a:lnTo>
                          <a:pt x="19" y="3"/>
                        </a:lnTo>
                        <a:lnTo>
                          <a:pt x="17" y="3"/>
                        </a:lnTo>
                        <a:lnTo>
                          <a:pt x="15" y="3"/>
                        </a:lnTo>
                        <a:lnTo>
                          <a:pt x="13" y="4"/>
                        </a:lnTo>
                        <a:lnTo>
                          <a:pt x="10" y="6"/>
                        </a:lnTo>
                        <a:lnTo>
                          <a:pt x="8" y="8"/>
                        </a:lnTo>
                        <a:lnTo>
                          <a:pt x="6" y="11"/>
                        </a:lnTo>
                        <a:lnTo>
                          <a:pt x="6" y="13"/>
                        </a:lnTo>
                        <a:lnTo>
                          <a:pt x="4" y="15"/>
                        </a:lnTo>
                        <a:lnTo>
                          <a:pt x="3" y="18"/>
                        </a:lnTo>
                        <a:lnTo>
                          <a:pt x="3" y="20"/>
                        </a:lnTo>
                        <a:lnTo>
                          <a:pt x="3" y="24"/>
                        </a:lnTo>
                        <a:lnTo>
                          <a:pt x="3" y="27"/>
                        </a:lnTo>
                        <a:lnTo>
                          <a:pt x="3" y="28"/>
                        </a:lnTo>
                        <a:lnTo>
                          <a:pt x="3" y="30"/>
                        </a:lnTo>
                        <a:lnTo>
                          <a:pt x="3" y="32"/>
                        </a:lnTo>
                        <a:lnTo>
                          <a:pt x="4" y="35"/>
                        </a:lnTo>
                        <a:lnTo>
                          <a:pt x="6" y="37"/>
                        </a:lnTo>
                        <a:lnTo>
                          <a:pt x="6" y="39"/>
                        </a:lnTo>
                        <a:lnTo>
                          <a:pt x="8" y="41"/>
                        </a:lnTo>
                        <a:lnTo>
                          <a:pt x="10" y="44"/>
                        </a:lnTo>
                        <a:lnTo>
                          <a:pt x="13" y="44"/>
                        </a:lnTo>
                        <a:lnTo>
                          <a:pt x="15" y="46"/>
                        </a:lnTo>
                        <a:lnTo>
                          <a:pt x="19" y="46"/>
                        </a:lnTo>
                        <a:lnTo>
                          <a:pt x="22" y="48"/>
                        </a:lnTo>
                        <a:lnTo>
                          <a:pt x="24" y="48"/>
                        </a:lnTo>
                        <a:lnTo>
                          <a:pt x="28" y="48"/>
                        </a:lnTo>
                        <a:lnTo>
                          <a:pt x="29" y="51"/>
                        </a:lnTo>
                        <a:lnTo>
                          <a:pt x="34" y="51"/>
                        </a:lnTo>
                        <a:lnTo>
                          <a:pt x="36" y="51"/>
                        </a:lnTo>
                        <a:lnTo>
                          <a:pt x="38" y="52"/>
                        </a:lnTo>
                        <a:lnTo>
                          <a:pt x="40" y="52"/>
                        </a:lnTo>
                        <a:lnTo>
                          <a:pt x="43" y="54"/>
                        </a:lnTo>
                        <a:lnTo>
                          <a:pt x="45" y="54"/>
                        </a:lnTo>
                        <a:lnTo>
                          <a:pt x="47" y="54"/>
                        </a:lnTo>
                        <a:lnTo>
                          <a:pt x="49" y="54"/>
                        </a:lnTo>
                        <a:lnTo>
                          <a:pt x="52" y="56"/>
                        </a:lnTo>
                        <a:lnTo>
                          <a:pt x="52" y="59"/>
                        </a:lnTo>
                        <a:lnTo>
                          <a:pt x="53" y="59"/>
                        </a:lnTo>
                        <a:lnTo>
                          <a:pt x="53" y="61"/>
                        </a:lnTo>
                        <a:lnTo>
                          <a:pt x="55" y="63"/>
                        </a:lnTo>
                        <a:lnTo>
                          <a:pt x="55" y="65"/>
                        </a:lnTo>
                        <a:lnTo>
                          <a:pt x="55" y="68"/>
                        </a:lnTo>
                        <a:lnTo>
                          <a:pt x="55" y="70"/>
                        </a:lnTo>
                        <a:lnTo>
                          <a:pt x="53" y="70"/>
                        </a:lnTo>
                        <a:lnTo>
                          <a:pt x="53" y="72"/>
                        </a:lnTo>
                        <a:lnTo>
                          <a:pt x="52" y="75"/>
                        </a:lnTo>
                        <a:lnTo>
                          <a:pt x="52" y="76"/>
                        </a:lnTo>
                        <a:lnTo>
                          <a:pt x="49" y="78"/>
                        </a:lnTo>
                        <a:lnTo>
                          <a:pt x="47" y="78"/>
                        </a:lnTo>
                        <a:lnTo>
                          <a:pt x="43" y="78"/>
                        </a:lnTo>
                        <a:lnTo>
                          <a:pt x="43" y="80"/>
                        </a:lnTo>
                        <a:lnTo>
                          <a:pt x="40" y="80"/>
                        </a:lnTo>
                        <a:lnTo>
                          <a:pt x="38" y="80"/>
                        </a:lnTo>
                        <a:lnTo>
                          <a:pt x="36" y="83"/>
                        </a:lnTo>
                        <a:lnTo>
                          <a:pt x="34" y="83"/>
                        </a:lnTo>
                        <a:lnTo>
                          <a:pt x="29" y="83"/>
                        </a:lnTo>
                        <a:lnTo>
                          <a:pt x="28" y="80"/>
                        </a:lnTo>
                        <a:lnTo>
                          <a:pt x="26" y="80"/>
                        </a:lnTo>
                        <a:lnTo>
                          <a:pt x="24" y="80"/>
                        </a:lnTo>
                        <a:lnTo>
                          <a:pt x="22" y="78"/>
                        </a:lnTo>
                        <a:lnTo>
                          <a:pt x="19" y="78"/>
                        </a:lnTo>
                        <a:lnTo>
                          <a:pt x="17" y="76"/>
                        </a:lnTo>
                        <a:lnTo>
                          <a:pt x="15" y="75"/>
                        </a:lnTo>
                        <a:lnTo>
                          <a:pt x="13" y="72"/>
                        </a:lnTo>
                        <a:lnTo>
                          <a:pt x="13" y="70"/>
                        </a:lnTo>
                        <a:lnTo>
                          <a:pt x="10" y="68"/>
                        </a:lnTo>
                        <a:lnTo>
                          <a:pt x="10" y="65"/>
                        </a:lnTo>
                        <a:lnTo>
                          <a:pt x="10" y="63"/>
                        </a:lnTo>
                        <a:lnTo>
                          <a:pt x="10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2645280" y="4699800"/>
                    <a:ext cx="10368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90">
                        <a:moveTo>
                          <a:pt x="0" y="54"/>
                        </a:moveTo>
                        <a:lnTo>
                          <a:pt x="0" y="57"/>
                        </a:lnTo>
                        <a:lnTo>
                          <a:pt x="0" y="59"/>
                        </a:lnTo>
                        <a:lnTo>
                          <a:pt x="0" y="61"/>
                        </a:lnTo>
                        <a:lnTo>
                          <a:pt x="0" y="64"/>
                        </a:lnTo>
                        <a:lnTo>
                          <a:pt x="0" y="66"/>
                        </a:lnTo>
                        <a:lnTo>
                          <a:pt x="0" y="68"/>
                        </a:lnTo>
                        <a:lnTo>
                          <a:pt x="2" y="68"/>
                        </a:lnTo>
                        <a:lnTo>
                          <a:pt x="2" y="70"/>
                        </a:lnTo>
                        <a:lnTo>
                          <a:pt x="2" y="73"/>
                        </a:lnTo>
                        <a:lnTo>
                          <a:pt x="2" y="75"/>
                        </a:lnTo>
                        <a:lnTo>
                          <a:pt x="5" y="77"/>
                        </a:lnTo>
                        <a:lnTo>
                          <a:pt x="7" y="78"/>
                        </a:lnTo>
                        <a:lnTo>
                          <a:pt x="7" y="81"/>
                        </a:lnTo>
                        <a:lnTo>
                          <a:pt x="7" y="83"/>
                        </a:lnTo>
                        <a:lnTo>
                          <a:pt x="8" y="83"/>
                        </a:lnTo>
                        <a:lnTo>
                          <a:pt x="10" y="83"/>
                        </a:lnTo>
                        <a:lnTo>
                          <a:pt x="10" y="85"/>
                        </a:lnTo>
                        <a:lnTo>
                          <a:pt x="12" y="88"/>
                        </a:lnTo>
                        <a:lnTo>
                          <a:pt x="15" y="88"/>
                        </a:lnTo>
                        <a:lnTo>
                          <a:pt x="17" y="88"/>
                        </a:lnTo>
                        <a:lnTo>
                          <a:pt x="19" y="88"/>
                        </a:lnTo>
                        <a:lnTo>
                          <a:pt x="19" y="90"/>
                        </a:lnTo>
                        <a:lnTo>
                          <a:pt x="24" y="90"/>
                        </a:lnTo>
                        <a:lnTo>
                          <a:pt x="26" y="90"/>
                        </a:lnTo>
                        <a:lnTo>
                          <a:pt x="28" y="90"/>
                        </a:lnTo>
                        <a:lnTo>
                          <a:pt x="32" y="90"/>
                        </a:lnTo>
                        <a:lnTo>
                          <a:pt x="34" y="90"/>
                        </a:lnTo>
                        <a:lnTo>
                          <a:pt x="36" y="90"/>
                        </a:lnTo>
                        <a:lnTo>
                          <a:pt x="38" y="90"/>
                        </a:lnTo>
                        <a:lnTo>
                          <a:pt x="42" y="90"/>
                        </a:lnTo>
                        <a:lnTo>
                          <a:pt x="45" y="88"/>
                        </a:lnTo>
                        <a:lnTo>
                          <a:pt x="47" y="88"/>
                        </a:lnTo>
                        <a:lnTo>
                          <a:pt x="49" y="88"/>
                        </a:lnTo>
                        <a:lnTo>
                          <a:pt x="51" y="88"/>
                        </a:lnTo>
                        <a:lnTo>
                          <a:pt x="51" y="85"/>
                        </a:lnTo>
                        <a:lnTo>
                          <a:pt x="54" y="85"/>
                        </a:lnTo>
                        <a:lnTo>
                          <a:pt x="56" y="83"/>
                        </a:lnTo>
                        <a:lnTo>
                          <a:pt x="57" y="83"/>
                        </a:lnTo>
                        <a:lnTo>
                          <a:pt x="57" y="81"/>
                        </a:lnTo>
                        <a:lnTo>
                          <a:pt x="59" y="78"/>
                        </a:lnTo>
                        <a:lnTo>
                          <a:pt x="59" y="77"/>
                        </a:lnTo>
                        <a:lnTo>
                          <a:pt x="61" y="75"/>
                        </a:lnTo>
                        <a:lnTo>
                          <a:pt x="61" y="73"/>
                        </a:lnTo>
                        <a:lnTo>
                          <a:pt x="64" y="73"/>
                        </a:lnTo>
                        <a:lnTo>
                          <a:pt x="64" y="70"/>
                        </a:lnTo>
                        <a:lnTo>
                          <a:pt x="64" y="68"/>
                        </a:lnTo>
                        <a:lnTo>
                          <a:pt x="64" y="66"/>
                        </a:lnTo>
                        <a:lnTo>
                          <a:pt x="64" y="61"/>
                        </a:lnTo>
                        <a:lnTo>
                          <a:pt x="66" y="61"/>
                        </a:lnTo>
                        <a:lnTo>
                          <a:pt x="66" y="59"/>
                        </a:lnTo>
                        <a:lnTo>
                          <a:pt x="66" y="57"/>
                        </a:lnTo>
                        <a:lnTo>
                          <a:pt x="66" y="54"/>
                        </a:lnTo>
                        <a:lnTo>
                          <a:pt x="66" y="0"/>
                        </a:lnTo>
                        <a:lnTo>
                          <a:pt x="56" y="0"/>
                        </a:lnTo>
                        <a:lnTo>
                          <a:pt x="56" y="54"/>
                        </a:lnTo>
                        <a:lnTo>
                          <a:pt x="56" y="57"/>
                        </a:lnTo>
                        <a:lnTo>
                          <a:pt x="56" y="61"/>
                        </a:lnTo>
                        <a:lnTo>
                          <a:pt x="54" y="64"/>
                        </a:lnTo>
                        <a:lnTo>
                          <a:pt x="54" y="66"/>
                        </a:lnTo>
                        <a:lnTo>
                          <a:pt x="54" y="68"/>
                        </a:lnTo>
                        <a:lnTo>
                          <a:pt x="51" y="70"/>
                        </a:lnTo>
                        <a:lnTo>
                          <a:pt x="51" y="73"/>
                        </a:lnTo>
                        <a:lnTo>
                          <a:pt x="49" y="73"/>
                        </a:lnTo>
                        <a:lnTo>
                          <a:pt x="47" y="75"/>
                        </a:lnTo>
                        <a:lnTo>
                          <a:pt x="47" y="77"/>
                        </a:lnTo>
                        <a:lnTo>
                          <a:pt x="45" y="77"/>
                        </a:lnTo>
                        <a:lnTo>
                          <a:pt x="42" y="77"/>
                        </a:lnTo>
                        <a:lnTo>
                          <a:pt x="40" y="78"/>
                        </a:lnTo>
                        <a:lnTo>
                          <a:pt x="38" y="78"/>
                        </a:lnTo>
                        <a:lnTo>
                          <a:pt x="36" y="78"/>
                        </a:lnTo>
                        <a:lnTo>
                          <a:pt x="34" y="78"/>
                        </a:lnTo>
                        <a:lnTo>
                          <a:pt x="30" y="78"/>
                        </a:lnTo>
                        <a:lnTo>
                          <a:pt x="28" y="78"/>
                        </a:lnTo>
                        <a:lnTo>
                          <a:pt x="26" y="78"/>
                        </a:lnTo>
                        <a:lnTo>
                          <a:pt x="24" y="77"/>
                        </a:lnTo>
                        <a:lnTo>
                          <a:pt x="21" y="77"/>
                        </a:lnTo>
                        <a:lnTo>
                          <a:pt x="19" y="77"/>
                        </a:lnTo>
                        <a:lnTo>
                          <a:pt x="17" y="75"/>
                        </a:lnTo>
                        <a:lnTo>
                          <a:pt x="15" y="73"/>
                        </a:lnTo>
                        <a:lnTo>
                          <a:pt x="15" y="70"/>
                        </a:lnTo>
                        <a:lnTo>
                          <a:pt x="12" y="68"/>
                        </a:lnTo>
                        <a:lnTo>
                          <a:pt x="10" y="66"/>
                        </a:lnTo>
                        <a:lnTo>
                          <a:pt x="10" y="64"/>
                        </a:lnTo>
                        <a:lnTo>
                          <a:pt x="10" y="61"/>
                        </a:lnTo>
                        <a:lnTo>
                          <a:pt x="10" y="57"/>
                        </a:lnTo>
                        <a:lnTo>
                          <a:pt x="10" y="54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799720" y="4720320"/>
                    <a:ext cx="9576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87">
                        <a:moveTo>
                          <a:pt x="0" y="87"/>
                        </a:moveTo>
                        <a:lnTo>
                          <a:pt x="12" y="87"/>
                        </a:lnTo>
                        <a:lnTo>
                          <a:pt x="12" y="51"/>
                        </a:lnTo>
                        <a:lnTo>
                          <a:pt x="30" y="51"/>
                        </a:lnTo>
                        <a:lnTo>
                          <a:pt x="34" y="51"/>
                        </a:lnTo>
                        <a:lnTo>
                          <a:pt x="36" y="51"/>
                        </a:lnTo>
                        <a:lnTo>
                          <a:pt x="38" y="51"/>
                        </a:lnTo>
                        <a:lnTo>
                          <a:pt x="42" y="51"/>
                        </a:lnTo>
                        <a:lnTo>
                          <a:pt x="47" y="51"/>
                        </a:lnTo>
                        <a:lnTo>
                          <a:pt x="49" y="48"/>
                        </a:lnTo>
                        <a:lnTo>
                          <a:pt x="51" y="46"/>
                        </a:lnTo>
                        <a:lnTo>
                          <a:pt x="53" y="46"/>
                        </a:lnTo>
                        <a:lnTo>
                          <a:pt x="55" y="44"/>
                        </a:lnTo>
                        <a:lnTo>
                          <a:pt x="55" y="41"/>
                        </a:lnTo>
                        <a:lnTo>
                          <a:pt x="57" y="41"/>
                        </a:lnTo>
                        <a:lnTo>
                          <a:pt x="59" y="39"/>
                        </a:lnTo>
                        <a:lnTo>
                          <a:pt x="59" y="37"/>
                        </a:lnTo>
                        <a:lnTo>
                          <a:pt x="59" y="32"/>
                        </a:lnTo>
                        <a:lnTo>
                          <a:pt x="61" y="32"/>
                        </a:lnTo>
                        <a:lnTo>
                          <a:pt x="61" y="30"/>
                        </a:lnTo>
                        <a:lnTo>
                          <a:pt x="61" y="28"/>
                        </a:lnTo>
                        <a:lnTo>
                          <a:pt x="61" y="27"/>
                        </a:lnTo>
                        <a:lnTo>
                          <a:pt x="61" y="24"/>
                        </a:lnTo>
                        <a:lnTo>
                          <a:pt x="61" y="22"/>
                        </a:lnTo>
                        <a:lnTo>
                          <a:pt x="61" y="20"/>
                        </a:lnTo>
                        <a:lnTo>
                          <a:pt x="61" y="18"/>
                        </a:lnTo>
                        <a:lnTo>
                          <a:pt x="59" y="18"/>
                        </a:lnTo>
                        <a:lnTo>
                          <a:pt x="59" y="15"/>
                        </a:lnTo>
                        <a:lnTo>
                          <a:pt x="59" y="13"/>
                        </a:lnTo>
                        <a:lnTo>
                          <a:pt x="59" y="11"/>
                        </a:lnTo>
                        <a:lnTo>
                          <a:pt x="57" y="8"/>
                        </a:lnTo>
                        <a:lnTo>
                          <a:pt x="55" y="6"/>
                        </a:lnTo>
                        <a:lnTo>
                          <a:pt x="53" y="4"/>
                        </a:lnTo>
                        <a:lnTo>
                          <a:pt x="51" y="4"/>
                        </a:lnTo>
                        <a:lnTo>
                          <a:pt x="51" y="3"/>
                        </a:lnTo>
                        <a:lnTo>
                          <a:pt x="49" y="3"/>
                        </a:lnTo>
                        <a:lnTo>
                          <a:pt x="47" y="3"/>
                        </a:lnTo>
                        <a:lnTo>
                          <a:pt x="45" y="3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87"/>
                        </a:lnTo>
                        <a:lnTo>
                          <a:pt x="12" y="41"/>
                        </a:lnTo>
                        <a:lnTo>
                          <a:pt x="12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38" y="11"/>
                        </a:lnTo>
                        <a:lnTo>
                          <a:pt x="40" y="13"/>
                        </a:lnTo>
                        <a:lnTo>
                          <a:pt x="42" y="13"/>
                        </a:lnTo>
                        <a:lnTo>
                          <a:pt x="45" y="13"/>
                        </a:lnTo>
                        <a:lnTo>
                          <a:pt x="47" y="13"/>
                        </a:lnTo>
                        <a:lnTo>
                          <a:pt x="47" y="15"/>
                        </a:lnTo>
                        <a:lnTo>
                          <a:pt x="47" y="18"/>
                        </a:lnTo>
                        <a:lnTo>
                          <a:pt x="49" y="18"/>
                        </a:lnTo>
                        <a:lnTo>
                          <a:pt x="49" y="20"/>
                        </a:lnTo>
                        <a:lnTo>
                          <a:pt x="49" y="22"/>
                        </a:lnTo>
                        <a:lnTo>
                          <a:pt x="51" y="24"/>
                        </a:lnTo>
                        <a:lnTo>
                          <a:pt x="51" y="27"/>
                        </a:lnTo>
                        <a:lnTo>
                          <a:pt x="49" y="28"/>
                        </a:lnTo>
                        <a:lnTo>
                          <a:pt x="49" y="30"/>
                        </a:lnTo>
                        <a:lnTo>
                          <a:pt x="49" y="32"/>
                        </a:lnTo>
                        <a:lnTo>
                          <a:pt x="47" y="32"/>
                        </a:lnTo>
                        <a:lnTo>
                          <a:pt x="47" y="35"/>
                        </a:lnTo>
                        <a:lnTo>
                          <a:pt x="47" y="37"/>
                        </a:lnTo>
                        <a:lnTo>
                          <a:pt x="45" y="37"/>
                        </a:lnTo>
                        <a:lnTo>
                          <a:pt x="42" y="37"/>
                        </a:lnTo>
                        <a:lnTo>
                          <a:pt x="42" y="39"/>
                        </a:lnTo>
                        <a:lnTo>
                          <a:pt x="38" y="39"/>
                        </a:lnTo>
                        <a:lnTo>
                          <a:pt x="36" y="41"/>
                        </a:lnTo>
                        <a:lnTo>
                          <a:pt x="34" y="41"/>
                        </a:lnTo>
                        <a:lnTo>
                          <a:pt x="31" y="41"/>
                        </a:lnTo>
                        <a:lnTo>
                          <a:pt x="12" y="41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2933640" y="4752000"/>
                    <a:ext cx="9576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85">
                        <a:moveTo>
                          <a:pt x="0" y="85"/>
                        </a:moveTo>
                        <a:lnTo>
                          <a:pt x="10" y="85"/>
                        </a:lnTo>
                        <a:lnTo>
                          <a:pt x="10" y="50"/>
                        </a:lnTo>
                        <a:lnTo>
                          <a:pt x="29" y="50"/>
                        </a:lnTo>
                        <a:lnTo>
                          <a:pt x="31" y="50"/>
                        </a:lnTo>
                        <a:lnTo>
                          <a:pt x="33" y="50"/>
                        </a:lnTo>
                        <a:lnTo>
                          <a:pt x="37" y="50"/>
                        </a:lnTo>
                        <a:lnTo>
                          <a:pt x="40" y="50"/>
                        </a:lnTo>
                        <a:lnTo>
                          <a:pt x="42" y="48"/>
                        </a:lnTo>
                        <a:lnTo>
                          <a:pt x="46" y="48"/>
                        </a:lnTo>
                        <a:lnTo>
                          <a:pt x="46" y="45"/>
                        </a:lnTo>
                        <a:lnTo>
                          <a:pt x="51" y="45"/>
                        </a:lnTo>
                        <a:lnTo>
                          <a:pt x="53" y="44"/>
                        </a:lnTo>
                        <a:lnTo>
                          <a:pt x="54" y="42"/>
                        </a:lnTo>
                        <a:lnTo>
                          <a:pt x="54" y="40"/>
                        </a:lnTo>
                        <a:lnTo>
                          <a:pt x="56" y="40"/>
                        </a:lnTo>
                        <a:lnTo>
                          <a:pt x="58" y="37"/>
                        </a:lnTo>
                        <a:lnTo>
                          <a:pt x="58" y="35"/>
                        </a:lnTo>
                        <a:lnTo>
                          <a:pt x="58" y="33"/>
                        </a:lnTo>
                        <a:lnTo>
                          <a:pt x="58" y="30"/>
                        </a:lnTo>
                        <a:lnTo>
                          <a:pt x="58" y="28"/>
                        </a:lnTo>
                        <a:lnTo>
                          <a:pt x="61" y="26"/>
                        </a:lnTo>
                        <a:lnTo>
                          <a:pt x="61" y="24"/>
                        </a:lnTo>
                        <a:lnTo>
                          <a:pt x="61" y="21"/>
                        </a:lnTo>
                        <a:lnTo>
                          <a:pt x="58" y="21"/>
                        </a:lnTo>
                        <a:lnTo>
                          <a:pt x="58" y="18"/>
                        </a:lnTo>
                        <a:lnTo>
                          <a:pt x="58" y="16"/>
                        </a:lnTo>
                        <a:lnTo>
                          <a:pt x="58" y="13"/>
                        </a:lnTo>
                        <a:lnTo>
                          <a:pt x="58" y="11"/>
                        </a:lnTo>
                        <a:lnTo>
                          <a:pt x="56" y="11"/>
                        </a:lnTo>
                        <a:lnTo>
                          <a:pt x="56" y="9"/>
                        </a:lnTo>
                        <a:lnTo>
                          <a:pt x="54" y="7"/>
                        </a:lnTo>
                        <a:lnTo>
                          <a:pt x="53" y="4"/>
                        </a:lnTo>
                        <a:lnTo>
                          <a:pt x="51" y="2"/>
                        </a:lnTo>
                        <a:lnTo>
                          <a:pt x="46" y="2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7" y="0"/>
                        </a:lnTo>
                        <a:lnTo>
                          <a:pt x="35" y="0"/>
                        </a:lnTo>
                        <a:lnTo>
                          <a:pt x="33" y="0"/>
                        </a:lnTo>
                        <a:lnTo>
                          <a:pt x="31" y="0"/>
                        </a:lnTo>
                        <a:lnTo>
                          <a:pt x="27" y="0"/>
                        </a:lnTo>
                        <a:lnTo>
                          <a:pt x="0" y="0"/>
                        </a:lnTo>
                        <a:lnTo>
                          <a:pt x="0" y="85"/>
                        </a:lnTo>
                        <a:lnTo>
                          <a:pt x="10" y="40"/>
                        </a:lnTo>
                        <a:lnTo>
                          <a:pt x="10" y="11"/>
                        </a:lnTo>
                        <a:lnTo>
                          <a:pt x="31" y="11"/>
                        </a:lnTo>
                        <a:lnTo>
                          <a:pt x="33" y="11"/>
                        </a:lnTo>
                        <a:lnTo>
                          <a:pt x="35" y="11"/>
                        </a:lnTo>
                        <a:lnTo>
                          <a:pt x="37" y="11"/>
                        </a:lnTo>
                        <a:lnTo>
                          <a:pt x="40" y="11"/>
                        </a:lnTo>
                        <a:lnTo>
                          <a:pt x="42" y="11"/>
                        </a:lnTo>
                        <a:lnTo>
                          <a:pt x="44" y="13"/>
                        </a:lnTo>
                        <a:lnTo>
                          <a:pt x="46" y="13"/>
                        </a:lnTo>
                        <a:lnTo>
                          <a:pt x="46" y="16"/>
                        </a:lnTo>
                        <a:lnTo>
                          <a:pt x="46" y="18"/>
                        </a:lnTo>
                        <a:lnTo>
                          <a:pt x="48" y="18"/>
                        </a:lnTo>
                        <a:lnTo>
                          <a:pt x="48" y="20"/>
                        </a:lnTo>
                        <a:lnTo>
                          <a:pt x="48" y="21"/>
                        </a:lnTo>
                        <a:lnTo>
                          <a:pt x="48" y="24"/>
                        </a:lnTo>
                        <a:lnTo>
                          <a:pt x="48" y="26"/>
                        </a:lnTo>
                        <a:lnTo>
                          <a:pt x="48" y="28"/>
                        </a:lnTo>
                        <a:lnTo>
                          <a:pt x="48" y="30"/>
                        </a:lnTo>
                        <a:lnTo>
                          <a:pt x="46" y="33"/>
                        </a:lnTo>
                        <a:lnTo>
                          <a:pt x="46" y="35"/>
                        </a:lnTo>
                        <a:lnTo>
                          <a:pt x="44" y="35"/>
                        </a:lnTo>
                        <a:lnTo>
                          <a:pt x="42" y="35"/>
                        </a:lnTo>
                        <a:lnTo>
                          <a:pt x="42" y="37"/>
                        </a:lnTo>
                        <a:lnTo>
                          <a:pt x="40" y="37"/>
                        </a:lnTo>
                        <a:lnTo>
                          <a:pt x="37" y="37"/>
                        </a:lnTo>
                        <a:lnTo>
                          <a:pt x="37" y="40"/>
                        </a:lnTo>
                        <a:lnTo>
                          <a:pt x="33" y="40"/>
                        </a:lnTo>
                        <a:lnTo>
                          <a:pt x="31" y="40"/>
                        </a:lnTo>
                        <a:lnTo>
                          <a:pt x="10" y="40"/>
                        </a:lnTo>
                        <a:lnTo>
                          <a:pt x="0" y="8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056400" y="4769280"/>
                    <a:ext cx="12276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1">
                        <a:moveTo>
                          <a:pt x="0" y="46"/>
                        </a:moveTo>
                        <a:lnTo>
                          <a:pt x="0" y="48"/>
                        </a:lnTo>
                        <a:lnTo>
                          <a:pt x="1" y="50"/>
                        </a:lnTo>
                        <a:lnTo>
                          <a:pt x="1" y="53"/>
                        </a:lnTo>
                        <a:lnTo>
                          <a:pt x="1" y="55"/>
                        </a:lnTo>
                        <a:lnTo>
                          <a:pt x="1" y="58"/>
                        </a:lnTo>
                        <a:lnTo>
                          <a:pt x="1" y="61"/>
                        </a:lnTo>
                        <a:lnTo>
                          <a:pt x="1" y="63"/>
                        </a:lnTo>
                        <a:lnTo>
                          <a:pt x="1" y="65"/>
                        </a:lnTo>
                        <a:lnTo>
                          <a:pt x="4" y="67"/>
                        </a:lnTo>
                        <a:lnTo>
                          <a:pt x="4" y="70"/>
                        </a:lnTo>
                        <a:lnTo>
                          <a:pt x="6" y="70"/>
                        </a:lnTo>
                        <a:lnTo>
                          <a:pt x="6" y="72"/>
                        </a:lnTo>
                        <a:lnTo>
                          <a:pt x="6" y="74"/>
                        </a:lnTo>
                        <a:lnTo>
                          <a:pt x="8" y="76"/>
                        </a:lnTo>
                        <a:lnTo>
                          <a:pt x="10" y="79"/>
                        </a:lnTo>
                        <a:lnTo>
                          <a:pt x="13" y="81"/>
                        </a:lnTo>
                        <a:lnTo>
                          <a:pt x="15" y="82"/>
                        </a:lnTo>
                        <a:lnTo>
                          <a:pt x="17" y="85"/>
                        </a:lnTo>
                        <a:lnTo>
                          <a:pt x="19" y="85"/>
                        </a:lnTo>
                        <a:lnTo>
                          <a:pt x="21" y="87"/>
                        </a:lnTo>
                        <a:lnTo>
                          <a:pt x="24" y="89"/>
                        </a:lnTo>
                        <a:lnTo>
                          <a:pt x="25" y="89"/>
                        </a:lnTo>
                        <a:lnTo>
                          <a:pt x="27" y="89"/>
                        </a:lnTo>
                        <a:lnTo>
                          <a:pt x="31" y="89"/>
                        </a:lnTo>
                        <a:lnTo>
                          <a:pt x="36" y="89"/>
                        </a:lnTo>
                        <a:lnTo>
                          <a:pt x="36" y="91"/>
                        </a:lnTo>
                        <a:lnTo>
                          <a:pt x="40" y="91"/>
                        </a:lnTo>
                        <a:lnTo>
                          <a:pt x="43" y="91"/>
                        </a:lnTo>
                        <a:lnTo>
                          <a:pt x="45" y="89"/>
                        </a:lnTo>
                        <a:lnTo>
                          <a:pt x="47" y="89"/>
                        </a:lnTo>
                        <a:lnTo>
                          <a:pt x="48" y="89"/>
                        </a:lnTo>
                        <a:lnTo>
                          <a:pt x="50" y="89"/>
                        </a:lnTo>
                        <a:lnTo>
                          <a:pt x="53" y="89"/>
                        </a:lnTo>
                        <a:lnTo>
                          <a:pt x="55" y="89"/>
                        </a:lnTo>
                        <a:lnTo>
                          <a:pt x="57" y="87"/>
                        </a:lnTo>
                        <a:lnTo>
                          <a:pt x="59" y="85"/>
                        </a:lnTo>
                        <a:lnTo>
                          <a:pt x="61" y="85"/>
                        </a:lnTo>
                        <a:lnTo>
                          <a:pt x="64" y="85"/>
                        </a:lnTo>
                        <a:lnTo>
                          <a:pt x="64" y="82"/>
                        </a:lnTo>
                        <a:lnTo>
                          <a:pt x="66" y="82"/>
                        </a:lnTo>
                        <a:lnTo>
                          <a:pt x="68" y="81"/>
                        </a:lnTo>
                        <a:lnTo>
                          <a:pt x="68" y="79"/>
                        </a:lnTo>
                        <a:lnTo>
                          <a:pt x="70" y="79"/>
                        </a:lnTo>
                        <a:lnTo>
                          <a:pt x="70" y="76"/>
                        </a:lnTo>
                        <a:lnTo>
                          <a:pt x="72" y="74"/>
                        </a:lnTo>
                        <a:lnTo>
                          <a:pt x="72" y="72"/>
                        </a:lnTo>
                        <a:lnTo>
                          <a:pt x="74" y="70"/>
                        </a:lnTo>
                        <a:lnTo>
                          <a:pt x="76" y="67"/>
                        </a:lnTo>
                        <a:lnTo>
                          <a:pt x="76" y="65"/>
                        </a:lnTo>
                        <a:lnTo>
                          <a:pt x="76" y="63"/>
                        </a:lnTo>
                        <a:lnTo>
                          <a:pt x="76" y="61"/>
                        </a:lnTo>
                        <a:lnTo>
                          <a:pt x="76" y="58"/>
                        </a:lnTo>
                        <a:lnTo>
                          <a:pt x="78" y="55"/>
                        </a:lnTo>
                        <a:lnTo>
                          <a:pt x="78" y="53"/>
                        </a:lnTo>
                        <a:lnTo>
                          <a:pt x="78" y="50"/>
                        </a:lnTo>
                        <a:lnTo>
                          <a:pt x="78" y="48"/>
                        </a:lnTo>
                        <a:lnTo>
                          <a:pt x="78" y="46"/>
                        </a:lnTo>
                        <a:lnTo>
                          <a:pt x="78" y="41"/>
                        </a:lnTo>
                        <a:lnTo>
                          <a:pt x="78" y="37"/>
                        </a:lnTo>
                        <a:lnTo>
                          <a:pt x="78" y="34"/>
                        </a:lnTo>
                        <a:lnTo>
                          <a:pt x="76" y="33"/>
                        </a:lnTo>
                        <a:lnTo>
                          <a:pt x="76" y="31"/>
                        </a:lnTo>
                        <a:lnTo>
                          <a:pt x="76" y="29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4" y="22"/>
                        </a:lnTo>
                        <a:lnTo>
                          <a:pt x="72" y="17"/>
                        </a:lnTo>
                        <a:lnTo>
                          <a:pt x="70" y="15"/>
                        </a:lnTo>
                        <a:lnTo>
                          <a:pt x="70" y="13"/>
                        </a:lnTo>
                        <a:lnTo>
                          <a:pt x="68" y="13"/>
                        </a:lnTo>
                        <a:lnTo>
                          <a:pt x="68" y="10"/>
                        </a:lnTo>
                        <a:lnTo>
                          <a:pt x="66" y="9"/>
                        </a:lnTo>
                        <a:lnTo>
                          <a:pt x="64" y="7"/>
                        </a:lnTo>
                        <a:lnTo>
                          <a:pt x="61" y="7"/>
                        </a:lnTo>
                        <a:lnTo>
                          <a:pt x="59" y="5"/>
                        </a:lnTo>
                        <a:lnTo>
                          <a:pt x="57" y="2"/>
                        </a:lnTo>
                        <a:lnTo>
                          <a:pt x="55" y="2"/>
                        </a:lnTo>
                        <a:lnTo>
                          <a:pt x="53" y="2"/>
                        </a:lnTo>
                        <a:lnTo>
                          <a:pt x="50" y="2"/>
                        </a:lnTo>
                        <a:lnTo>
                          <a:pt x="48" y="0"/>
                        </a:lnTo>
                        <a:lnTo>
                          <a:pt x="47" y="0"/>
                        </a:lnTo>
                        <a:lnTo>
                          <a:pt x="45" y="0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6" y="0"/>
                        </a:lnTo>
                        <a:lnTo>
                          <a:pt x="31" y="0"/>
                        </a:lnTo>
                        <a:lnTo>
                          <a:pt x="27" y="2"/>
                        </a:lnTo>
                        <a:lnTo>
                          <a:pt x="25" y="2"/>
                        </a:lnTo>
                        <a:lnTo>
                          <a:pt x="24" y="2"/>
                        </a:lnTo>
                        <a:lnTo>
                          <a:pt x="21" y="2"/>
                        </a:lnTo>
                        <a:lnTo>
                          <a:pt x="19" y="5"/>
                        </a:lnTo>
                        <a:lnTo>
                          <a:pt x="19" y="7"/>
                        </a:lnTo>
                        <a:lnTo>
                          <a:pt x="17" y="7"/>
                        </a:lnTo>
                        <a:lnTo>
                          <a:pt x="15" y="7"/>
                        </a:lnTo>
                        <a:lnTo>
                          <a:pt x="15" y="9"/>
                        </a:lnTo>
                        <a:lnTo>
                          <a:pt x="13" y="10"/>
                        </a:lnTo>
                        <a:lnTo>
                          <a:pt x="10" y="13"/>
                        </a:lnTo>
                        <a:lnTo>
                          <a:pt x="8" y="15"/>
                        </a:lnTo>
                        <a:lnTo>
                          <a:pt x="6" y="17"/>
                        </a:lnTo>
                        <a:lnTo>
                          <a:pt x="6" y="22"/>
                        </a:lnTo>
                        <a:lnTo>
                          <a:pt x="4" y="22"/>
                        </a:lnTo>
                        <a:lnTo>
                          <a:pt x="4" y="24"/>
                        </a:lnTo>
                        <a:lnTo>
                          <a:pt x="1" y="26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1" y="33"/>
                        </a:lnTo>
                        <a:lnTo>
                          <a:pt x="1" y="34"/>
                        </a:lnTo>
                        <a:lnTo>
                          <a:pt x="1" y="37"/>
                        </a:lnTo>
                        <a:lnTo>
                          <a:pt x="1" y="41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13" y="46"/>
                        </a:lnTo>
                        <a:lnTo>
                          <a:pt x="13" y="41"/>
                        </a:lnTo>
                        <a:lnTo>
                          <a:pt x="13" y="37"/>
                        </a:lnTo>
                        <a:lnTo>
                          <a:pt x="13" y="34"/>
                        </a:lnTo>
                        <a:lnTo>
                          <a:pt x="15" y="31"/>
                        </a:lnTo>
                        <a:lnTo>
                          <a:pt x="15" y="26"/>
                        </a:lnTo>
                        <a:lnTo>
                          <a:pt x="17" y="24"/>
                        </a:lnTo>
                        <a:lnTo>
                          <a:pt x="19" y="22"/>
                        </a:lnTo>
                        <a:lnTo>
                          <a:pt x="19" y="19"/>
                        </a:lnTo>
                        <a:lnTo>
                          <a:pt x="21" y="17"/>
                        </a:lnTo>
                        <a:lnTo>
                          <a:pt x="24" y="15"/>
                        </a:lnTo>
                        <a:lnTo>
                          <a:pt x="25" y="13"/>
                        </a:lnTo>
                        <a:lnTo>
                          <a:pt x="27" y="13"/>
                        </a:lnTo>
                        <a:lnTo>
                          <a:pt x="31" y="13"/>
                        </a:lnTo>
                        <a:lnTo>
                          <a:pt x="34" y="10"/>
                        </a:lnTo>
                        <a:lnTo>
                          <a:pt x="36" y="10"/>
                        </a:lnTo>
                        <a:lnTo>
                          <a:pt x="40" y="10"/>
                        </a:lnTo>
                        <a:lnTo>
                          <a:pt x="43" y="10"/>
                        </a:lnTo>
                        <a:lnTo>
                          <a:pt x="47" y="10"/>
                        </a:lnTo>
                        <a:lnTo>
                          <a:pt x="48" y="13"/>
                        </a:lnTo>
                        <a:lnTo>
                          <a:pt x="50" y="13"/>
                        </a:lnTo>
                        <a:lnTo>
                          <a:pt x="53" y="13"/>
                        </a:lnTo>
                        <a:lnTo>
                          <a:pt x="55" y="15"/>
                        </a:lnTo>
                        <a:lnTo>
                          <a:pt x="59" y="17"/>
                        </a:lnTo>
                        <a:lnTo>
                          <a:pt x="59" y="19"/>
                        </a:lnTo>
                        <a:lnTo>
                          <a:pt x="61" y="22"/>
                        </a:lnTo>
                        <a:lnTo>
                          <a:pt x="64" y="24"/>
                        </a:lnTo>
                        <a:lnTo>
                          <a:pt x="64" y="26"/>
                        </a:lnTo>
                        <a:lnTo>
                          <a:pt x="66" y="31"/>
                        </a:lnTo>
                        <a:lnTo>
                          <a:pt x="66" y="34"/>
                        </a:lnTo>
                        <a:lnTo>
                          <a:pt x="68" y="37"/>
                        </a:lnTo>
                        <a:lnTo>
                          <a:pt x="68" y="41"/>
                        </a:lnTo>
                        <a:lnTo>
                          <a:pt x="68" y="46"/>
                        </a:lnTo>
                        <a:lnTo>
                          <a:pt x="68" y="50"/>
                        </a:lnTo>
                        <a:lnTo>
                          <a:pt x="68" y="53"/>
                        </a:lnTo>
                        <a:lnTo>
                          <a:pt x="66" y="57"/>
                        </a:lnTo>
                        <a:lnTo>
                          <a:pt x="66" y="61"/>
                        </a:lnTo>
                        <a:lnTo>
                          <a:pt x="64" y="63"/>
                        </a:lnTo>
                        <a:lnTo>
                          <a:pt x="64" y="65"/>
                        </a:lnTo>
                        <a:lnTo>
                          <a:pt x="61" y="70"/>
                        </a:lnTo>
                        <a:lnTo>
                          <a:pt x="59" y="72"/>
                        </a:lnTo>
                        <a:lnTo>
                          <a:pt x="59" y="74"/>
                        </a:lnTo>
                        <a:lnTo>
                          <a:pt x="55" y="74"/>
                        </a:lnTo>
                        <a:lnTo>
                          <a:pt x="53" y="76"/>
                        </a:lnTo>
                        <a:lnTo>
                          <a:pt x="50" y="79"/>
                        </a:lnTo>
                        <a:lnTo>
                          <a:pt x="48" y="79"/>
                        </a:lnTo>
                        <a:lnTo>
                          <a:pt x="47" y="79"/>
                        </a:lnTo>
                        <a:lnTo>
                          <a:pt x="43" y="81"/>
                        </a:lnTo>
                        <a:lnTo>
                          <a:pt x="40" y="81"/>
                        </a:lnTo>
                        <a:lnTo>
                          <a:pt x="36" y="81"/>
                        </a:lnTo>
                        <a:lnTo>
                          <a:pt x="34" y="79"/>
                        </a:lnTo>
                        <a:lnTo>
                          <a:pt x="31" y="79"/>
                        </a:lnTo>
                        <a:lnTo>
                          <a:pt x="27" y="79"/>
                        </a:lnTo>
                        <a:lnTo>
                          <a:pt x="25" y="76"/>
                        </a:lnTo>
                        <a:lnTo>
                          <a:pt x="24" y="74"/>
                        </a:lnTo>
                        <a:lnTo>
                          <a:pt x="21" y="74"/>
                        </a:lnTo>
                        <a:lnTo>
                          <a:pt x="19" y="72"/>
                        </a:lnTo>
                        <a:lnTo>
                          <a:pt x="19" y="70"/>
                        </a:lnTo>
                        <a:lnTo>
                          <a:pt x="17" y="65"/>
                        </a:lnTo>
                        <a:lnTo>
                          <a:pt x="15" y="63"/>
                        </a:lnTo>
                        <a:lnTo>
                          <a:pt x="15" y="61"/>
                        </a:lnTo>
                        <a:lnTo>
                          <a:pt x="13" y="57"/>
                        </a:lnTo>
                        <a:lnTo>
                          <a:pt x="13" y="53"/>
                        </a:lnTo>
                        <a:lnTo>
                          <a:pt x="13" y="50"/>
                        </a:lnTo>
                        <a:lnTo>
                          <a:pt x="13" y="46"/>
                        </a:lnTo>
                        <a:lnTo>
                          <a:pt x="0" y="4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832560" y="4747320"/>
                    <a:ext cx="106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0" y="88"/>
                        </a:moveTo>
                        <a:lnTo>
                          <a:pt x="32" y="88"/>
                        </a:lnTo>
                        <a:lnTo>
                          <a:pt x="36" y="88"/>
                        </a:lnTo>
                        <a:lnTo>
                          <a:pt x="41" y="86"/>
                        </a:lnTo>
                        <a:lnTo>
                          <a:pt x="43" y="86"/>
                        </a:lnTo>
                        <a:lnTo>
                          <a:pt x="45" y="86"/>
                        </a:lnTo>
                        <a:lnTo>
                          <a:pt x="47" y="86"/>
                        </a:lnTo>
                        <a:lnTo>
                          <a:pt x="49" y="83"/>
                        </a:lnTo>
                        <a:lnTo>
                          <a:pt x="51" y="81"/>
                        </a:lnTo>
                        <a:lnTo>
                          <a:pt x="53" y="81"/>
                        </a:lnTo>
                        <a:lnTo>
                          <a:pt x="55" y="79"/>
                        </a:lnTo>
                        <a:lnTo>
                          <a:pt x="57" y="77"/>
                        </a:lnTo>
                        <a:lnTo>
                          <a:pt x="57" y="74"/>
                        </a:lnTo>
                        <a:lnTo>
                          <a:pt x="59" y="72"/>
                        </a:lnTo>
                        <a:lnTo>
                          <a:pt x="62" y="71"/>
                        </a:lnTo>
                        <a:lnTo>
                          <a:pt x="62" y="69"/>
                        </a:lnTo>
                        <a:lnTo>
                          <a:pt x="64" y="66"/>
                        </a:lnTo>
                        <a:lnTo>
                          <a:pt x="64" y="64"/>
                        </a:lnTo>
                        <a:lnTo>
                          <a:pt x="66" y="62"/>
                        </a:lnTo>
                        <a:lnTo>
                          <a:pt x="66" y="60"/>
                        </a:lnTo>
                        <a:lnTo>
                          <a:pt x="66" y="57"/>
                        </a:lnTo>
                        <a:lnTo>
                          <a:pt x="66" y="55"/>
                        </a:lnTo>
                        <a:lnTo>
                          <a:pt x="66" y="53"/>
                        </a:lnTo>
                        <a:lnTo>
                          <a:pt x="66" y="50"/>
                        </a:lnTo>
                        <a:lnTo>
                          <a:pt x="68" y="47"/>
                        </a:lnTo>
                        <a:lnTo>
                          <a:pt x="68" y="42"/>
                        </a:lnTo>
                        <a:lnTo>
                          <a:pt x="68" y="40"/>
                        </a:lnTo>
                        <a:lnTo>
                          <a:pt x="68" y="38"/>
                        </a:lnTo>
                        <a:lnTo>
                          <a:pt x="66" y="36"/>
                        </a:lnTo>
                        <a:lnTo>
                          <a:pt x="66" y="33"/>
                        </a:lnTo>
                        <a:lnTo>
                          <a:pt x="66" y="31"/>
                        </a:lnTo>
                        <a:lnTo>
                          <a:pt x="66" y="29"/>
                        </a:lnTo>
                        <a:lnTo>
                          <a:pt x="66" y="27"/>
                        </a:lnTo>
                        <a:lnTo>
                          <a:pt x="66" y="24"/>
                        </a:lnTo>
                        <a:lnTo>
                          <a:pt x="66" y="23"/>
                        </a:lnTo>
                        <a:lnTo>
                          <a:pt x="64" y="23"/>
                        </a:lnTo>
                        <a:lnTo>
                          <a:pt x="62" y="18"/>
                        </a:lnTo>
                        <a:lnTo>
                          <a:pt x="62" y="16"/>
                        </a:lnTo>
                        <a:lnTo>
                          <a:pt x="62" y="14"/>
                        </a:lnTo>
                        <a:lnTo>
                          <a:pt x="59" y="14"/>
                        </a:lnTo>
                        <a:lnTo>
                          <a:pt x="57" y="12"/>
                        </a:lnTo>
                        <a:lnTo>
                          <a:pt x="57" y="9"/>
                        </a:lnTo>
                        <a:lnTo>
                          <a:pt x="55" y="7"/>
                        </a:lnTo>
                        <a:lnTo>
                          <a:pt x="53" y="7"/>
                        </a:lnTo>
                        <a:lnTo>
                          <a:pt x="51" y="5"/>
                        </a:lnTo>
                        <a:lnTo>
                          <a:pt x="49" y="5"/>
                        </a:lnTo>
                        <a:lnTo>
                          <a:pt x="49" y="3"/>
                        </a:lnTo>
                        <a:lnTo>
                          <a:pt x="47" y="3"/>
                        </a:lnTo>
                        <a:lnTo>
                          <a:pt x="45" y="3"/>
                        </a:lnTo>
                        <a:lnTo>
                          <a:pt x="41" y="3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6" y="0"/>
                        </a:lnTo>
                        <a:lnTo>
                          <a:pt x="34" y="0"/>
                        </a:lnTo>
                        <a:lnTo>
                          <a:pt x="32" y="0"/>
                        </a:lnTo>
                        <a:lnTo>
                          <a:pt x="0" y="0"/>
                        </a:lnTo>
                        <a:lnTo>
                          <a:pt x="0" y="88"/>
                        </a:lnTo>
                        <a:lnTo>
                          <a:pt x="32" y="12"/>
                        </a:lnTo>
                        <a:lnTo>
                          <a:pt x="34" y="12"/>
                        </a:lnTo>
                        <a:lnTo>
                          <a:pt x="36" y="12"/>
                        </a:lnTo>
                        <a:lnTo>
                          <a:pt x="38" y="12"/>
                        </a:lnTo>
                        <a:lnTo>
                          <a:pt x="41" y="14"/>
                        </a:lnTo>
                        <a:lnTo>
                          <a:pt x="45" y="14"/>
                        </a:lnTo>
                        <a:lnTo>
                          <a:pt x="45" y="16"/>
                        </a:lnTo>
                        <a:lnTo>
                          <a:pt x="49" y="18"/>
                        </a:lnTo>
                        <a:lnTo>
                          <a:pt x="51" y="23"/>
                        </a:lnTo>
                        <a:lnTo>
                          <a:pt x="53" y="23"/>
                        </a:lnTo>
                        <a:lnTo>
                          <a:pt x="53" y="27"/>
                        </a:lnTo>
                        <a:lnTo>
                          <a:pt x="53" y="29"/>
                        </a:lnTo>
                        <a:lnTo>
                          <a:pt x="55" y="31"/>
                        </a:lnTo>
                        <a:lnTo>
                          <a:pt x="55" y="36"/>
                        </a:lnTo>
                        <a:lnTo>
                          <a:pt x="55" y="40"/>
                        </a:lnTo>
                        <a:lnTo>
                          <a:pt x="55" y="42"/>
                        </a:lnTo>
                        <a:lnTo>
                          <a:pt x="55" y="47"/>
                        </a:lnTo>
                        <a:lnTo>
                          <a:pt x="55" y="50"/>
                        </a:lnTo>
                        <a:lnTo>
                          <a:pt x="55" y="55"/>
                        </a:lnTo>
                        <a:lnTo>
                          <a:pt x="53" y="57"/>
                        </a:lnTo>
                        <a:lnTo>
                          <a:pt x="53" y="62"/>
                        </a:lnTo>
                        <a:lnTo>
                          <a:pt x="53" y="64"/>
                        </a:lnTo>
                        <a:lnTo>
                          <a:pt x="51" y="66"/>
                        </a:lnTo>
                        <a:lnTo>
                          <a:pt x="49" y="69"/>
                        </a:lnTo>
                        <a:lnTo>
                          <a:pt x="49" y="71"/>
                        </a:lnTo>
                        <a:lnTo>
                          <a:pt x="45" y="72"/>
                        </a:lnTo>
                        <a:lnTo>
                          <a:pt x="41" y="74"/>
                        </a:lnTo>
                        <a:lnTo>
                          <a:pt x="36" y="74"/>
                        </a:lnTo>
                        <a:lnTo>
                          <a:pt x="34" y="77"/>
                        </a:lnTo>
                        <a:lnTo>
                          <a:pt x="32" y="77"/>
                        </a:lnTo>
                        <a:lnTo>
                          <a:pt x="11" y="77"/>
                        </a:lnTo>
                        <a:lnTo>
                          <a:pt x="11" y="12"/>
                        </a:lnTo>
                        <a:lnTo>
                          <a:pt x="32" y="12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23440" y="4781880"/>
                    <a:ext cx="1098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8">
                        <a:moveTo>
                          <a:pt x="0" y="0"/>
                        </a:moveTo>
                        <a:lnTo>
                          <a:pt x="0" y="88"/>
                        </a:lnTo>
                        <a:lnTo>
                          <a:pt x="12" y="88"/>
                        </a:lnTo>
                        <a:lnTo>
                          <a:pt x="12" y="50"/>
                        </a:lnTo>
                        <a:lnTo>
                          <a:pt x="31" y="50"/>
                        </a:lnTo>
                        <a:lnTo>
                          <a:pt x="36" y="50"/>
                        </a:lnTo>
                        <a:lnTo>
                          <a:pt x="40" y="50"/>
                        </a:lnTo>
                        <a:lnTo>
                          <a:pt x="42" y="50"/>
                        </a:lnTo>
                        <a:lnTo>
                          <a:pt x="44" y="50"/>
                        </a:lnTo>
                        <a:lnTo>
                          <a:pt x="47" y="50"/>
                        </a:lnTo>
                        <a:lnTo>
                          <a:pt x="49" y="53"/>
                        </a:lnTo>
                        <a:lnTo>
                          <a:pt x="49" y="55"/>
                        </a:lnTo>
                        <a:lnTo>
                          <a:pt x="49" y="57"/>
                        </a:lnTo>
                        <a:lnTo>
                          <a:pt x="50" y="57"/>
                        </a:lnTo>
                        <a:lnTo>
                          <a:pt x="52" y="62"/>
                        </a:lnTo>
                        <a:lnTo>
                          <a:pt x="52" y="66"/>
                        </a:lnTo>
                        <a:lnTo>
                          <a:pt x="52" y="74"/>
                        </a:lnTo>
                        <a:lnTo>
                          <a:pt x="52" y="77"/>
                        </a:lnTo>
                        <a:lnTo>
                          <a:pt x="52" y="81"/>
                        </a:lnTo>
                        <a:lnTo>
                          <a:pt x="52" y="83"/>
                        </a:lnTo>
                        <a:lnTo>
                          <a:pt x="52" y="86"/>
                        </a:lnTo>
                        <a:lnTo>
                          <a:pt x="54" y="86"/>
                        </a:lnTo>
                        <a:lnTo>
                          <a:pt x="54" y="88"/>
                        </a:lnTo>
                        <a:lnTo>
                          <a:pt x="70" y="88"/>
                        </a:lnTo>
                        <a:lnTo>
                          <a:pt x="70" y="86"/>
                        </a:lnTo>
                        <a:lnTo>
                          <a:pt x="68" y="86"/>
                        </a:lnTo>
                        <a:lnTo>
                          <a:pt x="68" y="83"/>
                        </a:lnTo>
                        <a:lnTo>
                          <a:pt x="68" y="81"/>
                        </a:lnTo>
                        <a:lnTo>
                          <a:pt x="65" y="79"/>
                        </a:lnTo>
                        <a:lnTo>
                          <a:pt x="65" y="77"/>
                        </a:lnTo>
                        <a:lnTo>
                          <a:pt x="65" y="74"/>
                        </a:lnTo>
                        <a:lnTo>
                          <a:pt x="63" y="62"/>
                        </a:lnTo>
                        <a:lnTo>
                          <a:pt x="63" y="59"/>
                        </a:lnTo>
                        <a:lnTo>
                          <a:pt x="63" y="57"/>
                        </a:lnTo>
                        <a:lnTo>
                          <a:pt x="63" y="55"/>
                        </a:lnTo>
                        <a:lnTo>
                          <a:pt x="63" y="53"/>
                        </a:lnTo>
                        <a:lnTo>
                          <a:pt x="63" y="50"/>
                        </a:lnTo>
                        <a:lnTo>
                          <a:pt x="61" y="49"/>
                        </a:lnTo>
                        <a:lnTo>
                          <a:pt x="59" y="47"/>
                        </a:lnTo>
                        <a:lnTo>
                          <a:pt x="57" y="47"/>
                        </a:lnTo>
                        <a:lnTo>
                          <a:pt x="54" y="47"/>
                        </a:lnTo>
                        <a:lnTo>
                          <a:pt x="52" y="45"/>
                        </a:lnTo>
                        <a:lnTo>
                          <a:pt x="54" y="45"/>
                        </a:lnTo>
                        <a:lnTo>
                          <a:pt x="57" y="41"/>
                        </a:lnTo>
                        <a:lnTo>
                          <a:pt x="59" y="41"/>
                        </a:lnTo>
                        <a:lnTo>
                          <a:pt x="61" y="41"/>
                        </a:lnTo>
                        <a:lnTo>
                          <a:pt x="61" y="39"/>
                        </a:lnTo>
                        <a:lnTo>
                          <a:pt x="63" y="37"/>
                        </a:lnTo>
                        <a:lnTo>
                          <a:pt x="63" y="36"/>
                        </a:lnTo>
                        <a:lnTo>
                          <a:pt x="65" y="36"/>
                        </a:lnTo>
                        <a:lnTo>
                          <a:pt x="65" y="33"/>
                        </a:lnTo>
                        <a:lnTo>
                          <a:pt x="65" y="31"/>
                        </a:lnTo>
                        <a:lnTo>
                          <a:pt x="68" y="31"/>
                        </a:lnTo>
                        <a:lnTo>
                          <a:pt x="68" y="26"/>
                        </a:lnTo>
                        <a:lnTo>
                          <a:pt x="68" y="24"/>
                        </a:lnTo>
                        <a:lnTo>
                          <a:pt x="68" y="22"/>
                        </a:lnTo>
                        <a:lnTo>
                          <a:pt x="68" y="20"/>
                        </a:lnTo>
                        <a:lnTo>
                          <a:pt x="65" y="17"/>
                        </a:lnTo>
                        <a:lnTo>
                          <a:pt x="65" y="15"/>
                        </a:lnTo>
                        <a:lnTo>
                          <a:pt x="63" y="13"/>
                        </a:lnTo>
                        <a:lnTo>
                          <a:pt x="63" y="12"/>
                        </a:lnTo>
                        <a:lnTo>
                          <a:pt x="63" y="9"/>
                        </a:lnTo>
                        <a:lnTo>
                          <a:pt x="61" y="9"/>
                        </a:lnTo>
                        <a:lnTo>
                          <a:pt x="59" y="7"/>
                        </a:lnTo>
                        <a:lnTo>
                          <a:pt x="57" y="7"/>
                        </a:lnTo>
                        <a:lnTo>
                          <a:pt x="57" y="5"/>
                        </a:lnTo>
                        <a:lnTo>
                          <a:pt x="54" y="3"/>
                        </a:lnTo>
                        <a:lnTo>
                          <a:pt x="52" y="3"/>
                        </a:lnTo>
                        <a:lnTo>
                          <a:pt x="50" y="3"/>
                        </a:lnTo>
                        <a:lnTo>
                          <a:pt x="49" y="3"/>
                        </a:lnTo>
                        <a:lnTo>
                          <a:pt x="44" y="3"/>
                        </a:lnTo>
                        <a:lnTo>
                          <a:pt x="40" y="0"/>
                        </a:lnTo>
                        <a:lnTo>
                          <a:pt x="38" y="0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  <a:lnTo>
                          <a:pt x="12" y="12"/>
                        </a:lnTo>
                        <a:lnTo>
                          <a:pt x="31" y="12"/>
                        </a:lnTo>
                        <a:lnTo>
                          <a:pt x="36" y="12"/>
                        </a:lnTo>
                        <a:lnTo>
                          <a:pt x="38" y="12"/>
                        </a:lnTo>
                        <a:lnTo>
                          <a:pt x="40" y="12"/>
                        </a:lnTo>
                        <a:lnTo>
                          <a:pt x="42" y="13"/>
                        </a:lnTo>
                        <a:lnTo>
                          <a:pt x="44" y="13"/>
                        </a:lnTo>
                        <a:lnTo>
                          <a:pt x="47" y="13"/>
                        </a:lnTo>
                        <a:lnTo>
                          <a:pt x="49" y="13"/>
                        </a:lnTo>
                        <a:lnTo>
                          <a:pt x="50" y="15"/>
                        </a:lnTo>
                        <a:lnTo>
                          <a:pt x="52" y="17"/>
                        </a:lnTo>
                        <a:lnTo>
                          <a:pt x="52" y="20"/>
                        </a:lnTo>
                        <a:lnTo>
                          <a:pt x="52" y="22"/>
                        </a:lnTo>
                        <a:lnTo>
                          <a:pt x="52" y="24"/>
                        </a:lnTo>
                        <a:lnTo>
                          <a:pt x="52" y="26"/>
                        </a:lnTo>
                        <a:lnTo>
                          <a:pt x="52" y="29"/>
                        </a:lnTo>
                        <a:lnTo>
                          <a:pt x="52" y="31"/>
                        </a:lnTo>
                        <a:lnTo>
                          <a:pt x="52" y="33"/>
                        </a:lnTo>
                        <a:lnTo>
                          <a:pt x="50" y="36"/>
                        </a:lnTo>
                        <a:lnTo>
                          <a:pt x="49" y="37"/>
                        </a:lnTo>
                        <a:lnTo>
                          <a:pt x="47" y="37"/>
                        </a:lnTo>
                        <a:lnTo>
                          <a:pt x="44" y="39"/>
                        </a:lnTo>
                        <a:lnTo>
                          <a:pt x="42" y="39"/>
                        </a:lnTo>
                        <a:lnTo>
                          <a:pt x="40" y="39"/>
                        </a:lnTo>
                        <a:lnTo>
                          <a:pt x="38" y="39"/>
                        </a:lnTo>
                        <a:lnTo>
                          <a:pt x="36" y="41"/>
                        </a:lnTo>
                        <a:lnTo>
                          <a:pt x="31" y="41"/>
                        </a:lnTo>
                        <a:lnTo>
                          <a:pt x="12" y="41"/>
                        </a:lnTo>
                        <a:lnTo>
                          <a:pt x="12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336480" y="4803840"/>
                    <a:ext cx="110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6">
                        <a:moveTo>
                          <a:pt x="29" y="86"/>
                        </a:moveTo>
                        <a:lnTo>
                          <a:pt x="40" y="86"/>
                        </a:lnTo>
                        <a:lnTo>
                          <a:pt x="40" y="11"/>
                        </a:lnTo>
                        <a:lnTo>
                          <a:pt x="70" y="11"/>
                        </a:lnTo>
                        <a:lnTo>
                          <a:pt x="7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29" y="11"/>
                        </a:lnTo>
                        <a:lnTo>
                          <a:pt x="29" y="8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549240" y="4813560"/>
                    <a:ext cx="1227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87">
                        <a:moveTo>
                          <a:pt x="0" y="87"/>
                        </a:moveTo>
                        <a:lnTo>
                          <a:pt x="13" y="87"/>
                        </a:lnTo>
                        <a:lnTo>
                          <a:pt x="21" y="61"/>
                        </a:lnTo>
                        <a:lnTo>
                          <a:pt x="57" y="61"/>
                        </a:lnTo>
                        <a:lnTo>
                          <a:pt x="65" y="87"/>
                        </a:lnTo>
                        <a:lnTo>
                          <a:pt x="78" y="87"/>
                        </a:lnTo>
                        <a:lnTo>
                          <a:pt x="46" y="0"/>
                        </a:lnTo>
                        <a:lnTo>
                          <a:pt x="34" y="0"/>
                        </a:lnTo>
                        <a:lnTo>
                          <a:pt x="0" y="87"/>
                        </a:lnTo>
                        <a:lnTo>
                          <a:pt x="25" y="50"/>
                        </a:lnTo>
                        <a:lnTo>
                          <a:pt x="40" y="13"/>
                        </a:lnTo>
                        <a:lnTo>
                          <a:pt x="53" y="50"/>
                        </a:lnTo>
                        <a:lnTo>
                          <a:pt x="25" y="5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692520" y="4781880"/>
                    <a:ext cx="1018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8">
                        <a:moveTo>
                          <a:pt x="0" y="88"/>
                        </a:moveTo>
                        <a:lnTo>
                          <a:pt x="10" y="88"/>
                        </a:lnTo>
                        <a:lnTo>
                          <a:pt x="10" y="17"/>
                        </a:lnTo>
                        <a:lnTo>
                          <a:pt x="10" y="20"/>
                        </a:lnTo>
                        <a:lnTo>
                          <a:pt x="12" y="20"/>
                        </a:lnTo>
                        <a:lnTo>
                          <a:pt x="12" y="22"/>
                        </a:lnTo>
                        <a:lnTo>
                          <a:pt x="14" y="24"/>
                        </a:lnTo>
                        <a:lnTo>
                          <a:pt x="53" y="88"/>
                        </a:lnTo>
                        <a:lnTo>
                          <a:pt x="65" y="88"/>
                        </a:lnTo>
                        <a:lnTo>
                          <a:pt x="65" y="0"/>
                        </a:lnTo>
                        <a:lnTo>
                          <a:pt x="54" y="0"/>
                        </a:lnTo>
                        <a:lnTo>
                          <a:pt x="54" y="71"/>
                        </a:lnTo>
                        <a:lnTo>
                          <a:pt x="53" y="69"/>
                        </a:lnTo>
                        <a:lnTo>
                          <a:pt x="51" y="66"/>
                        </a:lnTo>
                        <a:lnTo>
                          <a:pt x="51" y="64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865960" y="2565360"/>
                    <a:ext cx="1147680" cy="875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555">
                        <a:moveTo>
                          <a:pt x="366" y="0"/>
                        </a:moveTo>
                        <a:lnTo>
                          <a:pt x="0" y="283"/>
                        </a:lnTo>
                        <a:lnTo>
                          <a:pt x="361" y="555"/>
                        </a:lnTo>
                        <a:lnTo>
                          <a:pt x="729" y="281"/>
                        </a:lnTo>
                        <a:lnTo>
                          <a:pt x="364" y="0"/>
                        </a:lnTo>
                        <a:lnTo>
                          <a:pt x="366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13640" y="4723560"/>
                    <a:ext cx="10224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94">
                        <a:moveTo>
                          <a:pt x="0" y="61"/>
                        </a:moveTo>
                        <a:lnTo>
                          <a:pt x="0" y="65"/>
                        </a:lnTo>
                        <a:lnTo>
                          <a:pt x="0" y="70"/>
                        </a:lnTo>
                        <a:lnTo>
                          <a:pt x="2" y="72"/>
                        </a:lnTo>
                        <a:lnTo>
                          <a:pt x="2" y="76"/>
                        </a:lnTo>
                        <a:lnTo>
                          <a:pt x="4" y="78"/>
                        </a:lnTo>
                        <a:lnTo>
                          <a:pt x="6" y="80"/>
                        </a:lnTo>
                        <a:lnTo>
                          <a:pt x="6" y="83"/>
                        </a:lnTo>
                        <a:lnTo>
                          <a:pt x="8" y="85"/>
                        </a:lnTo>
                        <a:lnTo>
                          <a:pt x="10" y="87"/>
                        </a:lnTo>
                        <a:lnTo>
                          <a:pt x="14" y="89"/>
                        </a:lnTo>
                        <a:lnTo>
                          <a:pt x="16" y="92"/>
                        </a:lnTo>
                        <a:lnTo>
                          <a:pt x="19" y="92"/>
                        </a:lnTo>
                        <a:lnTo>
                          <a:pt x="23" y="92"/>
                        </a:lnTo>
                        <a:lnTo>
                          <a:pt x="25" y="94"/>
                        </a:lnTo>
                        <a:lnTo>
                          <a:pt x="30" y="94"/>
                        </a:lnTo>
                        <a:lnTo>
                          <a:pt x="33" y="94"/>
                        </a:lnTo>
                        <a:lnTo>
                          <a:pt x="38" y="94"/>
                        </a:lnTo>
                        <a:lnTo>
                          <a:pt x="40" y="94"/>
                        </a:lnTo>
                        <a:lnTo>
                          <a:pt x="44" y="92"/>
                        </a:lnTo>
                        <a:lnTo>
                          <a:pt x="46" y="92"/>
                        </a:lnTo>
                        <a:lnTo>
                          <a:pt x="51" y="92"/>
                        </a:lnTo>
                        <a:lnTo>
                          <a:pt x="53" y="89"/>
                        </a:lnTo>
                        <a:lnTo>
                          <a:pt x="55" y="87"/>
                        </a:lnTo>
                        <a:lnTo>
                          <a:pt x="57" y="85"/>
                        </a:lnTo>
                        <a:lnTo>
                          <a:pt x="59" y="85"/>
                        </a:lnTo>
                        <a:lnTo>
                          <a:pt x="61" y="80"/>
                        </a:lnTo>
                        <a:lnTo>
                          <a:pt x="63" y="80"/>
                        </a:lnTo>
                        <a:lnTo>
                          <a:pt x="63" y="76"/>
                        </a:lnTo>
                        <a:lnTo>
                          <a:pt x="65" y="72"/>
                        </a:lnTo>
                        <a:lnTo>
                          <a:pt x="65" y="70"/>
                        </a:lnTo>
                        <a:lnTo>
                          <a:pt x="65" y="65"/>
                        </a:lnTo>
                        <a:lnTo>
                          <a:pt x="65" y="63"/>
                        </a:lnTo>
                        <a:lnTo>
                          <a:pt x="65" y="59"/>
                        </a:lnTo>
                        <a:lnTo>
                          <a:pt x="63" y="56"/>
                        </a:lnTo>
                        <a:lnTo>
                          <a:pt x="63" y="54"/>
                        </a:lnTo>
                        <a:lnTo>
                          <a:pt x="63" y="52"/>
                        </a:lnTo>
                        <a:lnTo>
                          <a:pt x="59" y="50"/>
                        </a:lnTo>
                        <a:lnTo>
                          <a:pt x="57" y="48"/>
                        </a:lnTo>
                        <a:lnTo>
                          <a:pt x="55" y="46"/>
                        </a:lnTo>
                        <a:lnTo>
                          <a:pt x="53" y="44"/>
                        </a:lnTo>
                        <a:lnTo>
                          <a:pt x="51" y="44"/>
                        </a:lnTo>
                        <a:lnTo>
                          <a:pt x="49" y="44"/>
                        </a:lnTo>
                        <a:lnTo>
                          <a:pt x="46" y="44"/>
                        </a:lnTo>
                        <a:lnTo>
                          <a:pt x="42" y="42"/>
                        </a:lnTo>
                        <a:lnTo>
                          <a:pt x="40" y="42"/>
                        </a:lnTo>
                        <a:lnTo>
                          <a:pt x="35" y="39"/>
                        </a:lnTo>
                        <a:lnTo>
                          <a:pt x="33" y="39"/>
                        </a:lnTo>
                        <a:lnTo>
                          <a:pt x="30" y="39"/>
                        </a:lnTo>
                        <a:lnTo>
                          <a:pt x="28" y="39"/>
                        </a:lnTo>
                        <a:lnTo>
                          <a:pt x="25" y="37"/>
                        </a:lnTo>
                        <a:lnTo>
                          <a:pt x="23" y="37"/>
                        </a:lnTo>
                        <a:lnTo>
                          <a:pt x="21" y="35"/>
                        </a:lnTo>
                        <a:lnTo>
                          <a:pt x="19" y="35"/>
                        </a:lnTo>
                        <a:lnTo>
                          <a:pt x="16" y="35"/>
                        </a:lnTo>
                        <a:lnTo>
                          <a:pt x="14" y="32"/>
                        </a:lnTo>
                        <a:lnTo>
                          <a:pt x="14" y="30"/>
                        </a:lnTo>
                        <a:lnTo>
                          <a:pt x="14" y="28"/>
                        </a:lnTo>
                        <a:lnTo>
                          <a:pt x="14" y="26"/>
                        </a:lnTo>
                        <a:lnTo>
                          <a:pt x="14" y="24"/>
                        </a:lnTo>
                        <a:lnTo>
                          <a:pt x="14" y="22"/>
                        </a:lnTo>
                        <a:lnTo>
                          <a:pt x="14" y="20"/>
                        </a:lnTo>
                        <a:lnTo>
                          <a:pt x="14" y="18"/>
                        </a:lnTo>
                        <a:lnTo>
                          <a:pt x="16" y="18"/>
                        </a:lnTo>
                        <a:lnTo>
                          <a:pt x="16" y="15"/>
                        </a:lnTo>
                        <a:lnTo>
                          <a:pt x="19" y="13"/>
                        </a:lnTo>
                        <a:lnTo>
                          <a:pt x="21" y="13"/>
                        </a:lnTo>
                        <a:lnTo>
                          <a:pt x="23" y="13"/>
                        </a:lnTo>
                        <a:lnTo>
                          <a:pt x="25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3" y="11"/>
                        </a:lnTo>
                        <a:lnTo>
                          <a:pt x="38" y="11"/>
                        </a:lnTo>
                        <a:lnTo>
                          <a:pt x="40" y="13"/>
                        </a:lnTo>
                        <a:lnTo>
                          <a:pt x="42" y="13"/>
                        </a:lnTo>
                        <a:lnTo>
                          <a:pt x="44" y="13"/>
                        </a:lnTo>
                        <a:lnTo>
                          <a:pt x="46" y="13"/>
                        </a:lnTo>
                        <a:lnTo>
                          <a:pt x="46" y="15"/>
                        </a:lnTo>
                        <a:lnTo>
                          <a:pt x="49" y="18"/>
                        </a:lnTo>
                        <a:lnTo>
                          <a:pt x="51" y="20"/>
                        </a:lnTo>
                        <a:lnTo>
                          <a:pt x="51" y="22"/>
                        </a:lnTo>
                        <a:lnTo>
                          <a:pt x="51" y="24"/>
                        </a:lnTo>
                        <a:lnTo>
                          <a:pt x="53" y="26"/>
                        </a:lnTo>
                        <a:lnTo>
                          <a:pt x="53" y="28"/>
                        </a:lnTo>
                        <a:lnTo>
                          <a:pt x="63" y="28"/>
                        </a:lnTo>
                        <a:lnTo>
                          <a:pt x="63" y="26"/>
                        </a:lnTo>
                        <a:lnTo>
                          <a:pt x="63" y="24"/>
                        </a:lnTo>
                        <a:lnTo>
                          <a:pt x="63" y="20"/>
                        </a:lnTo>
                        <a:lnTo>
                          <a:pt x="61" y="18"/>
                        </a:lnTo>
                        <a:lnTo>
                          <a:pt x="59" y="13"/>
                        </a:lnTo>
                        <a:lnTo>
                          <a:pt x="57" y="9"/>
                        </a:lnTo>
                        <a:lnTo>
                          <a:pt x="55" y="9"/>
                        </a:lnTo>
                        <a:lnTo>
                          <a:pt x="53" y="6"/>
                        </a:lnTo>
                        <a:lnTo>
                          <a:pt x="51" y="4"/>
                        </a:lnTo>
                        <a:lnTo>
                          <a:pt x="49" y="2"/>
                        </a:lnTo>
                        <a:lnTo>
                          <a:pt x="46" y="2"/>
                        </a:lnTo>
                        <a:lnTo>
                          <a:pt x="42" y="2"/>
                        </a:lnTo>
                        <a:lnTo>
                          <a:pt x="40" y="0"/>
                        </a:ln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30" y="0"/>
                        </a:lnTo>
                        <a:lnTo>
                          <a:pt x="25" y="0"/>
                        </a:lnTo>
                        <a:lnTo>
                          <a:pt x="23" y="2"/>
                        </a:lnTo>
                        <a:lnTo>
                          <a:pt x="19" y="2"/>
                        </a:lnTo>
                        <a:lnTo>
                          <a:pt x="14" y="4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6" y="13"/>
                        </a:lnTo>
                        <a:lnTo>
                          <a:pt x="4" y="15"/>
                        </a:lnTo>
                        <a:lnTo>
                          <a:pt x="4" y="18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4" y="37"/>
                        </a:lnTo>
                        <a:lnTo>
                          <a:pt x="6" y="39"/>
                        </a:lnTo>
                        <a:lnTo>
                          <a:pt x="8" y="42"/>
                        </a:lnTo>
                        <a:lnTo>
                          <a:pt x="10" y="44"/>
                        </a:lnTo>
                        <a:lnTo>
                          <a:pt x="14" y="46"/>
                        </a:lnTo>
                        <a:lnTo>
                          <a:pt x="19" y="48"/>
                        </a:lnTo>
                        <a:lnTo>
                          <a:pt x="21" y="50"/>
                        </a:lnTo>
                        <a:lnTo>
                          <a:pt x="23" y="50"/>
                        </a:lnTo>
                        <a:lnTo>
                          <a:pt x="28" y="50"/>
                        </a:lnTo>
                        <a:lnTo>
                          <a:pt x="31" y="50"/>
                        </a:lnTo>
                        <a:lnTo>
                          <a:pt x="33" y="52"/>
                        </a:lnTo>
                        <a:lnTo>
                          <a:pt x="38" y="52"/>
                        </a:lnTo>
                        <a:lnTo>
                          <a:pt x="42" y="54"/>
                        </a:lnTo>
                        <a:lnTo>
                          <a:pt x="46" y="54"/>
                        </a:lnTo>
                        <a:lnTo>
                          <a:pt x="49" y="56"/>
                        </a:lnTo>
                        <a:lnTo>
                          <a:pt x="51" y="56"/>
                        </a:lnTo>
                        <a:lnTo>
                          <a:pt x="51" y="59"/>
                        </a:lnTo>
                        <a:lnTo>
                          <a:pt x="53" y="59"/>
                        </a:lnTo>
                        <a:lnTo>
                          <a:pt x="53" y="61"/>
                        </a:lnTo>
                        <a:lnTo>
                          <a:pt x="55" y="63"/>
                        </a:lnTo>
                        <a:lnTo>
                          <a:pt x="55" y="65"/>
                        </a:lnTo>
                        <a:lnTo>
                          <a:pt x="55" y="68"/>
                        </a:lnTo>
                        <a:lnTo>
                          <a:pt x="55" y="70"/>
                        </a:lnTo>
                        <a:lnTo>
                          <a:pt x="55" y="72"/>
                        </a:lnTo>
                        <a:lnTo>
                          <a:pt x="53" y="73"/>
                        </a:lnTo>
                        <a:lnTo>
                          <a:pt x="53" y="76"/>
                        </a:lnTo>
                        <a:lnTo>
                          <a:pt x="51" y="76"/>
                        </a:lnTo>
                        <a:lnTo>
                          <a:pt x="51" y="78"/>
                        </a:lnTo>
                        <a:lnTo>
                          <a:pt x="49" y="78"/>
                        </a:lnTo>
                        <a:lnTo>
                          <a:pt x="46" y="80"/>
                        </a:lnTo>
                        <a:lnTo>
                          <a:pt x="44" y="80"/>
                        </a:lnTo>
                        <a:lnTo>
                          <a:pt x="42" y="83"/>
                        </a:lnTo>
                        <a:lnTo>
                          <a:pt x="40" y="83"/>
                        </a:lnTo>
                        <a:lnTo>
                          <a:pt x="38" y="83"/>
                        </a:lnTo>
                        <a:lnTo>
                          <a:pt x="35" y="83"/>
                        </a:lnTo>
                        <a:lnTo>
                          <a:pt x="33" y="83"/>
                        </a:lnTo>
                        <a:lnTo>
                          <a:pt x="31" y="83"/>
                        </a:lnTo>
                        <a:lnTo>
                          <a:pt x="28" y="83"/>
                        </a:lnTo>
                        <a:lnTo>
                          <a:pt x="25" y="83"/>
                        </a:lnTo>
                        <a:lnTo>
                          <a:pt x="23" y="80"/>
                        </a:lnTo>
                        <a:lnTo>
                          <a:pt x="21" y="80"/>
                        </a:lnTo>
                        <a:lnTo>
                          <a:pt x="19" y="80"/>
                        </a:lnTo>
                        <a:lnTo>
                          <a:pt x="19" y="78"/>
                        </a:lnTo>
                        <a:lnTo>
                          <a:pt x="16" y="78"/>
                        </a:lnTo>
                        <a:lnTo>
                          <a:pt x="14" y="76"/>
                        </a:lnTo>
                        <a:lnTo>
                          <a:pt x="14" y="72"/>
                        </a:lnTo>
                        <a:lnTo>
                          <a:pt x="12" y="70"/>
                        </a:lnTo>
                        <a:lnTo>
                          <a:pt x="10" y="70"/>
                        </a:lnTo>
                        <a:lnTo>
                          <a:pt x="10" y="65"/>
                        </a:lnTo>
                        <a:lnTo>
                          <a:pt x="10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4146120" y="4709520"/>
                    <a:ext cx="972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88">
                        <a:moveTo>
                          <a:pt x="0" y="88"/>
                        </a:moveTo>
                        <a:lnTo>
                          <a:pt x="62" y="88"/>
                        </a:lnTo>
                        <a:lnTo>
                          <a:pt x="62" y="74"/>
                        </a:lnTo>
                        <a:lnTo>
                          <a:pt x="11" y="74"/>
                        </a:lnTo>
                        <a:lnTo>
                          <a:pt x="11" y="47"/>
                        </a:lnTo>
                        <a:lnTo>
                          <a:pt x="55" y="47"/>
                        </a:lnTo>
                        <a:lnTo>
                          <a:pt x="55" y="38"/>
                        </a:lnTo>
                        <a:lnTo>
                          <a:pt x="11" y="38"/>
                        </a:lnTo>
                        <a:lnTo>
                          <a:pt x="11" y="12"/>
                        </a:lnTo>
                        <a:lnTo>
                          <a:pt x="59" y="12"/>
                        </a:lnTo>
                        <a:lnTo>
                          <a:pt x="59" y="0"/>
                        </a:lnTo>
                        <a:lnTo>
                          <a:pt x="0" y="0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286160" y="4668480"/>
                    <a:ext cx="1083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88">
                        <a:moveTo>
                          <a:pt x="0" y="0"/>
                        </a:moveTo>
                        <a:lnTo>
                          <a:pt x="0" y="88"/>
                        </a:lnTo>
                        <a:lnTo>
                          <a:pt x="14" y="88"/>
                        </a:lnTo>
                        <a:lnTo>
                          <a:pt x="14" y="50"/>
                        </a:lnTo>
                        <a:lnTo>
                          <a:pt x="33" y="50"/>
                        </a:lnTo>
                        <a:lnTo>
                          <a:pt x="35" y="50"/>
                        </a:lnTo>
                        <a:lnTo>
                          <a:pt x="37" y="50"/>
                        </a:lnTo>
                        <a:lnTo>
                          <a:pt x="41" y="50"/>
                        </a:lnTo>
                        <a:lnTo>
                          <a:pt x="44" y="50"/>
                        </a:lnTo>
                        <a:lnTo>
                          <a:pt x="46" y="50"/>
                        </a:lnTo>
                        <a:lnTo>
                          <a:pt x="48" y="50"/>
                        </a:lnTo>
                        <a:lnTo>
                          <a:pt x="50" y="53"/>
                        </a:lnTo>
                        <a:lnTo>
                          <a:pt x="50" y="55"/>
                        </a:lnTo>
                        <a:lnTo>
                          <a:pt x="51" y="57"/>
                        </a:lnTo>
                        <a:lnTo>
                          <a:pt x="51" y="59"/>
                        </a:lnTo>
                        <a:lnTo>
                          <a:pt x="51" y="62"/>
                        </a:lnTo>
                        <a:lnTo>
                          <a:pt x="51" y="64"/>
                        </a:lnTo>
                        <a:lnTo>
                          <a:pt x="54" y="74"/>
                        </a:lnTo>
                        <a:lnTo>
                          <a:pt x="54" y="77"/>
                        </a:lnTo>
                        <a:lnTo>
                          <a:pt x="54" y="79"/>
                        </a:lnTo>
                        <a:lnTo>
                          <a:pt x="54" y="81"/>
                        </a:lnTo>
                        <a:lnTo>
                          <a:pt x="54" y="83"/>
                        </a:lnTo>
                        <a:lnTo>
                          <a:pt x="54" y="86"/>
                        </a:lnTo>
                        <a:lnTo>
                          <a:pt x="56" y="88"/>
                        </a:lnTo>
                        <a:lnTo>
                          <a:pt x="69" y="88"/>
                        </a:lnTo>
                        <a:lnTo>
                          <a:pt x="69" y="86"/>
                        </a:lnTo>
                        <a:lnTo>
                          <a:pt x="69" y="83"/>
                        </a:lnTo>
                        <a:lnTo>
                          <a:pt x="67" y="83"/>
                        </a:lnTo>
                        <a:lnTo>
                          <a:pt x="67" y="81"/>
                        </a:lnTo>
                        <a:lnTo>
                          <a:pt x="67" y="79"/>
                        </a:lnTo>
                        <a:lnTo>
                          <a:pt x="67" y="77"/>
                        </a:lnTo>
                        <a:lnTo>
                          <a:pt x="67" y="74"/>
                        </a:lnTo>
                        <a:lnTo>
                          <a:pt x="65" y="62"/>
                        </a:lnTo>
                        <a:lnTo>
                          <a:pt x="65" y="57"/>
                        </a:lnTo>
                        <a:lnTo>
                          <a:pt x="65" y="55"/>
                        </a:lnTo>
                        <a:lnTo>
                          <a:pt x="62" y="55"/>
                        </a:lnTo>
                        <a:lnTo>
                          <a:pt x="62" y="53"/>
                        </a:lnTo>
                        <a:lnTo>
                          <a:pt x="62" y="50"/>
                        </a:lnTo>
                        <a:lnTo>
                          <a:pt x="62" y="49"/>
                        </a:lnTo>
                        <a:lnTo>
                          <a:pt x="60" y="47"/>
                        </a:lnTo>
                        <a:lnTo>
                          <a:pt x="58" y="47"/>
                        </a:lnTo>
                        <a:lnTo>
                          <a:pt x="58" y="45"/>
                        </a:lnTo>
                        <a:lnTo>
                          <a:pt x="56" y="45"/>
                        </a:lnTo>
                        <a:lnTo>
                          <a:pt x="54" y="45"/>
                        </a:lnTo>
                        <a:lnTo>
                          <a:pt x="56" y="41"/>
                        </a:lnTo>
                        <a:lnTo>
                          <a:pt x="58" y="41"/>
                        </a:lnTo>
                        <a:lnTo>
                          <a:pt x="58" y="39"/>
                        </a:lnTo>
                        <a:lnTo>
                          <a:pt x="60" y="39"/>
                        </a:lnTo>
                        <a:lnTo>
                          <a:pt x="62" y="37"/>
                        </a:lnTo>
                        <a:lnTo>
                          <a:pt x="65" y="36"/>
                        </a:lnTo>
                        <a:lnTo>
                          <a:pt x="65" y="33"/>
                        </a:lnTo>
                        <a:lnTo>
                          <a:pt x="65" y="31"/>
                        </a:lnTo>
                        <a:lnTo>
                          <a:pt x="67" y="31"/>
                        </a:lnTo>
                        <a:lnTo>
                          <a:pt x="67" y="29"/>
                        </a:lnTo>
                        <a:lnTo>
                          <a:pt x="67" y="26"/>
                        </a:lnTo>
                        <a:lnTo>
                          <a:pt x="67" y="24"/>
                        </a:lnTo>
                        <a:lnTo>
                          <a:pt x="67" y="22"/>
                        </a:lnTo>
                        <a:lnTo>
                          <a:pt x="67" y="20"/>
                        </a:lnTo>
                        <a:lnTo>
                          <a:pt x="67" y="17"/>
                        </a:lnTo>
                        <a:lnTo>
                          <a:pt x="65" y="15"/>
                        </a:lnTo>
                        <a:lnTo>
                          <a:pt x="65" y="13"/>
                        </a:lnTo>
                        <a:lnTo>
                          <a:pt x="62" y="12"/>
                        </a:lnTo>
                        <a:lnTo>
                          <a:pt x="62" y="9"/>
                        </a:lnTo>
                        <a:lnTo>
                          <a:pt x="62" y="7"/>
                        </a:lnTo>
                        <a:lnTo>
                          <a:pt x="60" y="7"/>
                        </a:lnTo>
                        <a:lnTo>
                          <a:pt x="58" y="5"/>
                        </a:lnTo>
                        <a:lnTo>
                          <a:pt x="56" y="3"/>
                        </a:lnTo>
                        <a:lnTo>
                          <a:pt x="54" y="3"/>
                        </a:lnTo>
                        <a:lnTo>
                          <a:pt x="50" y="3"/>
                        </a:lnTo>
                        <a:lnTo>
                          <a:pt x="50" y="0"/>
                        </a:lnTo>
                        <a:lnTo>
                          <a:pt x="46" y="0"/>
                        </a:lnTo>
                        <a:lnTo>
                          <a:pt x="44" y="0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lnTo>
                          <a:pt x="14" y="12"/>
                        </a:lnTo>
                        <a:lnTo>
                          <a:pt x="33" y="12"/>
                        </a:lnTo>
                        <a:lnTo>
                          <a:pt x="37" y="12"/>
                        </a:lnTo>
                        <a:lnTo>
                          <a:pt x="41" y="12"/>
                        </a:lnTo>
                        <a:lnTo>
                          <a:pt x="46" y="12"/>
                        </a:lnTo>
                        <a:lnTo>
                          <a:pt x="48" y="13"/>
                        </a:lnTo>
                        <a:lnTo>
                          <a:pt x="50" y="13"/>
                        </a:lnTo>
                        <a:lnTo>
                          <a:pt x="51" y="13"/>
                        </a:lnTo>
                        <a:lnTo>
                          <a:pt x="51" y="15"/>
                        </a:lnTo>
                        <a:lnTo>
                          <a:pt x="54" y="17"/>
                        </a:lnTo>
                        <a:lnTo>
                          <a:pt x="54" y="20"/>
                        </a:lnTo>
                        <a:lnTo>
                          <a:pt x="54" y="22"/>
                        </a:lnTo>
                        <a:lnTo>
                          <a:pt x="54" y="24"/>
                        </a:lnTo>
                        <a:lnTo>
                          <a:pt x="54" y="26"/>
                        </a:lnTo>
                        <a:lnTo>
                          <a:pt x="54" y="29"/>
                        </a:lnTo>
                        <a:lnTo>
                          <a:pt x="54" y="31"/>
                        </a:lnTo>
                        <a:lnTo>
                          <a:pt x="51" y="33"/>
                        </a:lnTo>
                        <a:lnTo>
                          <a:pt x="50" y="36"/>
                        </a:lnTo>
                        <a:lnTo>
                          <a:pt x="50" y="37"/>
                        </a:lnTo>
                        <a:lnTo>
                          <a:pt x="48" y="37"/>
                        </a:lnTo>
                        <a:lnTo>
                          <a:pt x="46" y="37"/>
                        </a:lnTo>
                        <a:lnTo>
                          <a:pt x="41" y="39"/>
                        </a:lnTo>
                        <a:lnTo>
                          <a:pt x="37" y="39"/>
                        </a:lnTo>
                        <a:lnTo>
                          <a:pt x="33" y="39"/>
                        </a:lnTo>
                        <a:lnTo>
                          <a:pt x="14" y="39"/>
                        </a:lnTo>
                        <a:lnTo>
                          <a:pt x="14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07480" y="4627440"/>
                    <a:ext cx="1242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88">
                        <a:moveTo>
                          <a:pt x="34" y="88"/>
                        </a:moveTo>
                        <a:lnTo>
                          <a:pt x="46" y="88"/>
                        </a:lnTo>
                        <a:lnTo>
                          <a:pt x="79" y="0"/>
                        </a:lnTo>
                        <a:lnTo>
                          <a:pt x="65" y="0"/>
                        </a:lnTo>
                        <a:lnTo>
                          <a:pt x="40" y="75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34" y="8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554000" y="4565880"/>
                    <a:ext cx="1018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7">
                        <a:moveTo>
                          <a:pt x="0" y="87"/>
                        </a:moveTo>
                        <a:lnTo>
                          <a:pt x="65" y="87"/>
                        </a:lnTo>
                        <a:lnTo>
                          <a:pt x="65" y="77"/>
                        </a:lnTo>
                        <a:lnTo>
                          <a:pt x="11" y="77"/>
                        </a:lnTo>
                        <a:lnTo>
                          <a:pt x="11" y="46"/>
                        </a:lnTo>
                        <a:lnTo>
                          <a:pt x="60" y="46"/>
                        </a:lnTo>
                        <a:lnTo>
                          <a:pt x="60" y="37"/>
                        </a:lnTo>
                        <a:lnTo>
                          <a:pt x="11" y="37"/>
                        </a:lnTo>
                        <a:lnTo>
                          <a:pt x="11" y="11"/>
                        </a:lnTo>
                        <a:lnTo>
                          <a:pt x="62" y="11"/>
                        </a:lnTo>
                        <a:lnTo>
                          <a:pt x="62" y="0"/>
                        </a:lnTo>
                        <a:lnTo>
                          <a:pt x="0" y="0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865960" y="2565360"/>
                    <a:ext cx="1163160" cy="89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566">
                        <a:moveTo>
                          <a:pt x="369" y="0"/>
                        </a:moveTo>
                        <a:lnTo>
                          <a:pt x="0" y="287"/>
                        </a:lnTo>
                        <a:lnTo>
                          <a:pt x="365" y="566"/>
                        </a:lnTo>
                        <a:lnTo>
                          <a:pt x="739" y="287"/>
                        </a:lnTo>
                        <a:lnTo>
                          <a:pt x="36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832840" y="2343240"/>
                    <a:ext cx="40428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294">
                        <a:moveTo>
                          <a:pt x="51" y="0"/>
                        </a:moveTo>
                        <a:lnTo>
                          <a:pt x="0" y="72"/>
                        </a:lnTo>
                        <a:lnTo>
                          <a:pt x="178" y="294"/>
                        </a:lnTo>
                        <a:lnTo>
                          <a:pt x="257" y="23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832840" y="2343240"/>
                    <a:ext cx="421920" cy="47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304">
                        <a:moveTo>
                          <a:pt x="54" y="0"/>
                        </a:moveTo>
                        <a:lnTo>
                          <a:pt x="0" y="76"/>
                        </a:lnTo>
                        <a:lnTo>
                          <a:pt x="187" y="304"/>
                        </a:lnTo>
                        <a:lnTo>
                          <a:pt x="268" y="245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558600" y="1975680"/>
                    <a:ext cx="639000" cy="88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564">
                        <a:moveTo>
                          <a:pt x="176" y="564"/>
                        </a:moveTo>
                        <a:lnTo>
                          <a:pt x="219" y="505"/>
                        </a:lnTo>
                        <a:lnTo>
                          <a:pt x="259" y="462"/>
                        </a:lnTo>
                        <a:lnTo>
                          <a:pt x="294" y="416"/>
                        </a:lnTo>
                        <a:lnTo>
                          <a:pt x="319" y="374"/>
                        </a:lnTo>
                        <a:lnTo>
                          <a:pt x="357" y="290"/>
                        </a:lnTo>
                        <a:lnTo>
                          <a:pt x="376" y="228"/>
                        </a:lnTo>
                        <a:lnTo>
                          <a:pt x="395" y="161"/>
                        </a:lnTo>
                        <a:lnTo>
                          <a:pt x="403" y="91"/>
                        </a:lnTo>
                        <a:lnTo>
                          <a:pt x="406" y="24"/>
                        </a:lnTo>
                        <a:lnTo>
                          <a:pt x="406" y="11"/>
                        </a:lnTo>
                        <a:lnTo>
                          <a:pt x="399" y="0"/>
                        </a:lnTo>
                        <a:lnTo>
                          <a:pt x="315" y="72"/>
                        </a:lnTo>
                        <a:lnTo>
                          <a:pt x="234" y="148"/>
                        </a:lnTo>
                        <a:lnTo>
                          <a:pt x="155" y="233"/>
                        </a:lnTo>
                        <a:lnTo>
                          <a:pt x="80" y="321"/>
                        </a:lnTo>
                        <a:lnTo>
                          <a:pt x="0" y="429"/>
                        </a:lnTo>
                        <a:lnTo>
                          <a:pt x="176" y="56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558600" y="1975680"/>
                    <a:ext cx="650160" cy="90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575">
                        <a:moveTo>
                          <a:pt x="180" y="575"/>
                        </a:moveTo>
                        <a:lnTo>
                          <a:pt x="222" y="513"/>
                        </a:lnTo>
                        <a:lnTo>
                          <a:pt x="262" y="470"/>
                        </a:lnTo>
                        <a:lnTo>
                          <a:pt x="299" y="424"/>
                        </a:lnTo>
                        <a:lnTo>
                          <a:pt x="327" y="381"/>
                        </a:lnTo>
                        <a:lnTo>
                          <a:pt x="365" y="294"/>
                        </a:lnTo>
                        <a:lnTo>
                          <a:pt x="384" y="233"/>
                        </a:lnTo>
                        <a:lnTo>
                          <a:pt x="403" y="163"/>
                        </a:lnTo>
                        <a:lnTo>
                          <a:pt x="411" y="94"/>
                        </a:lnTo>
                        <a:lnTo>
                          <a:pt x="413" y="26"/>
                        </a:lnTo>
                        <a:lnTo>
                          <a:pt x="413" y="11"/>
                        </a:lnTo>
                        <a:lnTo>
                          <a:pt x="407" y="0"/>
                        </a:lnTo>
                        <a:lnTo>
                          <a:pt x="320" y="74"/>
                        </a:lnTo>
                        <a:lnTo>
                          <a:pt x="237" y="151"/>
                        </a:lnTo>
                        <a:lnTo>
                          <a:pt x="157" y="237"/>
                        </a:lnTo>
                        <a:lnTo>
                          <a:pt x="83" y="326"/>
                        </a:lnTo>
                        <a:lnTo>
                          <a:pt x="0" y="438"/>
                        </a:lnTo>
                        <a:lnTo>
                          <a:pt x="180" y="57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607560" y="3255840"/>
                    <a:ext cx="799920" cy="887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563">
                        <a:moveTo>
                          <a:pt x="77" y="0"/>
                        </a:moveTo>
                        <a:lnTo>
                          <a:pt x="0" y="56"/>
                        </a:lnTo>
                        <a:lnTo>
                          <a:pt x="397" y="506"/>
                        </a:lnTo>
                        <a:lnTo>
                          <a:pt x="419" y="530"/>
                        </a:lnTo>
                        <a:lnTo>
                          <a:pt x="446" y="546"/>
                        </a:lnTo>
                        <a:lnTo>
                          <a:pt x="478" y="559"/>
                        </a:lnTo>
                        <a:lnTo>
                          <a:pt x="493" y="563"/>
                        </a:lnTo>
                        <a:lnTo>
                          <a:pt x="499" y="563"/>
                        </a:lnTo>
                        <a:lnTo>
                          <a:pt x="508" y="559"/>
                        </a:lnTo>
                        <a:lnTo>
                          <a:pt x="508" y="550"/>
                        </a:lnTo>
                        <a:lnTo>
                          <a:pt x="508" y="537"/>
                        </a:lnTo>
                        <a:lnTo>
                          <a:pt x="508" y="522"/>
                        </a:lnTo>
                        <a:lnTo>
                          <a:pt x="499" y="494"/>
                        </a:lnTo>
                        <a:lnTo>
                          <a:pt x="485" y="468"/>
                        </a:lnTo>
                        <a:lnTo>
                          <a:pt x="463" y="441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607560" y="3255840"/>
                    <a:ext cx="813600" cy="90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575">
                        <a:moveTo>
                          <a:pt x="77" y="0"/>
                        </a:moveTo>
                        <a:lnTo>
                          <a:pt x="0" y="57"/>
                        </a:lnTo>
                        <a:lnTo>
                          <a:pt x="403" y="515"/>
                        </a:lnTo>
                        <a:lnTo>
                          <a:pt x="427" y="542"/>
                        </a:lnTo>
                        <a:lnTo>
                          <a:pt x="454" y="558"/>
                        </a:lnTo>
                        <a:lnTo>
                          <a:pt x="484" y="570"/>
                        </a:lnTo>
                        <a:lnTo>
                          <a:pt x="501" y="575"/>
                        </a:lnTo>
                        <a:lnTo>
                          <a:pt x="508" y="575"/>
                        </a:lnTo>
                        <a:lnTo>
                          <a:pt x="517" y="570"/>
                        </a:lnTo>
                        <a:lnTo>
                          <a:pt x="517" y="562"/>
                        </a:lnTo>
                        <a:lnTo>
                          <a:pt x="517" y="548"/>
                        </a:lnTo>
                        <a:lnTo>
                          <a:pt x="517" y="534"/>
                        </a:lnTo>
                        <a:lnTo>
                          <a:pt x="508" y="505"/>
                        </a:lnTo>
                        <a:lnTo>
                          <a:pt x="491" y="477"/>
                        </a:lnTo>
                        <a:lnTo>
                          <a:pt x="470" y="450"/>
                        </a:lnTo>
                        <a:lnTo>
                          <a:pt x="7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621880" y="3238560"/>
                    <a:ext cx="735120" cy="9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67" h="622">
                        <a:moveTo>
                          <a:pt x="324" y="0"/>
                        </a:moveTo>
                        <a:lnTo>
                          <a:pt x="256" y="86"/>
                        </a:lnTo>
                        <a:lnTo>
                          <a:pt x="203" y="152"/>
                        </a:lnTo>
                        <a:lnTo>
                          <a:pt x="156" y="224"/>
                        </a:lnTo>
                        <a:lnTo>
                          <a:pt x="114" y="300"/>
                        </a:lnTo>
                        <a:lnTo>
                          <a:pt x="74" y="378"/>
                        </a:lnTo>
                        <a:lnTo>
                          <a:pt x="44" y="464"/>
                        </a:lnTo>
                        <a:lnTo>
                          <a:pt x="19" y="550"/>
                        </a:lnTo>
                        <a:lnTo>
                          <a:pt x="0" y="622"/>
                        </a:lnTo>
                        <a:lnTo>
                          <a:pt x="6" y="605"/>
                        </a:lnTo>
                        <a:lnTo>
                          <a:pt x="19" y="570"/>
                        </a:lnTo>
                        <a:lnTo>
                          <a:pt x="40" y="541"/>
                        </a:lnTo>
                        <a:lnTo>
                          <a:pt x="61" y="517"/>
                        </a:lnTo>
                        <a:lnTo>
                          <a:pt x="89" y="505"/>
                        </a:lnTo>
                        <a:lnTo>
                          <a:pt x="121" y="493"/>
                        </a:lnTo>
                        <a:lnTo>
                          <a:pt x="121" y="464"/>
                        </a:lnTo>
                        <a:lnTo>
                          <a:pt x="131" y="417"/>
                        </a:lnTo>
                        <a:lnTo>
                          <a:pt x="146" y="376"/>
                        </a:lnTo>
                        <a:lnTo>
                          <a:pt x="165" y="337"/>
                        </a:lnTo>
                        <a:lnTo>
                          <a:pt x="179" y="326"/>
                        </a:lnTo>
                        <a:lnTo>
                          <a:pt x="191" y="324"/>
                        </a:lnTo>
                        <a:lnTo>
                          <a:pt x="205" y="335"/>
                        </a:lnTo>
                        <a:lnTo>
                          <a:pt x="216" y="344"/>
                        </a:lnTo>
                        <a:lnTo>
                          <a:pt x="216" y="337"/>
                        </a:lnTo>
                        <a:lnTo>
                          <a:pt x="212" y="315"/>
                        </a:lnTo>
                        <a:lnTo>
                          <a:pt x="216" y="292"/>
                        </a:lnTo>
                        <a:lnTo>
                          <a:pt x="229" y="272"/>
                        </a:lnTo>
                        <a:lnTo>
                          <a:pt x="244" y="263"/>
                        </a:lnTo>
                        <a:lnTo>
                          <a:pt x="263" y="239"/>
                        </a:lnTo>
                        <a:lnTo>
                          <a:pt x="289" y="226"/>
                        </a:lnTo>
                        <a:lnTo>
                          <a:pt x="312" y="220"/>
                        </a:lnTo>
                        <a:lnTo>
                          <a:pt x="342" y="222"/>
                        </a:lnTo>
                        <a:lnTo>
                          <a:pt x="367" y="232"/>
                        </a:lnTo>
                        <a:lnTo>
                          <a:pt x="380" y="213"/>
                        </a:lnTo>
                        <a:lnTo>
                          <a:pt x="467" y="108"/>
                        </a:lnTo>
                        <a:lnTo>
                          <a:pt x="32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621880" y="3238560"/>
                    <a:ext cx="752760" cy="9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634">
                        <a:moveTo>
                          <a:pt x="331" y="0"/>
                        </a:moveTo>
                        <a:lnTo>
                          <a:pt x="263" y="90"/>
                        </a:lnTo>
                        <a:lnTo>
                          <a:pt x="210" y="157"/>
                        </a:lnTo>
                        <a:lnTo>
                          <a:pt x="161" y="229"/>
                        </a:lnTo>
                        <a:lnTo>
                          <a:pt x="116" y="308"/>
                        </a:lnTo>
                        <a:lnTo>
                          <a:pt x="76" y="385"/>
                        </a:lnTo>
                        <a:lnTo>
                          <a:pt x="46" y="471"/>
                        </a:lnTo>
                        <a:lnTo>
                          <a:pt x="19" y="560"/>
                        </a:lnTo>
                        <a:lnTo>
                          <a:pt x="0" y="634"/>
                        </a:lnTo>
                        <a:lnTo>
                          <a:pt x="6" y="617"/>
                        </a:lnTo>
                        <a:lnTo>
                          <a:pt x="19" y="579"/>
                        </a:lnTo>
                        <a:lnTo>
                          <a:pt x="40" y="550"/>
                        </a:lnTo>
                        <a:lnTo>
                          <a:pt x="63" y="529"/>
                        </a:lnTo>
                        <a:lnTo>
                          <a:pt x="91" y="514"/>
                        </a:lnTo>
                        <a:lnTo>
                          <a:pt x="123" y="503"/>
                        </a:lnTo>
                        <a:lnTo>
                          <a:pt x="125" y="473"/>
                        </a:lnTo>
                        <a:lnTo>
                          <a:pt x="133" y="427"/>
                        </a:lnTo>
                        <a:lnTo>
                          <a:pt x="149" y="383"/>
                        </a:lnTo>
                        <a:lnTo>
                          <a:pt x="168" y="344"/>
                        </a:lnTo>
                        <a:lnTo>
                          <a:pt x="170" y="344"/>
                        </a:lnTo>
                        <a:lnTo>
                          <a:pt x="182" y="331"/>
                        </a:lnTo>
                        <a:lnTo>
                          <a:pt x="195" y="331"/>
                        </a:lnTo>
                        <a:lnTo>
                          <a:pt x="210" y="340"/>
                        </a:lnTo>
                        <a:lnTo>
                          <a:pt x="221" y="351"/>
                        </a:lnTo>
                        <a:lnTo>
                          <a:pt x="221" y="344"/>
                        </a:lnTo>
                        <a:lnTo>
                          <a:pt x="216" y="322"/>
                        </a:lnTo>
                        <a:lnTo>
                          <a:pt x="221" y="296"/>
                        </a:lnTo>
                        <a:lnTo>
                          <a:pt x="233" y="277"/>
                        </a:lnTo>
                        <a:lnTo>
                          <a:pt x="249" y="268"/>
                        </a:lnTo>
                        <a:lnTo>
                          <a:pt x="270" y="244"/>
                        </a:lnTo>
                        <a:lnTo>
                          <a:pt x="295" y="231"/>
                        </a:lnTo>
                        <a:lnTo>
                          <a:pt x="319" y="224"/>
                        </a:lnTo>
                        <a:lnTo>
                          <a:pt x="350" y="227"/>
                        </a:lnTo>
                        <a:lnTo>
                          <a:pt x="373" y="238"/>
                        </a:lnTo>
                        <a:lnTo>
                          <a:pt x="389" y="218"/>
                        </a:lnTo>
                        <a:lnTo>
                          <a:pt x="478" y="111"/>
                        </a:lnTo>
                        <a:lnTo>
                          <a:pt x="33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2865960" y="2998800"/>
                    <a:ext cx="1163160" cy="39240"/>
                    <a:chOff x="2865960" y="2998800"/>
                    <a:chExt cx="1163160" cy="3924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865960" y="2998800"/>
                      <a:ext cx="11631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9" h="25">
                          <a:moveTo>
                            <a:pt x="17" y="25"/>
                          </a:moveTo>
                          <a:lnTo>
                            <a:pt x="0" y="15"/>
                          </a:lnTo>
                          <a:lnTo>
                            <a:pt x="19" y="0"/>
                          </a:lnTo>
                          <a:lnTo>
                            <a:pt x="722" y="0"/>
                          </a:lnTo>
                          <a:lnTo>
                            <a:pt x="739" y="13"/>
                          </a:lnTo>
                          <a:lnTo>
                            <a:pt x="720" y="25"/>
                          </a:lnTo>
                          <a:lnTo>
                            <a:pt x="17" y="25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865960" y="2998800"/>
                      <a:ext cx="11631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9" h="25">
                          <a:moveTo>
                            <a:pt x="17" y="25"/>
                          </a:moveTo>
                          <a:lnTo>
                            <a:pt x="0" y="15"/>
                          </a:lnTo>
                          <a:lnTo>
                            <a:pt x="19" y="0"/>
                          </a:lnTo>
                          <a:lnTo>
                            <a:pt x="722" y="0"/>
                          </a:lnTo>
                          <a:lnTo>
                            <a:pt x="739" y="13"/>
                          </a:lnTo>
                          <a:lnTo>
                            <a:pt x="720" y="25"/>
                          </a:lnTo>
                          <a:lnTo>
                            <a:pt x="17" y="25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7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437280" y="2568600"/>
                    <a:ext cx="20520" cy="895320"/>
                    <a:chOff x="3437280" y="2568600"/>
                    <a:chExt cx="20520" cy="89532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437280" y="2568600"/>
                      <a:ext cx="20520" cy="89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568">
                          <a:moveTo>
                            <a:pt x="0" y="561"/>
                          </a:moveTo>
                          <a:lnTo>
                            <a:pt x="0" y="8"/>
                          </a:lnTo>
                          <a:lnTo>
                            <a:pt x="5" y="0"/>
                          </a:lnTo>
                          <a:lnTo>
                            <a:pt x="13" y="8"/>
                          </a:lnTo>
                          <a:lnTo>
                            <a:pt x="13" y="561"/>
                          </a:lnTo>
                          <a:lnTo>
                            <a:pt x="9" y="568"/>
                          </a:lnTo>
                          <a:lnTo>
                            <a:pt x="0" y="561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437280" y="2568600"/>
                      <a:ext cx="20520" cy="89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568">
                          <a:moveTo>
                            <a:pt x="0" y="561"/>
                          </a:moveTo>
                          <a:lnTo>
                            <a:pt x="0" y="8"/>
                          </a:lnTo>
                          <a:lnTo>
                            <a:pt x="5" y="0"/>
                          </a:lnTo>
                          <a:lnTo>
                            <a:pt x="13" y="8"/>
                          </a:lnTo>
                          <a:lnTo>
                            <a:pt x="13" y="561"/>
                          </a:lnTo>
                          <a:lnTo>
                            <a:pt x="9" y="568"/>
                          </a:lnTo>
                          <a:lnTo>
                            <a:pt x="0" y="561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7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3458160" y="2582640"/>
                    <a:ext cx="544320" cy="415800"/>
                    <a:chOff x="3458160" y="2582640"/>
                    <a:chExt cx="544320" cy="4158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3458160" y="2582640"/>
                      <a:ext cx="5443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64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316" y="264"/>
                          </a:lnTo>
                          <a:lnTo>
                            <a:pt x="346" y="264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458160" y="2582640"/>
                      <a:ext cx="5443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264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316" y="264"/>
                          </a:lnTo>
                          <a:lnTo>
                            <a:pt x="346" y="264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7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2892600" y="2582640"/>
                    <a:ext cx="546120" cy="415800"/>
                    <a:chOff x="2892600" y="2582640"/>
                    <a:chExt cx="546120" cy="4158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92600" y="2582640"/>
                      <a:ext cx="54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264">
                          <a:moveTo>
                            <a:pt x="347" y="0"/>
                          </a:moveTo>
                          <a:lnTo>
                            <a:pt x="347" y="24"/>
                          </a:lnTo>
                          <a:lnTo>
                            <a:pt x="28" y="264"/>
                          </a:lnTo>
                          <a:lnTo>
                            <a:pt x="0" y="264"/>
                          </a:lnTo>
                          <a:lnTo>
                            <a:pt x="347" y="0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2892600" y="2582640"/>
                      <a:ext cx="54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264">
                          <a:moveTo>
                            <a:pt x="347" y="0"/>
                          </a:moveTo>
                          <a:lnTo>
                            <a:pt x="347" y="24"/>
                          </a:lnTo>
                          <a:lnTo>
                            <a:pt x="28" y="264"/>
                          </a:lnTo>
                          <a:lnTo>
                            <a:pt x="0" y="264"/>
                          </a:lnTo>
                          <a:lnTo>
                            <a:pt x="347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2892600" y="3038400"/>
                    <a:ext cx="546120" cy="415800"/>
                    <a:chOff x="2892600" y="3038400"/>
                    <a:chExt cx="546120" cy="41580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2892600" y="3038400"/>
                      <a:ext cx="54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264">
                          <a:moveTo>
                            <a:pt x="347" y="244"/>
                          </a:moveTo>
                          <a:lnTo>
                            <a:pt x="347" y="264"/>
                          </a:lnTo>
                          <a:lnTo>
                            <a:pt x="347" y="244"/>
                          </a:lnTo>
                          <a:lnTo>
                            <a:pt x="28" y="0"/>
                          </a:lnTo>
                          <a:lnTo>
                            <a:pt x="0" y="0"/>
                          </a:lnTo>
                          <a:lnTo>
                            <a:pt x="347" y="264"/>
                          </a:lnTo>
                          <a:lnTo>
                            <a:pt x="347" y="244"/>
                          </a:lnTo>
                          <a:close/>
                        </a:path>
                      </a:pathLst>
                    </a:custGeom>
                    <a:solidFill>
                      <a:srgbClr val="ff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2892600" y="3038400"/>
                      <a:ext cx="54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7" h="264">
                          <a:moveTo>
                            <a:pt x="347" y="244"/>
                          </a:moveTo>
                          <a:lnTo>
                            <a:pt x="347" y="264"/>
                          </a:lnTo>
                          <a:lnTo>
                            <a:pt x="347" y="244"/>
                          </a:lnTo>
                          <a:lnTo>
                            <a:pt x="28" y="0"/>
                          </a:lnTo>
                          <a:lnTo>
                            <a:pt x="0" y="0"/>
                          </a:lnTo>
                          <a:lnTo>
                            <a:pt x="347" y="264"/>
                          </a:lnTo>
                          <a:lnTo>
                            <a:pt x="347" y="244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7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3458160" y="3038400"/>
                    <a:ext cx="538200" cy="415800"/>
                    <a:chOff x="3458160" y="3038400"/>
                    <a:chExt cx="538200" cy="4158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458160" y="3038400"/>
                      <a:ext cx="5382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2" h="264">
                          <a:moveTo>
                            <a:pt x="0" y="259"/>
                          </a:moveTo>
                          <a:lnTo>
                            <a:pt x="0" y="244"/>
                          </a:lnTo>
                          <a:lnTo>
                            <a:pt x="318" y="0"/>
                          </a:lnTo>
                          <a:lnTo>
                            <a:pt x="342" y="0"/>
                          </a:lnTo>
                          <a:lnTo>
                            <a:pt x="0" y="264"/>
                          </a:lnTo>
                          <a:lnTo>
                            <a:pt x="0" y="259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458160" y="3038400"/>
                      <a:ext cx="5382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2" h="264">
                          <a:moveTo>
                            <a:pt x="0" y="259"/>
                          </a:moveTo>
                          <a:lnTo>
                            <a:pt x="0" y="244"/>
                          </a:lnTo>
                          <a:lnTo>
                            <a:pt x="318" y="0"/>
                          </a:lnTo>
                          <a:lnTo>
                            <a:pt x="342" y="0"/>
                          </a:lnTo>
                          <a:lnTo>
                            <a:pt x="0" y="264"/>
                          </a:lnTo>
                          <a:lnTo>
                            <a:pt x="0" y="259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7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2" name=""/>
                  <p:cNvSpPr/>
                  <p:nvPr/>
                </p:nvSpPr>
                <p:spPr>
                  <a:xfrm flipV="1">
                    <a:off x="3061080" y="2689920"/>
                    <a:ext cx="356040" cy="31824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3185640" y="2778120"/>
                    <a:ext cx="234360" cy="23292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3311640" y="2888280"/>
                    <a:ext cx="105120" cy="12276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V="1">
                    <a:off x="3417120" y="2961000"/>
                    <a:ext cx="1080" cy="5040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flipV="1">
                    <a:off x="3444840" y="2678760"/>
                    <a:ext cx="410760" cy="32436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3444840" y="2775240"/>
                    <a:ext cx="283320" cy="23328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flipV="1">
                    <a:off x="3444840" y="2885400"/>
                    <a:ext cx="162360" cy="12276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flipV="1">
                    <a:off x="3444840" y="2957400"/>
                    <a:ext cx="48600" cy="5076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>
                    <a:off x="3446640" y="3055680"/>
                    <a:ext cx="412200" cy="26748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>
                    <a:off x="3447000" y="3055680"/>
                    <a:ext cx="295920" cy="17784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3447000" y="3055680"/>
                    <a:ext cx="163440" cy="6912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>
                    <a:off x="3447000" y="3041640"/>
                    <a:ext cx="53280" cy="1080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061080" y="3055680"/>
                    <a:ext cx="356040" cy="26748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185640" y="3055680"/>
                    <a:ext cx="234360" cy="17784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311640" y="3055680"/>
                    <a:ext cx="105120" cy="6912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417120" y="3041640"/>
                    <a:ext cx="1080" cy="18720"/>
                  </a:xfrm>
                  <a:prstGeom prst="line">
                    <a:avLst/>
                  </a:prstGeom>
                  <a:ln w="12600">
                    <a:solidFill>
                      <a:srgbClr val="ff7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4853520" y="5009040"/>
                  <a:ext cx="100440" cy="21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853520" y="5018760"/>
                  <a:ext cx="99000" cy="20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853520" y="5027760"/>
                  <a:ext cx="38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1628280" y="533520"/>
                <a:ext cx="3564000" cy="82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19360" y="591480"/>
                <a:ext cx="352476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19360" y="604440"/>
                <a:ext cx="352332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21520" y="617040"/>
                <a:ext cx="339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NITED STATES ARM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47320" y="954360"/>
                <a:ext cx="28692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047320" y="966960"/>
                <a:ext cx="2867760" cy="4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48400" y="979560"/>
                <a:ext cx="274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ANCE SCHO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10840" y="5301000"/>
                <a:ext cx="4257000" cy="24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9480" y="5359320"/>
                <a:ext cx="519408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5370120"/>
                <a:ext cx="677160" cy="3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6960" y="5379840"/>
                <a:ext cx="576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76120" y="5366880"/>
                <a:ext cx="47358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8920" y="5376600"/>
                <a:ext cx="420228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Rounded MT Bold"/>
                  </a:rPr>
                  <a:t>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U.S ARMY SOLDIE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Rounded MT Bold"/>
                  </a:rPr>
                  <a:t>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UPPORT INSTITU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83960" y="5722200"/>
                <a:ext cx="28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37360" y="6444000"/>
                <a:ext cx="5403600" cy="82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05320" y="6453360"/>
                <a:ext cx="1731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04240" y="6462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7360" y="6726240"/>
                <a:ext cx="551232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37360" y="6735600"/>
                <a:ext cx="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37600" y="6999120"/>
                <a:ext cx="31104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37600" y="7008480"/>
                <a:ext cx="3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47800" y="6716520"/>
                <a:ext cx="28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96880" y="6989400"/>
                <a:ext cx="252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82680" y="7531920"/>
                <a:ext cx="27417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82680" y="7536600"/>
                <a:ext cx="28252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82680" y="7541280"/>
                <a:ext cx="3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035160" y="579276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33720" y="5802480"/>
              <a:ext cx="6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6200" y="5792760"/>
              <a:ext cx="5511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1160" y="6068880"/>
              <a:ext cx="3492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640" y="8361360"/>
              <a:ext cx="1814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54760" y="8361360"/>
              <a:ext cx="1438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43960" y="8370720"/>
              <a:ext cx="53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7000" y="6302520"/>
              <a:ext cx="542628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OCUMENT TRAINING A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79200" y="228600"/>
            <a:ext cx="6707160" cy="8773200"/>
            <a:chOff x="79200" y="228600"/>
            <a:chExt cx="6707160" cy="8773200"/>
          </a:xfrm>
        </p:grpSpPr>
        <p:sp>
          <p:nvSpPr>
            <p:cNvPr id="279" name=""/>
            <p:cNvSpPr/>
            <p:nvPr/>
          </p:nvSpPr>
          <p:spPr>
            <a:xfrm>
              <a:off x="1916640" y="228600"/>
              <a:ext cx="30420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 OF THE ARM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63200" y="482760"/>
              <a:ext cx="37476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EADQUARTERS, 23RD ARMORED DIVI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24760" y="726120"/>
              <a:ext cx="34794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T STEWART, GEORGIA 313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4680" y="5058720"/>
              <a:ext cx="1857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TRIBUTION: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)-COMMAND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5)-PSNC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0)-SOLD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95160" y="6228720"/>
              <a:ext cx="21960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OMAS L. TURN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T, INF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VIATION OFFIC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68800" y="5901120"/>
              <a:ext cx="4298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/S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2360" y="8105040"/>
              <a:ext cx="4573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** FOR INSTRUCTIONAL PURPOSE ONLY **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200" y="2066400"/>
              <a:ext cx="670716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ll personnel in an authorized flying status have qualified for flying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uty pay for the month of OCTOBER 20** except the following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16200" y="1412640"/>
              <a:ext cx="15210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640" y="3313800"/>
              <a:ext cx="569844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AZ, CHRISTOPER E. 999-33-8923 (Non-Crewmember)</a:t>
              </a:r>
              <a:br>
                <a:rPr sz="1600"/>
              </a:b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ONES, RANDY T.         999-87-9821    (Non-Crewmemb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4480" y="7404120"/>
              <a:ext cx="449424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44480" y="8607960"/>
              <a:ext cx="37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90015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39640" y="85442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0" y="0"/>
          <a:ext cx="6858000" cy="88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249000" y="8621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67800" y="51912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80" y="1203840"/>
            <a:ext cx="167940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S 10-12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84680" y="1307160"/>
            <a:ext cx="191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2 OCTOBER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00" y="2085480"/>
            <a:ext cx="54302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STIC, PAUL D. 999-22-4423, PFC, 1/92ND MECH IN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PERFOR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PARACHU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2 October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28560" y="8685360"/>
            <a:ext cx="75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5640" y="854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67800" y="51912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80" y="1203840"/>
            <a:ext cx="167940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S 10-12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3240" y="1307160"/>
            <a:ext cx="133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APR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400" y="2085480"/>
            <a:ext cx="54302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STIC, PAUL D. 999-22-4423, PFC, 1/92ND MECH IN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TERMINA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PARACHU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 1 MAY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28920" y="8685360"/>
            <a:ext cx="62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32640" y="846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5320" y="50652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360" y="13320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3-1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0" y="1307160"/>
            <a:ext cx="1658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MARCH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400" y="2085480"/>
            <a:ext cx="57607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WELL, JAMES P. 999-59-2124, SSG, 1/93rd MECH IN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PERFOR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DEMOLI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19 MARCH 20** VO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10160" y="8616960"/>
            <a:ext cx="212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32640" y="846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5320" y="50652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60" y="13320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3-14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82520" y="1307160"/>
            <a:ext cx="2167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SEPTEMBER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00" y="2085480"/>
            <a:ext cx="57607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WELL, JAMES P. 999-59-2124, SSG, 1/93rd MECH IN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TERMINA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DEMOLI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1 SEPTEMBER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87480" y="8685360"/>
            <a:ext cx="37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84920" y="8545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685800" y="914400"/>
          <a:ext cx="488952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48895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270960" y="85899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20560" y="1803240"/>
          <a:ext cx="6007320" cy="391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1803240"/>
                    <a:ext cx="600732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7920" y="0"/>
          <a:ext cx="6850080" cy="899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0"/>
                    <a:ext cx="6850080" cy="89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3270960" y="86900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914400" y="914400"/>
          <a:ext cx="4876920" cy="307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87692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243960" y="854568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77920" y="2038320"/>
          <a:ext cx="5867280" cy="321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920" y="2038320"/>
                    <a:ext cx="58672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0"/>
          <a:ext cx="6850080" cy="899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0080" cy="899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270960" y="86900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1920" y="304920"/>
            <a:ext cx="1140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Rounded MT Bold"/>
              </a:rPr>
              <a:t>PROBLEM #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51000" y="1371600"/>
            <a:ext cx="6154560" cy="81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2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s for Special Duty Assignment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ocation Orders for SD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s for Flight Duty Assignment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tificate to Collect Flight Duty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DP-L Travel Vou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-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s for Parachute Duty Assignment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-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s for Demolition Duty Assignment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-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Form 4187 (personnel Action) 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Separate 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-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Form 1475 (Basic allowance for Subsist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CBAH  (DD Form 1351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-2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Form 5960 (Authorization to start, Stop or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ic Allowance for Quarters &amp; V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riage Certif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ment to Family Ho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mination of Family Ho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D Form 1561 (Statement to Substantiate Pay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mily Separation Allow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>
              <a:tabLst>
                <a:tab algn="l" pos="0"/>
                <a:tab algn="l" pos="91440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7920" y="379440"/>
            <a:ext cx="6319800" cy="8175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8040" y="8610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696960"/>
            <a:ext cx="43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uments Associated with Pay and Allow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-5400" y="0"/>
            <a:ext cx="6863400" cy="9059760"/>
            <a:chOff x="-5400" y="0"/>
            <a:chExt cx="6863400" cy="905976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6858000" cy="849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1520" y="760320"/>
              <a:ext cx="4975200" cy="360"/>
            </a:xfrm>
            <a:custGeom>
              <a:avLst/>
              <a:gdLst/>
              <a:ahLst/>
              <a:rect l="l" t="t" r="r" b="b"/>
              <a:pathLst>
                <a:path w="4597" h="1">
                  <a:moveTo>
                    <a:pt x="0" y="0"/>
                  </a:moveTo>
                  <a:lnTo>
                    <a:pt x="45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114480" y="1125360"/>
              <a:ext cx="6462000" cy="0"/>
              <a:chOff x="114480" y="1125360"/>
              <a:chExt cx="6462000" cy="0"/>
            </a:xfrm>
          </p:grpSpPr>
          <p:sp>
            <p:nvSpPr>
              <p:cNvPr id="372" name=""/>
              <p:cNvSpPr/>
              <p:nvPr/>
            </p:nvSpPr>
            <p:spPr>
              <a:xfrm>
                <a:off x="114480" y="1125360"/>
                <a:ext cx="414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77520" y="1125360"/>
                <a:ext cx="229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11240" y="1695600"/>
              <a:ext cx="646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1520" y="2546280"/>
              <a:ext cx="6489720" cy="1800"/>
            </a:xfrm>
            <a:custGeom>
              <a:avLst/>
              <a:gdLst/>
              <a:ahLst/>
              <a:rect l="l" t="t" r="r" b="b"/>
              <a:pathLst>
                <a:path w="5996" h="1">
                  <a:moveTo>
                    <a:pt x="0" y="0"/>
                  </a:moveTo>
                  <a:lnTo>
                    <a:pt x="59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44600" y="1979640"/>
              <a:ext cx="432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57560" y="2265480"/>
              <a:ext cx="431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1520" y="3397320"/>
              <a:ext cx="6489720" cy="1440"/>
            </a:xfrm>
            <a:custGeom>
              <a:avLst/>
              <a:gdLst/>
              <a:ahLst/>
              <a:rect l="l" t="t" r="r" b="b"/>
              <a:pathLst>
                <a:path w="5996" h="1">
                  <a:moveTo>
                    <a:pt x="0" y="0"/>
                  </a:moveTo>
                  <a:lnTo>
                    <a:pt x="59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57560" y="2830680"/>
              <a:ext cx="43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49640" y="3112920"/>
              <a:ext cx="432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080" y="4248000"/>
              <a:ext cx="6491160" cy="5040"/>
            </a:xfrm>
            <a:custGeom>
              <a:avLst/>
              <a:gdLst/>
              <a:ahLst/>
              <a:rect l="l" t="t" r="r" b="b"/>
              <a:pathLst>
                <a:path w="5998" h="1">
                  <a:moveTo>
                    <a:pt x="0" y="0"/>
                  </a:moveTo>
                  <a:lnTo>
                    <a:pt x="59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57560" y="3681360"/>
              <a:ext cx="43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49640" y="3967200"/>
              <a:ext cx="432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1520" y="5099040"/>
              <a:ext cx="6489720" cy="1440"/>
            </a:xfrm>
            <a:custGeom>
              <a:avLst/>
              <a:gdLst/>
              <a:ahLst/>
              <a:rect l="l" t="t" r="r" b="b"/>
              <a:pathLst>
                <a:path w="5996" h="1">
                  <a:moveTo>
                    <a:pt x="0" y="0"/>
                  </a:moveTo>
                  <a:lnTo>
                    <a:pt x="59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57560" y="4532400"/>
              <a:ext cx="43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49640" y="4818240"/>
              <a:ext cx="432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1520" y="5962680"/>
              <a:ext cx="6489720" cy="4680"/>
            </a:xfrm>
            <a:custGeom>
              <a:avLst/>
              <a:gdLst/>
              <a:ahLst/>
              <a:rect l="l" t="t" r="r" b="b"/>
              <a:pathLst>
                <a:path w="5996" h="1">
                  <a:moveTo>
                    <a:pt x="0" y="0"/>
                  </a:moveTo>
                  <a:lnTo>
                    <a:pt x="59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57560" y="5383080"/>
              <a:ext cx="43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5665680"/>
              <a:ext cx="432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195640" y="1743120"/>
              <a:ext cx="272880" cy="4185360"/>
              <a:chOff x="2195640" y="1743120"/>
              <a:chExt cx="272880" cy="4185360"/>
            </a:xfrm>
          </p:grpSpPr>
          <p:sp>
            <p:nvSpPr>
              <p:cNvPr id="391" name=""/>
              <p:cNvSpPr/>
              <p:nvPr/>
            </p:nvSpPr>
            <p:spPr>
              <a:xfrm>
                <a:off x="2195640" y="201600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198880" y="2314800"/>
                <a:ext cx="2653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95640" y="174312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95640" y="286236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198880" y="3166920"/>
                <a:ext cx="2653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95640" y="259524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95640" y="371844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98880" y="4013640"/>
                <a:ext cx="2653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95640" y="344916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95640" y="456516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98880" y="4867560"/>
                <a:ext cx="2653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95640" y="429768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95640" y="541908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198880" y="5717880"/>
                <a:ext cx="26532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195640" y="5146200"/>
                <a:ext cx="27288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2179440" y="1221120"/>
              <a:ext cx="2545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2181600" y="1304640"/>
              <a:ext cx="2502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2168280" y="1423440"/>
              <a:ext cx="2667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2176920" y="1086480"/>
              <a:ext cx="25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344680" y="1529280"/>
              <a:ext cx="3901680" cy="180000"/>
              <a:chOff x="2344680" y="1529280"/>
              <a:chExt cx="3901680" cy="180000"/>
            </a:xfrm>
          </p:grpSpPr>
          <p:sp>
            <p:nvSpPr>
              <p:cNvPr id="411" name=""/>
              <p:cNvSpPr/>
              <p:nvPr/>
            </p:nvSpPr>
            <p:spPr>
              <a:xfrm>
                <a:off x="234468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8436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0352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2268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1952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4804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7188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9572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25680" y="1529280"/>
                <a:ext cx="23004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421080" y="152928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48160" y="153540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687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879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085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0305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497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21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9884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1800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4040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6244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801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007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1213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405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593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849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6055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2760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4352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967360" y="1533960"/>
                <a:ext cx="279000" cy="1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4191120" y="380880"/>
              <a:ext cx="360" cy="768600"/>
            </a:xfrm>
            <a:custGeom>
              <a:avLst/>
              <a:gdLst/>
              <a:ahLst/>
              <a:rect l="l" t="t" r="r" b="b"/>
              <a:pathLst>
                <a:path w="1" h="411">
                  <a:moveTo>
                    <a:pt x="0" y="0"/>
                  </a:moveTo>
                  <a:lnTo>
                    <a:pt x="0" y="4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8080" y="379440"/>
              <a:ext cx="1800" cy="752400"/>
            </a:xfrm>
            <a:custGeom>
              <a:avLst/>
              <a:gdLst/>
              <a:ahLst/>
              <a:rect l="l" t="t" r="r" b="b"/>
              <a:pathLst>
                <a:path w="1" h="404">
                  <a:moveTo>
                    <a:pt x="0" y="0"/>
                  </a:moveTo>
                  <a:lnTo>
                    <a:pt x="0" y="4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67360" y="372960"/>
              <a:ext cx="1440" cy="752400"/>
            </a:xfrm>
            <a:custGeom>
              <a:avLst/>
              <a:gdLst/>
              <a:ahLst/>
              <a:rect l="l" t="t" r="r" b="b"/>
              <a:pathLst>
                <a:path w="1" h="404">
                  <a:moveTo>
                    <a:pt x="0" y="0"/>
                  </a:moveTo>
                  <a:lnTo>
                    <a:pt x="0" y="4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33840" y="368280"/>
              <a:ext cx="360" cy="76356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0"/>
                  </a:move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53240" y="368280"/>
              <a:ext cx="1440" cy="76356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0"/>
                  </a:move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1720" y="1243080"/>
              <a:ext cx="7300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34000" y="1179360"/>
              <a:ext cx="67536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4480" y="7018200"/>
              <a:ext cx="645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28760" y="1135080"/>
              <a:ext cx="3934080" cy="481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87520" y="1141560"/>
              <a:ext cx="0" cy="48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2532240" y="1547640"/>
              <a:ext cx="3504960" cy="4381200"/>
              <a:chOff x="2532240" y="1547640"/>
              <a:chExt cx="3504960" cy="4381200"/>
            </a:xfrm>
          </p:grpSpPr>
          <p:sp>
            <p:nvSpPr>
              <p:cNvPr id="453" name=""/>
              <p:cNvSpPr/>
              <p:nvPr/>
            </p:nvSpPr>
            <p:spPr>
              <a:xfrm>
                <a:off x="25322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10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734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9368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150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3632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2562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786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988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1908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4112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6136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8376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1036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242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430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4654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8568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070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2688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482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706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08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1216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320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55444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67468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9456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91696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37200" y="1547640"/>
                <a:ext cx="0" cy="438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5859360" y="760320"/>
              <a:ext cx="71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00" y="457560"/>
              <a:ext cx="409824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SIC ALLOWANCE FOR SUBSISTENCE- CERTIF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" y="792720"/>
              <a:ext cx="16930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RGANIZATION AND ST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5400" y="1143360"/>
              <a:ext cx="2296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AME, SOCIAL SECURITY NUMBER, R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66000" y="492480"/>
              <a:ext cx="90396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UPPLEMEN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61400" y="814680"/>
              <a:ext cx="6782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98600" y="453240"/>
              <a:ext cx="4345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ONT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98920" y="455400"/>
              <a:ext cx="410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53600" y="536400"/>
              <a:ext cx="6249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PO NUMB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7640" y="776520"/>
              <a:ext cx="422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9280" y="6079680"/>
              <a:ext cx="61401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 CERTIFY THAT PURSUANT TO CHAPTER 1, PART THREE, DEPARTMENT OF DEFENS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ILITARY PAY AND ALLOWANCES ENTITLEMENTS MANUAL, THE MEMBERS LIST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OVE ARE ENTITLED TO THE PAYMENT OF SUPPLEMENTAL AND OR PRORA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BSISTENCE ALLOWANCE FOR MEALS ON DATES INDICATE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4920" y="7098120"/>
              <a:ext cx="560880" cy="2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22560" y="7005600"/>
              <a:ext cx="27936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YPED NAME &amp; RANK OF APPROV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UTHOR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38400" y="703404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4680" y="702936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01000" y="7005600"/>
              <a:ext cx="21186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IGNATURE OF APPROV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UTHOR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60" y="8534520"/>
              <a:ext cx="1275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D FORM 14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4720" y="871560"/>
              <a:ext cx="2807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3rd MP BN, FT STEWART, GA 313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44680" y="762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09040" y="766800"/>
              <a:ext cx="414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E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*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83080" y="728640"/>
              <a:ext cx="486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34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88800" y="925560"/>
              <a:ext cx="8017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 MAR 20*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680" y="2063880"/>
              <a:ext cx="15591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ONE, SHARON E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999-00-12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7680" y="17668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77680" y="2038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73040" y="17668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73040" y="2038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06360" y="2038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06360" y="2335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58800" y="2038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58800" y="2335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20960" y="2038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20960" y="23353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92600" y="1773360"/>
              <a:ext cx="250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63920" y="17762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4560" y="20462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54560" y="23004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9760" y="7448400"/>
              <a:ext cx="1001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 MAR 20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47920" y="7499520"/>
              <a:ext cx="2706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ICHAEL D. FLANAGAN, CPT, 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68440" y="75866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65880" y="8593200"/>
              <a:ext cx="2984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84920" y="8545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90760" y="1542960"/>
              <a:ext cx="37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14040" y="967320"/>
              <a:ext cx="6782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849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1520" y="760320"/>
            <a:ext cx="4975200" cy="360"/>
          </a:xfrm>
          <a:custGeom>
            <a:avLst/>
            <a:gdLst/>
            <a:ahLst/>
            <a:rect l="l" t="t" r="r" b="b"/>
            <a:pathLst>
              <a:path w="4597" h="1">
                <a:moveTo>
                  <a:pt x="0" y="0"/>
                </a:moveTo>
                <a:lnTo>
                  <a:pt x="459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14480" y="1125360"/>
            <a:ext cx="6462000" cy="0"/>
            <a:chOff x="114480" y="1125360"/>
            <a:chExt cx="6462000" cy="0"/>
          </a:xfrm>
        </p:grpSpPr>
        <p:sp>
          <p:nvSpPr>
            <p:cNvPr id="530" name=""/>
            <p:cNvSpPr/>
            <p:nvPr/>
          </p:nvSpPr>
          <p:spPr>
            <a:xfrm>
              <a:off x="114480" y="1125360"/>
              <a:ext cx="414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277520" y="1125360"/>
              <a:ext cx="229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11240" y="1695600"/>
            <a:ext cx="646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1520" y="2546280"/>
            <a:ext cx="6489720" cy="1800"/>
          </a:xfrm>
          <a:custGeom>
            <a:avLst/>
            <a:gdLst/>
            <a:ahLst/>
            <a:rect l="l" t="t" r="r" b="b"/>
            <a:pathLst>
              <a:path w="5996" h="1">
                <a:moveTo>
                  <a:pt x="0" y="0"/>
                </a:moveTo>
                <a:lnTo>
                  <a:pt x="59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44600" y="1979640"/>
            <a:ext cx="432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57560" y="2265480"/>
            <a:ext cx="431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1520" y="3397320"/>
            <a:ext cx="6489720" cy="1440"/>
          </a:xfrm>
          <a:custGeom>
            <a:avLst/>
            <a:gdLst/>
            <a:ahLst/>
            <a:rect l="l" t="t" r="r" b="b"/>
            <a:pathLst>
              <a:path w="5996" h="1">
                <a:moveTo>
                  <a:pt x="0" y="0"/>
                </a:moveTo>
                <a:lnTo>
                  <a:pt x="59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57560" y="2830680"/>
            <a:ext cx="430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49640" y="3112920"/>
            <a:ext cx="43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0080" y="4248000"/>
            <a:ext cx="6491160" cy="5040"/>
          </a:xfrm>
          <a:custGeom>
            <a:avLst/>
            <a:gdLst/>
            <a:ahLst/>
            <a:rect l="l" t="t" r="r" b="b"/>
            <a:pathLst>
              <a:path w="5998" h="1">
                <a:moveTo>
                  <a:pt x="0" y="0"/>
                </a:moveTo>
                <a:lnTo>
                  <a:pt x="59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57560" y="3681360"/>
            <a:ext cx="430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49640" y="3967200"/>
            <a:ext cx="43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1520" y="5099040"/>
            <a:ext cx="6489720" cy="1440"/>
          </a:xfrm>
          <a:custGeom>
            <a:avLst/>
            <a:gdLst/>
            <a:ahLst/>
            <a:rect l="l" t="t" r="r" b="b"/>
            <a:pathLst>
              <a:path w="5996" h="1">
                <a:moveTo>
                  <a:pt x="0" y="0"/>
                </a:moveTo>
                <a:lnTo>
                  <a:pt x="59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57560" y="4532400"/>
            <a:ext cx="430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49640" y="4818240"/>
            <a:ext cx="43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1520" y="5962680"/>
            <a:ext cx="6489720" cy="4680"/>
          </a:xfrm>
          <a:custGeom>
            <a:avLst/>
            <a:gdLst/>
            <a:ahLst/>
            <a:rect l="l" t="t" r="r" b="b"/>
            <a:pathLst>
              <a:path w="5996" h="1">
                <a:moveTo>
                  <a:pt x="0" y="0"/>
                </a:moveTo>
                <a:lnTo>
                  <a:pt x="599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57560" y="5383080"/>
            <a:ext cx="430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49640" y="5665680"/>
            <a:ext cx="43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195640" y="1743120"/>
            <a:ext cx="272880" cy="4185360"/>
            <a:chOff x="2195640" y="1743120"/>
            <a:chExt cx="272880" cy="4185360"/>
          </a:xfrm>
        </p:grpSpPr>
        <p:sp>
          <p:nvSpPr>
            <p:cNvPr id="549" name=""/>
            <p:cNvSpPr/>
            <p:nvPr/>
          </p:nvSpPr>
          <p:spPr>
            <a:xfrm>
              <a:off x="2195640" y="201600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98880" y="2314800"/>
              <a:ext cx="265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95640" y="174312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95640" y="286236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8880" y="3166920"/>
              <a:ext cx="265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95640" y="259524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95640" y="371844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8880" y="4013640"/>
              <a:ext cx="265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95640" y="344916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95640" y="456516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98880" y="4867560"/>
              <a:ext cx="265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95640" y="429768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95640" y="541908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98880" y="5717880"/>
              <a:ext cx="265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95640" y="5146200"/>
              <a:ext cx="272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 rot="16200000">
            <a:off x="2179440" y="1221120"/>
            <a:ext cx="25452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2181600" y="1304640"/>
            <a:ext cx="25020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2168280" y="1423440"/>
            <a:ext cx="26676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2176920" y="1086480"/>
            <a:ext cx="25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4468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0352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2268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4804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7188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9572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25680" y="1529280"/>
            <a:ext cx="2300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21080" y="152928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48160" y="153540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687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879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085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305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497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721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9884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1800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6244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801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007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213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05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93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4849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055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2760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4352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67360" y="1533960"/>
            <a:ext cx="279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5800" y="363600"/>
            <a:ext cx="360" cy="768240"/>
          </a:xfrm>
          <a:custGeom>
            <a:avLst/>
            <a:gdLst/>
            <a:ahLst/>
            <a:rect l="l" t="t" r="r" b="b"/>
            <a:pathLst>
              <a:path w="1" h="411">
                <a:moveTo>
                  <a:pt x="0" y="0"/>
                </a:moveTo>
                <a:lnTo>
                  <a:pt x="0" y="4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48080" y="379440"/>
            <a:ext cx="1800" cy="752400"/>
          </a:xfrm>
          <a:custGeom>
            <a:avLst/>
            <a:gdLst/>
            <a:ahLst/>
            <a:rect l="l" t="t" r="r" b="b"/>
            <a:pathLst>
              <a:path w="1" h="404">
                <a:moveTo>
                  <a:pt x="0" y="0"/>
                </a:moveTo>
                <a:lnTo>
                  <a:pt x="0" y="40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67360" y="372960"/>
            <a:ext cx="1440" cy="752400"/>
          </a:xfrm>
          <a:custGeom>
            <a:avLst/>
            <a:gdLst/>
            <a:ahLst/>
            <a:rect l="l" t="t" r="r" b="b"/>
            <a:pathLst>
              <a:path w="1" h="404">
                <a:moveTo>
                  <a:pt x="0" y="0"/>
                </a:moveTo>
                <a:lnTo>
                  <a:pt x="0" y="40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33840" y="368280"/>
            <a:ext cx="360" cy="763560"/>
          </a:xfrm>
          <a:custGeom>
            <a:avLst/>
            <a:gdLst/>
            <a:ahLst/>
            <a:rect l="l" t="t" r="r" b="b"/>
            <a:pathLst>
              <a:path w="1" h="409">
                <a:moveTo>
                  <a:pt x="0" y="0"/>
                </a:moveTo>
                <a:lnTo>
                  <a:pt x="0" y="4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53240" y="368280"/>
            <a:ext cx="1440" cy="763560"/>
          </a:xfrm>
          <a:custGeom>
            <a:avLst/>
            <a:gdLst/>
            <a:ahLst/>
            <a:rect l="l" t="t" r="r" b="b"/>
            <a:pathLst>
              <a:path w="1" h="409">
                <a:moveTo>
                  <a:pt x="0" y="0"/>
                </a:moveTo>
                <a:lnTo>
                  <a:pt x="0" y="4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11720" y="1243080"/>
            <a:ext cx="7300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34000" y="1179360"/>
            <a:ext cx="6753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80" y="7018200"/>
            <a:ext cx="645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28760" y="1135080"/>
            <a:ext cx="3934080" cy="481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87520" y="1141560"/>
            <a:ext cx="0" cy="48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532240" y="1547640"/>
            <a:ext cx="3504960" cy="4381200"/>
            <a:chOff x="2532240" y="1547640"/>
            <a:chExt cx="3504960" cy="4381200"/>
          </a:xfrm>
        </p:grpSpPr>
        <p:sp>
          <p:nvSpPr>
            <p:cNvPr id="610" name=""/>
            <p:cNvSpPr/>
            <p:nvPr/>
          </p:nvSpPr>
          <p:spPr>
            <a:xfrm>
              <a:off x="25322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510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734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9368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150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3632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562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786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988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1908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4112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6136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8376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036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242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430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654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8568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070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2688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482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706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908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1216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320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5444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7468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9456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1696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37200" y="1547640"/>
              <a:ext cx="0" cy="43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859360" y="760320"/>
            <a:ext cx="71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00" y="462240"/>
            <a:ext cx="4098240" cy="2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ALLOWANCE FOR SUBSISTENCE- CER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240" y="792720"/>
            <a:ext cx="169308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ZATION AND S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-5400" y="1143360"/>
            <a:ext cx="2296800" cy="1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ME, SOCIAL SECURITY NUMBER, 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66000" y="492480"/>
            <a:ext cx="90396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PPLEMEN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61400" y="814680"/>
            <a:ext cx="6782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RA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98600" y="453240"/>
            <a:ext cx="434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98920" y="455400"/>
            <a:ext cx="41004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53600" y="536400"/>
            <a:ext cx="6249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PO 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77640" y="776520"/>
            <a:ext cx="42228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6079680"/>
            <a:ext cx="61401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CERTIFY THAT PURSUANT TO CHAPTER 1, PART THREE, DEPARTMENT OF DEFEN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AY AND ALLOWANCES ENTITLEMENTS MANUAL, THE MEMBERS LIS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BOVE ARE ENTITLED TO THE PAYMENT OF SUPPLEMENTAL AND OR PR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ISTENCE ALLOWANCE FOR MEALS ON DATES INDI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4920" y="7098120"/>
            <a:ext cx="560880" cy="2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22560" y="7005600"/>
            <a:ext cx="2793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D NAME &amp; RANK OF APPROV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38400" y="7034040"/>
            <a:ext cx="0" cy="14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14680" y="7029360"/>
            <a:ext cx="0" cy="14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01000" y="7005600"/>
            <a:ext cx="2118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GNATURE OF APPROV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160" y="8534520"/>
            <a:ext cx="1275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 FORM 14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4720" y="871560"/>
            <a:ext cx="2807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rd MP BN, FT STEWART, GA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44680" y="49068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9040" y="766800"/>
            <a:ext cx="41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83080" y="72864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3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88800" y="925560"/>
            <a:ext cx="751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FEB 20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5320" y="2063880"/>
            <a:ext cx="1653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ORTT, GLENN 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99-00-02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77680" y="17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77680" y="2038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73040" y="17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73040" y="2038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06360" y="2038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06360" y="2335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258800" y="2038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58800" y="2335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20960" y="2038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20960" y="2335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92600" y="1706400"/>
            <a:ext cx="25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63920" y="177624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54560" y="204624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54560" y="230040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" y="7448400"/>
            <a:ext cx="93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FEB 2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7499520"/>
            <a:ext cx="270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HAEL D. FLANAGAN, CPT, 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68440" y="75866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65880" y="8593200"/>
            <a:ext cx="2984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51880" y="86504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90760" y="1542960"/>
            <a:ext cx="377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16440" y="1704960"/>
            <a:ext cx="25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64120" y="1700280"/>
            <a:ext cx="25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19200" y="2038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19200" y="2335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0" y="0"/>
          <a:ext cx="6858000" cy="88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324864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120" y="7086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cript MT Bold"/>
              </a:rPr>
              <a:t>Joe R.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1" name=""/>
          <p:cNvGraphicFramePr/>
          <p:nvPr/>
        </p:nvGraphicFramePr>
        <p:xfrm>
          <a:off x="0" y="0"/>
          <a:ext cx="699444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9944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3337560" y="8697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0" y="0"/>
          <a:ext cx="6783480" cy="899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83480" cy="899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318492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71960" y="25336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1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238920" y="8545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495360" y="1143000"/>
            <a:ext cx="5838840" cy="6019920"/>
            <a:chOff x="495360" y="1143000"/>
            <a:chExt cx="5838840" cy="6019920"/>
          </a:xfrm>
        </p:grpSpPr>
        <p:grpSp>
          <p:nvGrpSpPr>
            <p:cNvPr id="700" name=""/>
            <p:cNvGrpSpPr/>
            <p:nvPr/>
          </p:nvGrpSpPr>
          <p:grpSpPr>
            <a:xfrm>
              <a:off x="566640" y="2135160"/>
              <a:ext cx="5582880" cy="4870080"/>
              <a:chOff x="566640" y="2135160"/>
              <a:chExt cx="5582880" cy="4870080"/>
            </a:xfrm>
          </p:grpSpPr>
          <p:sp>
            <p:nvSpPr>
              <p:cNvPr id="701" name=""/>
              <p:cNvSpPr/>
              <p:nvPr/>
            </p:nvSpPr>
            <p:spPr>
              <a:xfrm>
                <a:off x="606240" y="2297520"/>
                <a:ext cx="5504760" cy="4707720"/>
              </a:xfrm>
              <a:custGeom>
                <a:avLst/>
                <a:gdLst/>
                <a:ahLst/>
                <a:rect l="l" t="t" r="r" b="b"/>
                <a:pathLst>
                  <a:path w="3315" h="4691">
                    <a:moveTo>
                      <a:pt x="1658" y="4691"/>
                    </a:moveTo>
                    <a:lnTo>
                      <a:pt x="3315" y="2346"/>
                    </a:lnTo>
                    <a:lnTo>
                      <a:pt x="1658" y="0"/>
                    </a:lnTo>
                    <a:lnTo>
                      <a:pt x="0" y="2346"/>
                    </a:lnTo>
                    <a:lnTo>
                      <a:pt x="1658" y="46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6240" y="2169000"/>
                <a:ext cx="5504760" cy="4705920"/>
              </a:xfrm>
              <a:custGeom>
                <a:avLst/>
                <a:gdLst/>
                <a:ahLst/>
                <a:rect l="l" t="t" r="r" b="b"/>
                <a:pathLst>
                  <a:path w="3315" h="4690">
                    <a:moveTo>
                      <a:pt x="1658" y="4690"/>
                    </a:moveTo>
                    <a:lnTo>
                      <a:pt x="3315" y="2346"/>
                    </a:lnTo>
                    <a:lnTo>
                      <a:pt x="1658" y="0"/>
                    </a:lnTo>
                    <a:lnTo>
                      <a:pt x="0" y="2346"/>
                    </a:lnTo>
                    <a:lnTo>
                      <a:pt x="1658" y="46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340080" y="4506840"/>
                <a:ext cx="2809440" cy="2383920"/>
              </a:xfrm>
              <a:custGeom>
                <a:avLst/>
                <a:gdLst/>
                <a:ahLst/>
                <a:rect l="l" t="t" r="r" b="b"/>
                <a:pathLst>
                  <a:path w="1692" h="2376">
                    <a:moveTo>
                      <a:pt x="1657" y="32"/>
                    </a:moveTo>
                    <a:lnTo>
                      <a:pt x="1657" y="0"/>
                    </a:lnTo>
                    <a:lnTo>
                      <a:pt x="0" y="2345"/>
                    </a:lnTo>
                    <a:lnTo>
                      <a:pt x="23" y="2376"/>
                    </a:lnTo>
                    <a:lnTo>
                      <a:pt x="1680" y="32"/>
                    </a:lnTo>
                    <a:lnTo>
                      <a:pt x="1680" y="0"/>
                    </a:lnTo>
                    <a:lnTo>
                      <a:pt x="1680" y="32"/>
                    </a:lnTo>
                    <a:lnTo>
                      <a:pt x="1692" y="16"/>
                    </a:lnTo>
                    <a:lnTo>
                      <a:pt x="1680" y="0"/>
                    </a:lnTo>
                    <a:lnTo>
                      <a:pt x="165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340080" y="2135160"/>
                <a:ext cx="2789640" cy="2404080"/>
              </a:xfrm>
              <a:custGeom>
                <a:avLst/>
                <a:gdLst/>
                <a:ahLst/>
                <a:rect l="l" t="t" r="r" b="b"/>
                <a:pathLst>
                  <a:path w="1680" h="2396">
                    <a:moveTo>
                      <a:pt x="23" y="50"/>
                    </a:moveTo>
                    <a:lnTo>
                      <a:pt x="0" y="50"/>
                    </a:lnTo>
                    <a:lnTo>
                      <a:pt x="1657" y="2396"/>
                    </a:lnTo>
                    <a:lnTo>
                      <a:pt x="1680" y="2364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23" y="18"/>
                    </a:lnTo>
                    <a:lnTo>
                      <a:pt x="12" y="0"/>
                    </a:lnTo>
                    <a:lnTo>
                      <a:pt x="0" y="18"/>
                    </a:lnTo>
                    <a:lnTo>
                      <a:pt x="23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66640" y="2153160"/>
                <a:ext cx="2811240" cy="2385720"/>
              </a:xfrm>
              <a:custGeom>
                <a:avLst/>
                <a:gdLst/>
                <a:ahLst/>
                <a:rect l="l" t="t" r="r" b="b"/>
                <a:pathLst>
                  <a:path w="1693" h="2378">
                    <a:moveTo>
                      <a:pt x="35" y="2346"/>
                    </a:moveTo>
                    <a:lnTo>
                      <a:pt x="35" y="2378"/>
                    </a:lnTo>
                    <a:lnTo>
                      <a:pt x="1693" y="32"/>
                    </a:lnTo>
                    <a:lnTo>
                      <a:pt x="1670" y="0"/>
                    </a:lnTo>
                    <a:lnTo>
                      <a:pt x="12" y="2346"/>
                    </a:lnTo>
                    <a:lnTo>
                      <a:pt x="12" y="2378"/>
                    </a:lnTo>
                    <a:lnTo>
                      <a:pt x="12" y="2346"/>
                    </a:lnTo>
                    <a:lnTo>
                      <a:pt x="0" y="2362"/>
                    </a:lnTo>
                    <a:lnTo>
                      <a:pt x="12" y="2378"/>
                    </a:lnTo>
                    <a:lnTo>
                      <a:pt x="35" y="23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440" y="4506840"/>
                <a:ext cx="2791440" cy="2402280"/>
              </a:xfrm>
              <a:custGeom>
                <a:avLst/>
                <a:gdLst/>
                <a:ahLst/>
                <a:rect l="l" t="t" r="r" b="b"/>
                <a:pathLst>
                  <a:path w="1681" h="2394">
                    <a:moveTo>
                      <a:pt x="1658" y="2345"/>
                    </a:moveTo>
                    <a:lnTo>
                      <a:pt x="1681" y="2345"/>
                    </a:lnTo>
                    <a:lnTo>
                      <a:pt x="23" y="0"/>
                    </a:lnTo>
                    <a:lnTo>
                      <a:pt x="0" y="32"/>
                    </a:lnTo>
                    <a:lnTo>
                      <a:pt x="1658" y="2376"/>
                    </a:lnTo>
                    <a:lnTo>
                      <a:pt x="1681" y="2376"/>
                    </a:lnTo>
                    <a:lnTo>
                      <a:pt x="1658" y="2376"/>
                    </a:lnTo>
                    <a:lnTo>
                      <a:pt x="1670" y="2394"/>
                    </a:lnTo>
                    <a:lnTo>
                      <a:pt x="1681" y="2376"/>
                    </a:lnTo>
                    <a:lnTo>
                      <a:pt x="1658" y="2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14600" y="2267280"/>
                <a:ext cx="5285520" cy="4521240"/>
              </a:xfrm>
              <a:custGeom>
                <a:avLst/>
                <a:gdLst/>
                <a:ahLst/>
                <a:rect l="l" t="t" r="r" b="b"/>
                <a:pathLst>
                  <a:path w="3183" h="4505">
                    <a:moveTo>
                      <a:pt x="1593" y="4505"/>
                    </a:moveTo>
                    <a:lnTo>
                      <a:pt x="3183" y="2252"/>
                    </a:lnTo>
                    <a:lnTo>
                      <a:pt x="1593" y="0"/>
                    </a:lnTo>
                    <a:lnTo>
                      <a:pt x="0" y="2252"/>
                    </a:lnTo>
                    <a:lnTo>
                      <a:pt x="1593" y="45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2360" y="4426920"/>
                <a:ext cx="245880" cy="210600"/>
              </a:xfrm>
              <a:custGeom>
                <a:avLst/>
                <a:gdLst/>
                <a:ahLst/>
                <a:rect l="l" t="t" r="r" b="b"/>
                <a:pathLst>
                  <a:path w="148" h="209">
                    <a:moveTo>
                      <a:pt x="148" y="105"/>
                    </a:moveTo>
                    <a:lnTo>
                      <a:pt x="74" y="209"/>
                    </a:lnTo>
                    <a:lnTo>
                      <a:pt x="0" y="105"/>
                    </a:lnTo>
                    <a:lnTo>
                      <a:pt x="74" y="0"/>
                    </a:lnTo>
                    <a:lnTo>
                      <a:pt x="148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676480" y="4426920"/>
                <a:ext cx="245880" cy="210600"/>
              </a:xfrm>
              <a:custGeom>
                <a:avLst/>
                <a:gdLst/>
                <a:ahLst/>
                <a:rect l="l" t="t" r="r" b="b"/>
                <a:pathLst>
                  <a:path w="148" h="209">
                    <a:moveTo>
                      <a:pt x="148" y="105"/>
                    </a:moveTo>
                    <a:lnTo>
                      <a:pt x="74" y="209"/>
                    </a:lnTo>
                    <a:lnTo>
                      <a:pt x="0" y="105"/>
                    </a:lnTo>
                    <a:lnTo>
                      <a:pt x="74" y="0"/>
                    </a:lnTo>
                    <a:lnTo>
                      <a:pt x="148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9240" y="5189400"/>
                <a:ext cx="5262120" cy="969120"/>
              </a:xfrm>
              <a:custGeom>
                <a:avLst/>
                <a:gdLst/>
                <a:ahLst/>
                <a:rect l="l" t="t" r="r" b="b"/>
                <a:pathLst>
                  <a:path w="3169" h="967">
                    <a:moveTo>
                      <a:pt x="1586" y="590"/>
                    </a:moveTo>
                    <a:lnTo>
                      <a:pt x="2647" y="590"/>
                    </a:lnTo>
                    <a:lnTo>
                      <a:pt x="2645" y="636"/>
                    </a:lnTo>
                    <a:lnTo>
                      <a:pt x="2645" y="680"/>
                    </a:lnTo>
                    <a:lnTo>
                      <a:pt x="2646" y="717"/>
                    </a:lnTo>
                    <a:lnTo>
                      <a:pt x="2650" y="751"/>
                    </a:lnTo>
                    <a:lnTo>
                      <a:pt x="2655" y="779"/>
                    </a:lnTo>
                    <a:lnTo>
                      <a:pt x="2662" y="800"/>
                    </a:lnTo>
                    <a:lnTo>
                      <a:pt x="2674" y="814"/>
                    </a:lnTo>
                    <a:lnTo>
                      <a:pt x="2686" y="822"/>
                    </a:lnTo>
                    <a:lnTo>
                      <a:pt x="2706" y="823"/>
                    </a:lnTo>
                    <a:lnTo>
                      <a:pt x="2722" y="818"/>
                    </a:lnTo>
                    <a:lnTo>
                      <a:pt x="2735" y="811"/>
                    </a:lnTo>
                    <a:lnTo>
                      <a:pt x="2746" y="799"/>
                    </a:lnTo>
                    <a:lnTo>
                      <a:pt x="2755" y="788"/>
                    </a:lnTo>
                    <a:lnTo>
                      <a:pt x="2765" y="776"/>
                    </a:lnTo>
                    <a:lnTo>
                      <a:pt x="2775" y="767"/>
                    </a:lnTo>
                    <a:lnTo>
                      <a:pt x="2787" y="761"/>
                    </a:lnTo>
                    <a:lnTo>
                      <a:pt x="2785" y="776"/>
                    </a:lnTo>
                    <a:lnTo>
                      <a:pt x="2782" y="795"/>
                    </a:lnTo>
                    <a:lnTo>
                      <a:pt x="2780" y="816"/>
                    </a:lnTo>
                    <a:lnTo>
                      <a:pt x="2779" y="841"/>
                    </a:lnTo>
                    <a:lnTo>
                      <a:pt x="2780" y="864"/>
                    </a:lnTo>
                    <a:lnTo>
                      <a:pt x="2786" y="887"/>
                    </a:lnTo>
                    <a:lnTo>
                      <a:pt x="2796" y="905"/>
                    </a:lnTo>
                    <a:lnTo>
                      <a:pt x="2812" y="919"/>
                    </a:lnTo>
                    <a:lnTo>
                      <a:pt x="2831" y="917"/>
                    </a:lnTo>
                    <a:lnTo>
                      <a:pt x="2851" y="915"/>
                    </a:lnTo>
                    <a:lnTo>
                      <a:pt x="2874" y="914"/>
                    </a:lnTo>
                    <a:lnTo>
                      <a:pt x="2896" y="914"/>
                    </a:lnTo>
                    <a:lnTo>
                      <a:pt x="2921" y="914"/>
                    </a:lnTo>
                    <a:lnTo>
                      <a:pt x="2946" y="915"/>
                    </a:lnTo>
                    <a:lnTo>
                      <a:pt x="2971" y="917"/>
                    </a:lnTo>
                    <a:lnTo>
                      <a:pt x="2997" y="921"/>
                    </a:lnTo>
                    <a:lnTo>
                      <a:pt x="3022" y="924"/>
                    </a:lnTo>
                    <a:lnTo>
                      <a:pt x="3047" y="928"/>
                    </a:lnTo>
                    <a:lnTo>
                      <a:pt x="3071" y="933"/>
                    </a:lnTo>
                    <a:lnTo>
                      <a:pt x="3095" y="938"/>
                    </a:lnTo>
                    <a:lnTo>
                      <a:pt x="3116" y="944"/>
                    </a:lnTo>
                    <a:lnTo>
                      <a:pt x="3136" y="951"/>
                    </a:lnTo>
                    <a:lnTo>
                      <a:pt x="3154" y="958"/>
                    </a:lnTo>
                    <a:lnTo>
                      <a:pt x="3169" y="967"/>
                    </a:lnTo>
                    <a:lnTo>
                      <a:pt x="3156" y="935"/>
                    </a:lnTo>
                    <a:lnTo>
                      <a:pt x="3135" y="905"/>
                    </a:lnTo>
                    <a:lnTo>
                      <a:pt x="3109" y="871"/>
                    </a:lnTo>
                    <a:lnTo>
                      <a:pt x="3080" y="839"/>
                    </a:lnTo>
                    <a:lnTo>
                      <a:pt x="3049" y="804"/>
                    </a:lnTo>
                    <a:lnTo>
                      <a:pt x="3020" y="768"/>
                    </a:lnTo>
                    <a:lnTo>
                      <a:pt x="2994" y="731"/>
                    </a:lnTo>
                    <a:lnTo>
                      <a:pt x="2975" y="692"/>
                    </a:lnTo>
                    <a:lnTo>
                      <a:pt x="2984" y="652"/>
                    </a:lnTo>
                    <a:lnTo>
                      <a:pt x="2997" y="607"/>
                    </a:lnTo>
                    <a:lnTo>
                      <a:pt x="3016" y="565"/>
                    </a:lnTo>
                    <a:lnTo>
                      <a:pt x="3037" y="522"/>
                    </a:lnTo>
                    <a:lnTo>
                      <a:pt x="3061" y="484"/>
                    </a:lnTo>
                    <a:lnTo>
                      <a:pt x="3085" y="448"/>
                    </a:lnTo>
                    <a:lnTo>
                      <a:pt x="3109" y="418"/>
                    </a:lnTo>
                    <a:lnTo>
                      <a:pt x="3131" y="395"/>
                    </a:lnTo>
                    <a:lnTo>
                      <a:pt x="3124" y="392"/>
                    </a:lnTo>
                    <a:lnTo>
                      <a:pt x="3112" y="390"/>
                    </a:lnTo>
                    <a:lnTo>
                      <a:pt x="3100" y="388"/>
                    </a:lnTo>
                    <a:lnTo>
                      <a:pt x="3086" y="384"/>
                    </a:lnTo>
                    <a:lnTo>
                      <a:pt x="3070" y="383"/>
                    </a:lnTo>
                    <a:lnTo>
                      <a:pt x="3054" y="381"/>
                    </a:lnTo>
                    <a:lnTo>
                      <a:pt x="3035" y="381"/>
                    </a:lnTo>
                    <a:lnTo>
                      <a:pt x="3016" y="379"/>
                    </a:lnTo>
                    <a:lnTo>
                      <a:pt x="2997" y="379"/>
                    </a:lnTo>
                    <a:lnTo>
                      <a:pt x="2979" y="377"/>
                    </a:lnTo>
                    <a:lnTo>
                      <a:pt x="2960" y="377"/>
                    </a:lnTo>
                    <a:lnTo>
                      <a:pt x="2941" y="377"/>
                    </a:lnTo>
                    <a:lnTo>
                      <a:pt x="2925" y="377"/>
                    </a:lnTo>
                    <a:lnTo>
                      <a:pt x="2909" y="379"/>
                    </a:lnTo>
                    <a:lnTo>
                      <a:pt x="2894" y="379"/>
                    </a:lnTo>
                    <a:lnTo>
                      <a:pt x="2881" y="381"/>
                    </a:lnTo>
                    <a:lnTo>
                      <a:pt x="2881" y="305"/>
                    </a:lnTo>
                    <a:lnTo>
                      <a:pt x="2879" y="273"/>
                    </a:lnTo>
                    <a:lnTo>
                      <a:pt x="2872" y="246"/>
                    </a:lnTo>
                    <a:lnTo>
                      <a:pt x="2862" y="223"/>
                    </a:lnTo>
                    <a:lnTo>
                      <a:pt x="2850" y="208"/>
                    </a:lnTo>
                    <a:lnTo>
                      <a:pt x="2832" y="200"/>
                    </a:lnTo>
                    <a:lnTo>
                      <a:pt x="2812" y="200"/>
                    </a:lnTo>
                    <a:lnTo>
                      <a:pt x="2790" y="211"/>
                    </a:lnTo>
                    <a:lnTo>
                      <a:pt x="2765" y="232"/>
                    </a:lnTo>
                    <a:lnTo>
                      <a:pt x="2764" y="172"/>
                    </a:lnTo>
                    <a:lnTo>
                      <a:pt x="2762" y="149"/>
                    </a:lnTo>
                    <a:lnTo>
                      <a:pt x="2757" y="121"/>
                    </a:lnTo>
                    <a:lnTo>
                      <a:pt x="2746" y="93"/>
                    </a:lnTo>
                    <a:lnTo>
                      <a:pt x="2730" y="64"/>
                    </a:lnTo>
                    <a:lnTo>
                      <a:pt x="2707" y="39"/>
                    </a:lnTo>
                    <a:lnTo>
                      <a:pt x="2676" y="20"/>
                    </a:lnTo>
                    <a:lnTo>
                      <a:pt x="2636" y="6"/>
                    </a:lnTo>
                    <a:lnTo>
                      <a:pt x="2586" y="0"/>
                    </a:lnTo>
                    <a:lnTo>
                      <a:pt x="1586" y="0"/>
                    </a:lnTo>
                    <a:lnTo>
                      <a:pt x="585" y="0"/>
                    </a:lnTo>
                    <a:lnTo>
                      <a:pt x="535" y="6"/>
                    </a:lnTo>
                    <a:lnTo>
                      <a:pt x="494" y="20"/>
                    </a:lnTo>
                    <a:lnTo>
                      <a:pt x="463" y="39"/>
                    </a:lnTo>
                    <a:lnTo>
                      <a:pt x="439" y="64"/>
                    </a:lnTo>
                    <a:lnTo>
                      <a:pt x="423" y="93"/>
                    </a:lnTo>
                    <a:lnTo>
                      <a:pt x="411" y="121"/>
                    </a:lnTo>
                    <a:lnTo>
                      <a:pt x="406" y="149"/>
                    </a:lnTo>
                    <a:lnTo>
                      <a:pt x="405" y="172"/>
                    </a:lnTo>
                    <a:lnTo>
                      <a:pt x="404" y="232"/>
                    </a:lnTo>
                    <a:lnTo>
                      <a:pt x="379" y="211"/>
                    </a:lnTo>
                    <a:lnTo>
                      <a:pt x="356" y="200"/>
                    </a:lnTo>
                    <a:lnTo>
                      <a:pt x="336" y="200"/>
                    </a:lnTo>
                    <a:lnTo>
                      <a:pt x="320" y="208"/>
                    </a:lnTo>
                    <a:lnTo>
                      <a:pt x="306" y="223"/>
                    </a:lnTo>
                    <a:lnTo>
                      <a:pt x="296" y="246"/>
                    </a:lnTo>
                    <a:lnTo>
                      <a:pt x="290" y="273"/>
                    </a:lnTo>
                    <a:lnTo>
                      <a:pt x="288" y="305"/>
                    </a:lnTo>
                    <a:lnTo>
                      <a:pt x="288" y="381"/>
                    </a:lnTo>
                    <a:lnTo>
                      <a:pt x="275" y="379"/>
                    </a:lnTo>
                    <a:lnTo>
                      <a:pt x="260" y="379"/>
                    </a:lnTo>
                    <a:lnTo>
                      <a:pt x="244" y="377"/>
                    </a:lnTo>
                    <a:lnTo>
                      <a:pt x="228" y="377"/>
                    </a:lnTo>
                    <a:lnTo>
                      <a:pt x="209" y="377"/>
                    </a:lnTo>
                    <a:lnTo>
                      <a:pt x="190" y="377"/>
                    </a:lnTo>
                    <a:lnTo>
                      <a:pt x="171" y="379"/>
                    </a:lnTo>
                    <a:lnTo>
                      <a:pt x="153" y="379"/>
                    </a:lnTo>
                    <a:lnTo>
                      <a:pt x="134" y="381"/>
                    </a:lnTo>
                    <a:lnTo>
                      <a:pt x="115" y="381"/>
                    </a:lnTo>
                    <a:lnTo>
                      <a:pt x="99" y="383"/>
                    </a:lnTo>
                    <a:lnTo>
                      <a:pt x="83" y="384"/>
                    </a:lnTo>
                    <a:lnTo>
                      <a:pt x="69" y="388"/>
                    </a:lnTo>
                    <a:lnTo>
                      <a:pt x="56" y="390"/>
                    </a:lnTo>
                    <a:lnTo>
                      <a:pt x="45" y="392"/>
                    </a:lnTo>
                    <a:lnTo>
                      <a:pt x="38" y="395"/>
                    </a:lnTo>
                    <a:lnTo>
                      <a:pt x="60" y="418"/>
                    </a:lnTo>
                    <a:lnTo>
                      <a:pt x="84" y="448"/>
                    </a:lnTo>
                    <a:lnTo>
                      <a:pt x="108" y="484"/>
                    </a:lnTo>
                    <a:lnTo>
                      <a:pt x="131" y="522"/>
                    </a:lnTo>
                    <a:lnTo>
                      <a:pt x="153" y="565"/>
                    </a:lnTo>
                    <a:lnTo>
                      <a:pt x="171" y="607"/>
                    </a:lnTo>
                    <a:lnTo>
                      <a:pt x="185" y="652"/>
                    </a:lnTo>
                    <a:lnTo>
                      <a:pt x="194" y="692"/>
                    </a:lnTo>
                    <a:lnTo>
                      <a:pt x="175" y="731"/>
                    </a:lnTo>
                    <a:lnTo>
                      <a:pt x="149" y="768"/>
                    </a:lnTo>
                    <a:lnTo>
                      <a:pt x="120" y="804"/>
                    </a:lnTo>
                    <a:lnTo>
                      <a:pt x="90" y="839"/>
                    </a:lnTo>
                    <a:lnTo>
                      <a:pt x="60" y="871"/>
                    </a:lnTo>
                    <a:lnTo>
                      <a:pt x="34" y="905"/>
                    </a:lnTo>
                    <a:lnTo>
                      <a:pt x="13" y="935"/>
                    </a:lnTo>
                    <a:lnTo>
                      <a:pt x="0" y="967"/>
                    </a:lnTo>
                    <a:lnTo>
                      <a:pt x="15" y="958"/>
                    </a:lnTo>
                    <a:lnTo>
                      <a:pt x="33" y="951"/>
                    </a:lnTo>
                    <a:lnTo>
                      <a:pt x="53" y="944"/>
                    </a:lnTo>
                    <a:lnTo>
                      <a:pt x="74" y="938"/>
                    </a:lnTo>
                    <a:lnTo>
                      <a:pt x="98" y="933"/>
                    </a:lnTo>
                    <a:lnTo>
                      <a:pt x="121" y="928"/>
                    </a:lnTo>
                    <a:lnTo>
                      <a:pt x="146" y="924"/>
                    </a:lnTo>
                    <a:lnTo>
                      <a:pt x="171" y="921"/>
                    </a:lnTo>
                    <a:lnTo>
                      <a:pt x="198" y="917"/>
                    </a:lnTo>
                    <a:lnTo>
                      <a:pt x="223" y="915"/>
                    </a:lnTo>
                    <a:lnTo>
                      <a:pt x="248" y="914"/>
                    </a:lnTo>
                    <a:lnTo>
                      <a:pt x="273" y="914"/>
                    </a:lnTo>
                    <a:lnTo>
                      <a:pt x="295" y="914"/>
                    </a:lnTo>
                    <a:lnTo>
                      <a:pt x="318" y="915"/>
                    </a:lnTo>
                    <a:lnTo>
                      <a:pt x="338" y="917"/>
                    </a:lnTo>
                    <a:lnTo>
                      <a:pt x="356" y="919"/>
                    </a:lnTo>
                    <a:lnTo>
                      <a:pt x="373" y="905"/>
                    </a:lnTo>
                    <a:lnTo>
                      <a:pt x="383" y="887"/>
                    </a:lnTo>
                    <a:lnTo>
                      <a:pt x="389" y="864"/>
                    </a:lnTo>
                    <a:lnTo>
                      <a:pt x="390" y="841"/>
                    </a:lnTo>
                    <a:lnTo>
                      <a:pt x="389" y="816"/>
                    </a:lnTo>
                    <a:lnTo>
                      <a:pt x="386" y="795"/>
                    </a:lnTo>
                    <a:lnTo>
                      <a:pt x="384" y="776"/>
                    </a:lnTo>
                    <a:lnTo>
                      <a:pt x="381" y="761"/>
                    </a:lnTo>
                    <a:lnTo>
                      <a:pt x="394" y="767"/>
                    </a:lnTo>
                    <a:lnTo>
                      <a:pt x="404" y="776"/>
                    </a:lnTo>
                    <a:lnTo>
                      <a:pt x="414" y="788"/>
                    </a:lnTo>
                    <a:lnTo>
                      <a:pt x="423" y="799"/>
                    </a:lnTo>
                    <a:lnTo>
                      <a:pt x="434" y="811"/>
                    </a:lnTo>
                    <a:lnTo>
                      <a:pt x="446" y="818"/>
                    </a:lnTo>
                    <a:lnTo>
                      <a:pt x="463" y="823"/>
                    </a:lnTo>
                    <a:lnTo>
                      <a:pt x="483" y="822"/>
                    </a:lnTo>
                    <a:lnTo>
                      <a:pt x="497" y="814"/>
                    </a:lnTo>
                    <a:lnTo>
                      <a:pt x="507" y="800"/>
                    </a:lnTo>
                    <a:lnTo>
                      <a:pt x="514" y="779"/>
                    </a:lnTo>
                    <a:lnTo>
                      <a:pt x="520" y="751"/>
                    </a:lnTo>
                    <a:lnTo>
                      <a:pt x="523" y="717"/>
                    </a:lnTo>
                    <a:lnTo>
                      <a:pt x="524" y="680"/>
                    </a:lnTo>
                    <a:lnTo>
                      <a:pt x="524" y="636"/>
                    </a:lnTo>
                    <a:lnTo>
                      <a:pt x="522" y="590"/>
                    </a:lnTo>
                    <a:lnTo>
                      <a:pt x="1586" y="5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93000" y="5767560"/>
                <a:ext cx="1776600" cy="25920"/>
              </a:xfrm>
              <a:custGeom>
                <a:avLst/>
                <a:gdLst/>
                <a:ahLst/>
                <a:rect l="l" t="t" r="r" b="b"/>
                <a:pathLst>
                  <a:path w="1070" h="25">
                    <a:moveTo>
                      <a:pt x="1069" y="13"/>
                    </a:moveTo>
                    <a:lnTo>
                      <a:pt x="1061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061" y="25"/>
                    </a:lnTo>
                    <a:lnTo>
                      <a:pt x="1054" y="13"/>
                    </a:lnTo>
                    <a:lnTo>
                      <a:pt x="1061" y="25"/>
                    </a:lnTo>
                    <a:lnTo>
                      <a:pt x="1068" y="22"/>
                    </a:lnTo>
                    <a:lnTo>
                      <a:pt x="1070" y="13"/>
                    </a:lnTo>
                    <a:lnTo>
                      <a:pt x="1068" y="4"/>
                    </a:lnTo>
                    <a:lnTo>
                      <a:pt x="1061" y="0"/>
                    </a:lnTo>
                    <a:lnTo>
                      <a:pt x="106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36840" y="5779440"/>
                <a:ext cx="84600" cy="244800"/>
              </a:xfrm>
              <a:custGeom>
                <a:avLst/>
                <a:gdLst/>
                <a:ahLst/>
                <a:rect l="l" t="t" r="r" b="b"/>
                <a:pathLst>
                  <a:path w="51" h="242">
                    <a:moveTo>
                      <a:pt x="51" y="221"/>
                    </a:moveTo>
                    <a:lnTo>
                      <a:pt x="50" y="221"/>
                    </a:lnTo>
                    <a:lnTo>
                      <a:pt x="41" y="216"/>
                    </a:lnTo>
                    <a:lnTo>
                      <a:pt x="33" y="203"/>
                    </a:lnTo>
                    <a:lnTo>
                      <a:pt x="26" y="186"/>
                    </a:lnTo>
                    <a:lnTo>
                      <a:pt x="21" y="159"/>
                    </a:lnTo>
                    <a:lnTo>
                      <a:pt x="18" y="127"/>
                    </a:lnTo>
                    <a:lnTo>
                      <a:pt x="18" y="90"/>
                    </a:lnTo>
                    <a:lnTo>
                      <a:pt x="16" y="46"/>
                    </a:lnTo>
                    <a:lnTo>
                      <a:pt x="19" y="0"/>
                    </a:lnTo>
                    <a:lnTo>
                      <a:pt x="4" y="0"/>
                    </a:lnTo>
                    <a:lnTo>
                      <a:pt x="1" y="46"/>
                    </a:lnTo>
                    <a:lnTo>
                      <a:pt x="0" y="90"/>
                    </a:lnTo>
                    <a:lnTo>
                      <a:pt x="3" y="127"/>
                    </a:lnTo>
                    <a:lnTo>
                      <a:pt x="6" y="163"/>
                    </a:lnTo>
                    <a:lnTo>
                      <a:pt x="11" y="193"/>
                    </a:lnTo>
                    <a:lnTo>
                      <a:pt x="20" y="217"/>
                    </a:lnTo>
                    <a:lnTo>
                      <a:pt x="34" y="233"/>
                    </a:lnTo>
                    <a:lnTo>
                      <a:pt x="50" y="242"/>
                    </a:lnTo>
                    <a:lnTo>
                      <a:pt x="49" y="242"/>
                    </a:lnTo>
                    <a:lnTo>
                      <a:pt x="51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17840" y="5941800"/>
                <a:ext cx="182520" cy="82080"/>
              </a:xfrm>
              <a:custGeom>
                <a:avLst/>
                <a:gdLst/>
                <a:ahLst/>
                <a:rect l="l" t="t" r="r" b="b"/>
                <a:pathLst>
                  <a:path w="110" h="83">
                    <a:moveTo>
                      <a:pt x="110" y="12"/>
                    </a:moveTo>
                    <a:lnTo>
                      <a:pt x="101" y="0"/>
                    </a:lnTo>
                    <a:lnTo>
                      <a:pt x="87" y="5"/>
                    </a:lnTo>
                    <a:lnTo>
                      <a:pt x="75" y="16"/>
                    </a:lnTo>
                    <a:lnTo>
                      <a:pt x="65" y="28"/>
                    </a:lnTo>
                    <a:lnTo>
                      <a:pt x="56" y="39"/>
                    </a:lnTo>
                    <a:lnTo>
                      <a:pt x="46" y="49"/>
                    </a:lnTo>
                    <a:lnTo>
                      <a:pt x="35" y="56"/>
                    </a:lnTo>
                    <a:lnTo>
                      <a:pt x="21" y="62"/>
                    </a:lnTo>
                    <a:lnTo>
                      <a:pt x="2" y="60"/>
                    </a:lnTo>
                    <a:lnTo>
                      <a:pt x="0" y="81"/>
                    </a:lnTo>
                    <a:lnTo>
                      <a:pt x="21" y="83"/>
                    </a:lnTo>
                    <a:lnTo>
                      <a:pt x="40" y="78"/>
                    </a:lnTo>
                    <a:lnTo>
                      <a:pt x="54" y="71"/>
                    </a:lnTo>
                    <a:lnTo>
                      <a:pt x="66" y="56"/>
                    </a:lnTo>
                    <a:lnTo>
                      <a:pt x="75" y="46"/>
                    </a:lnTo>
                    <a:lnTo>
                      <a:pt x="85" y="33"/>
                    </a:lnTo>
                    <a:lnTo>
                      <a:pt x="92" y="26"/>
                    </a:lnTo>
                    <a:lnTo>
                      <a:pt x="104" y="21"/>
                    </a:lnTo>
                    <a:lnTo>
                      <a:pt x="95" y="9"/>
                    </a:lnTo>
                    <a:lnTo>
                      <a:pt x="104" y="21"/>
                    </a:lnTo>
                    <a:lnTo>
                      <a:pt x="109" y="17"/>
                    </a:lnTo>
                    <a:lnTo>
                      <a:pt x="110" y="9"/>
                    </a:lnTo>
                    <a:lnTo>
                      <a:pt x="107" y="2"/>
                    </a:lnTo>
                    <a:lnTo>
                      <a:pt x="101" y="0"/>
                    </a:lnTo>
                    <a:lnTo>
                      <a:pt x="1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359320" y="5950080"/>
                <a:ext cx="82800" cy="170640"/>
              </a:xfrm>
              <a:custGeom>
                <a:avLst/>
                <a:gdLst/>
                <a:ahLst/>
                <a:rect l="l" t="t" r="r" b="b"/>
                <a:pathLst>
                  <a:path w="50" h="169">
                    <a:moveTo>
                      <a:pt x="42" y="148"/>
                    </a:moveTo>
                    <a:lnTo>
                      <a:pt x="45" y="148"/>
                    </a:lnTo>
                    <a:lnTo>
                      <a:pt x="31" y="136"/>
                    </a:lnTo>
                    <a:lnTo>
                      <a:pt x="24" y="122"/>
                    </a:lnTo>
                    <a:lnTo>
                      <a:pt x="17" y="102"/>
                    </a:lnTo>
                    <a:lnTo>
                      <a:pt x="17" y="81"/>
                    </a:lnTo>
                    <a:lnTo>
                      <a:pt x="17" y="56"/>
                    </a:lnTo>
                    <a:lnTo>
                      <a:pt x="20" y="37"/>
                    </a:lnTo>
                    <a:lnTo>
                      <a:pt x="22" y="17"/>
                    </a:lnTo>
                    <a:lnTo>
                      <a:pt x="25" y="3"/>
                    </a:lnTo>
                    <a:lnTo>
                      <a:pt x="10" y="0"/>
                    </a:lnTo>
                    <a:lnTo>
                      <a:pt x="7" y="14"/>
                    </a:lnTo>
                    <a:lnTo>
                      <a:pt x="5" y="33"/>
                    </a:lnTo>
                    <a:lnTo>
                      <a:pt x="2" y="56"/>
                    </a:lnTo>
                    <a:lnTo>
                      <a:pt x="0" y="81"/>
                    </a:lnTo>
                    <a:lnTo>
                      <a:pt x="2" y="106"/>
                    </a:lnTo>
                    <a:lnTo>
                      <a:pt x="9" y="132"/>
                    </a:lnTo>
                    <a:lnTo>
                      <a:pt x="21" y="154"/>
                    </a:lnTo>
                    <a:lnTo>
                      <a:pt x="40" y="169"/>
                    </a:lnTo>
                    <a:lnTo>
                      <a:pt x="42" y="169"/>
                    </a:lnTo>
                    <a:lnTo>
                      <a:pt x="40" y="169"/>
                    </a:lnTo>
                    <a:lnTo>
                      <a:pt x="46" y="168"/>
                    </a:lnTo>
                    <a:lnTo>
                      <a:pt x="50" y="161"/>
                    </a:lnTo>
                    <a:lnTo>
                      <a:pt x="50" y="154"/>
                    </a:lnTo>
                    <a:lnTo>
                      <a:pt x="45" y="148"/>
                    </a:lnTo>
                    <a:lnTo>
                      <a:pt x="42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28800" y="6092280"/>
                <a:ext cx="604080" cy="76320"/>
              </a:xfrm>
              <a:custGeom>
                <a:avLst/>
                <a:gdLst/>
                <a:ahLst/>
                <a:rect l="l" t="t" r="r" b="b"/>
                <a:pathLst>
                  <a:path w="364" h="76">
                    <a:moveTo>
                      <a:pt x="349" y="69"/>
                    </a:moveTo>
                    <a:lnTo>
                      <a:pt x="359" y="55"/>
                    </a:lnTo>
                    <a:lnTo>
                      <a:pt x="344" y="46"/>
                    </a:lnTo>
                    <a:lnTo>
                      <a:pt x="326" y="39"/>
                    </a:lnTo>
                    <a:lnTo>
                      <a:pt x="305" y="32"/>
                    </a:lnTo>
                    <a:lnTo>
                      <a:pt x="284" y="27"/>
                    </a:lnTo>
                    <a:lnTo>
                      <a:pt x="260" y="21"/>
                    </a:lnTo>
                    <a:lnTo>
                      <a:pt x="235" y="16"/>
                    </a:lnTo>
                    <a:lnTo>
                      <a:pt x="210" y="13"/>
                    </a:lnTo>
                    <a:lnTo>
                      <a:pt x="185" y="9"/>
                    </a:lnTo>
                    <a:lnTo>
                      <a:pt x="159" y="5"/>
                    </a:lnTo>
                    <a:lnTo>
                      <a:pt x="134" y="4"/>
                    </a:lnTo>
                    <a:lnTo>
                      <a:pt x="109" y="0"/>
                    </a:lnTo>
                    <a:lnTo>
                      <a:pt x="84" y="0"/>
                    </a:lnTo>
                    <a:lnTo>
                      <a:pt x="62" y="0"/>
                    </a:lnTo>
                    <a:lnTo>
                      <a:pt x="39" y="4"/>
                    </a:lnTo>
                    <a:lnTo>
                      <a:pt x="19" y="5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19" y="27"/>
                    </a:lnTo>
                    <a:lnTo>
                      <a:pt x="39" y="25"/>
                    </a:lnTo>
                    <a:lnTo>
                      <a:pt x="62" y="25"/>
                    </a:lnTo>
                    <a:lnTo>
                      <a:pt x="84" y="25"/>
                    </a:lnTo>
                    <a:lnTo>
                      <a:pt x="109" y="25"/>
                    </a:lnTo>
                    <a:lnTo>
                      <a:pt x="134" y="25"/>
                    </a:lnTo>
                    <a:lnTo>
                      <a:pt x="159" y="27"/>
                    </a:lnTo>
                    <a:lnTo>
                      <a:pt x="185" y="30"/>
                    </a:lnTo>
                    <a:lnTo>
                      <a:pt x="210" y="34"/>
                    </a:lnTo>
                    <a:lnTo>
                      <a:pt x="235" y="37"/>
                    </a:lnTo>
                    <a:lnTo>
                      <a:pt x="258" y="43"/>
                    </a:lnTo>
                    <a:lnTo>
                      <a:pt x="282" y="48"/>
                    </a:lnTo>
                    <a:lnTo>
                      <a:pt x="303" y="53"/>
                    </a:lnTo>
                    <a:lnTo>
                      <a:pt x="323" y="60"/>
                    </a:lnTo>
                    <a:lnTo>
                      <a:pt x="339" y="67"/>
                    </a:lnTo>
                    <a:lnTo>
                      <a:pt x="354" y="76"/>
                    </a:lnTo>
                    <a:lnTo>
                      <a:pt x="364" y="62"/>
                    </a:lnTo>
                    <a:lnTo>
                      <a:pt x="354" y="76"/>
                    </a:lnTo>
                    <a:lnTo>
                      <a:pt x="361" y="74"/>
                    </a:lnTo>
                    <a:lnTo>
                      <a:pt x="364" y="67"/>
                    </a:lnTo>
                    <a:lnTo>
                      <a:pt x="364" y="60"/>
                    </a:lnTo>
                    <a:lnTo>
                      <a:pt x="359" y="55"/>
                    </a:lnTo>
                    <a:lnTo>
                      <a:pt x="349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86560" y="5869800"/>
                <a:ext cx="346680" cy="292320"/>
              </a:xfrm>
              <a:custGeom>
                <a:avLst/>
                <a:gdLst/>
                <a:ahLst/>
                <a:rect l="l" t="t" r="r" b="b"/>
                <a:pathLst>
                  <a:path w="209" h="290">
                    <a:moveTo>
                      <a:pt x="0" y="11"/>
                    </a:moveTo>
                    <a:lnTo>
                      <a:pt x="0" y="18"/>
                    </a:lnTo>
                    <a:lnTo>
                      <a:pt x="20" y="58"/>
                    </a:lnTo>
                    <a:lnTo>
                      <a:pt x="48" y="97"/>
                    </a:lnTo>
                    <a:lnTo>
                      <a:pt x="77" y="133"/>
                    </a:lnTo>
                    <a:lnTo>
                      <a:pt x="108" y="168"/>
                    </a:lnTo>
                    <a:lnTo>
                      <a:pt x="137" y="200"/>
                    </a:lnTo>
                    <a:lnTo>
                      <a:pt x="163" y="234"/>
                    </a:lnTo>
                    <a:lnTo>
                      <a:pt x="183" y="262"/>
                    </a:lnTo>
                    <a:lnTo>
                      <a:pt x="194" y="290"/>
                    </a:lnTo>
                    <a:lnTo>
                      <a:pt x="209" y="283"/>
                    </a:lnTo>
                    <a:lnTo>
                      <a:pt x="196" y="248"/>
                    </a:lnTo>
                    <a:lnTo>
                      <a:pt x="173" y="216"/>
                    </a:lnTo>
                    <a:lnTo>
                      <a:pt x="147" y="182"/>
                    </a:lnTo>
                    <a:lnTo>
                      <a:pt x="118" y="150"/>
                    </a:lnTo>
                    <a:lnTo>
                      <a:pt x="87" y="115"/>
                    </a:lnTo>
                    <a:lnTo>
                      <a:pt x="58" y="80"/>
                    </a:lnTo>
                    <a:lnTo>
                      <a:pt x="33" y="44"/>
                    </a:lnTo>
                    <a:lnTo>
                      <a:pt x="15" y="7"/>
                    </a:lnTo>
                    <a:lnTo>
                      <a:pt x="15" y="14"/>
                    </a:lnTo>
                    <a:lnTo>
                      <a:pt x="15" y="7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86560" y="5574600"/>
                <a:ext cx="283680" cy="311040"/>
              </a:xfrm>
              <a:custGeom>
                <a:avLst/>
                <a:gdLst/>
                <a:ahLst/>
                <a:rect l="l" t="t" r="r" b="b"/>
                <a:pathLst>
                  <a:path w="171" h="310">
                    <a:moveTo>
                      <a:pt x="162" y="22"/>
                    </a:moveTo>
                    <a:lnTo>
                      <a:pt x="160" y="2"/>
                    </a:lnTo>
                    <a:lnTo>
                      <a:pt x="137" y="25"/>
                    </a:lnTo>
                    <a:lnTo>
                      <a:pt x="113" y="55"/>
                    </a:lnTo>
                    <a:lnTo>
                      <a:pt x="88" y="92"/>
                    </a:lnTo>
                    <a:lnTo>
                      <a:pt x="64" y="131"/>
                    </a:lnTo>
                    <a:lnTo>
                      <a:pt x="43" y="176"/>
                    </a:lnTo>
                    <a:lnTo>
                      <a:pt x="23" y="218"/>
                    </a:lnTo>
                    <a:lnTo>
                      <a:pt x="9" y="264"/>
                    </a:lnTo>
                    <a:lnTo>
                      <a:pt x="0" y="307"/>
                    </a:lnTo>
                    <a:lnTo>
                      <a:pt x="15" y="310"/>
                    </a:lnTo>
                    <a:lnTo>
                      <a:pt x="24" y="271"/>
                    </a:lnTo>
                    <a:lnTo>
                      <a:pt x="38" y="229"/>
                    </a:lnTo>
                    <a:lnTo>
                      <a:pt x="55" y="186"/>
                    </a:lnTo>
                    <a:lnTo>
                      <a:pt x="77" y="146"/>
                    </a:lnTo>
                    <a:lnTo>
                      <a:pt x="100" y="107"/>
                    </a:lnTo>
                    <a:lnTo>
                      <a:pt x="123" y="73"/>
                    </a:lnTo>
                    <a:lnTo>
                      <a:pt x="147" y="43"/>
                    </a:lnTo>
                    <a:lnTo>
                      <a:pt x="168" y="20"/>
                    </a:lnTo>
                    <a:lnTo>
                      <a:pt x="167" y="0"/>
                    </a:lnTo>
                    <a:lnTo>
                      <a:pt x="168" y="20"/>
                    </a:lnTo>
                    <a:lnTo>
                      <a:pt x="171" y="13"/>
                    </a:lnTo>
                    <a:lnTo>
                      <a:pt x="171" y="6"/>
                    </a:lnTo>
                    <a:lnTo>
                      <a:pt x="166" y="0"/>
                    </a:lnTo>
                    <a:lnTo>
                      <a:pt x="160" y="2"/>
                    </a:lnTo>
                    <a:lnTo>
                      <a:pt x="16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28520" y="5554440"/>
                <a:ext cx="434880" cy="39960"/>
              </a:xfrm>
              <a:custGeom>
                <a:avLst/>
                <a:gdLst/>
                <a:ahLst/>
                <a:rect l="l" t="t" r="r" b="b"/>
                <a:pathLst>
                  <a:path w="262" h="41">
                    <a:moveTo>
                      <a:pt x="0" y="16"/>
                    </a:moveTo>
                    <a:lnTo>
                      <a:pt x="9" y="27"/>
                    </a:lnTo>
                    <a:lnTo>
                      <a:pt x="22" y="27"/>
                    </a:lnTo>
                    <a:lnTo>
                      <a:pt x="37" y="27"/>
                    </a:lnTo>
                    <a:lnTo>
                      <a:pt x="53" y="25"/>
                    </a:lnTo>
                    <a:lnTo>
                      <a:pt x="69" y="25"/>
                    </a:lnTo>
                    <a:lnTo>
                      <a:pt x="88" y="25"/>
                    </a:lnTo>
                    <a:lnTo>
                      <a:pt x="107" y="25"/>
                    </a:lnTo>
                    <a:lnTo>
                      <a:pt x="125" y="27"/>
                    </a:lnTo>
                    <a:lnTo>
                      <a:pt x="144" y="27"/>
                    </a:lnTo>
                    <a:lnTo>
                      <a:pt x="163" y="28"/>
                    </a:lnTo>
                    <a:lnTo>
                      <a:pt x="182" y="28"/>
                    </a:lnTo>
                    <a:lnTo>
                      <a:pt x="198" y="28"/>
                    </a:lnTo>
                    <a:lnTo>
                      <a:pt x="214" y="30"/>
                    </a:lnTo>
                    <a:lnTo>
                      <a:pt x="228" y="34"/>
                    </a:lnTo>
                    <a:lnTo>
                      <a:pt x="240" y="35"/>
                    </a:lnTo>
                    <a:lnTo>
                      <a:pt x="250" y="37"/>
                    </a:lnTo>
                    <a:lnTo>
                      <a:pt x="257" y="41"/>
                    </a:lnTo>
                    <a:lnTo>
                      <a:pt x="262" y="19"/>
                    </a:lnTo>
                    <a:lnTo>
                      <a:pt x="253" y="16"/>
                    </a:lnTo>
                    <a:lnTo>
                      <a:pt x="240" y="14"/>
                    </a:lnTo>
                    <a:lnTo>
                      <a:pt x="228" y="12"/>
                    </a:lnTo>
                    <a:lnTo>
                      <a:pt x="214" y="9"/>
                    </a:lnTo>
                    <a:lnTo>
                      <a:pt x="198" y="7"/>
                    </a:lnTo>
                    <a:lnTo>
                      <a:pt x="182" y="4"/>
                    </a:lnTo>
                    <a:lnTo>
                      <a:pt x="163" y="4"/>
                    </a:lnTo>
                    <a:lnTo>
                      <a:pt x="144" y="2"/>
                    </a:lnTo>
                    <a:lnTo>
                      <a:pt x="125" y="2"/>
                    </a:lnTo>
                    <a:lnTo>
                      <a:pt x="107" y="0"/>
                    </a:lnTo>
                    <a:lnTo>
                      <a:pt x="88" y="0"/>
                    </a:lnTo>
                    <a:lnTo>
                      <a:pt x="69" y="0"/>
                    </a:lnTo>
                    <a:lnTo>
                      <a:pt x="53" y="0"/>
                    </a:lnTo>
                    <a:lnTo>
                      <a:pt x="37" y="2"/>
                    </a:lnTo>
                    <a:lnTo>
                      <a:pt x="22" y="2"/>
                    </a:lnTo>
                    <a:lnTo>
                      <a:pt x="9" y="5"/>
                    </a:lnTo>
                    <a:lnTo>
                      <a:pt x="18" y="16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2" y="16"/>
                    </a:lnTo>
                    <a:lnTo>
                      <a:pt x="4" y="23"/>
                    </a:lnTo>
                    <a:lnTo>
                      <a:pt x="9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28520" y="5482080"/>
                <a:ext cx="29520" cy="88560"/>
              </a:xfrm>
              <a:custGeom>
                <a:avLst/>
                <a:gdLst/>
                <a:ahLst/>
                <a:rect l="l" t="t" r="r" b="b"/>
                <a:pathLst>
                  <a:path w="18" h="89">
                    <a:moveTo>
                      <a:pt x="0" y="13"/>
                    </a:moveTo>
                    <a:lnTo>
                      <a:pt x="0" y="13"/>
                    </a:lnTo>
                    <a:lnTo>
                      <a:pt x="0" y="89"/>
                    </a:lnTo>
                    <a:lnTo>
                      <a:pt x="18" y="89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337360" y="5378040"/>
                <a:ext cx="221040" cy="116280"/>
              </a:xfrm>
              <a:custGeom>
                <a:avLst/>
                <a:gdLst/>
                <a:ahLst/>
                <a:rect l="l" t="t" r="r" b="b"/>
                <a:pathLst>
                  <a:path w="133" h="115">
                    <a:moveTo>
                      <a:pt x="0" y="42"/>
                    </a:moveTo>
                    <a:lnTo>
                      <a:pt x="13" y="51"/>
                    </a:lnTo>
                    <a:lnTo>
                      <a:pt x="35" y="32"/>
                    </a:lnTo>
                    <a:lnTo>
                      <a:pt x="57" y="21"/>
                    </a:lnTo>
                    <a:lnTo>
                      <a:pt x="75" y="21"/>
                    </a:lnTo>
                    <a:lnTo>
                      <a:pt x="89" y="28"/>
                    </a:lnTo>
                    <a:lnTo>
                      <a:pt x="99" y="41"/>
                    </a:lnTo>
                    <a:lnTo>
                      <a:pt x="108" y="60"/>
                    </a:lnTo>
                    <a:lnTo>
                      <a:pt x="114" y="85"/>
                    </a:lnTo>
                    <a:lnTo>
                      <a:pt x="115" y="115"/>
                    </a:lnTo>
                    <a:lnTo>
                      <a:pt x="133" y="115"/>
                    </a:lnTo>
                    <a:lnTo>
                      <a:pt x="129" y="81"/>
                    </a:lnTo>
                    <a:lnTo>
                      <a:pt x="123" y="53"/>
                    </a:lnTo>
                    <a:lnTo>
                      <a:pt x="112" y="26"/>
                    </a:lnTo>
                    <a:lnTo>
                      <a:pt x="97" y="7"/>
                    </a:lnTo>
                    <a:lnTo>
                      <a:pt x="75" y="0"/>
                    </a:lnTo>
                    <a:lnTo>
                      <a:pt x="54" y="0"/>
                    </a:lnTo>
                    <a:lnTo>
                      <a:pt x="30" y="10"/>
                    </a:lnTo>
                    <a:lnTo>
                      <a:pt x="3" y="33"/>
                    </a:lnTo>
                    <a:lnTo>
                      <a:pt x="15" y="42"/>
                    </a:lnTo>
                    <a:lnTo>
                      <a:pt x="3" y="33"/>
                    </a:lnTo>
                    <a:lnTo>
                      <a:pt x="0" y="41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3" y="51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34480" y="5347800"/>
                <a:ext cx="28080" cy="7416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" y="12"/>
                    </a:moveTo>
                    <a:lnTo>
                      <a:pt x="1" y="12"/>
                    </a:lnTo>
                    <a:lnTo>
                      <a:pt x="2" y="72"/>
                    </a:lnTo>
                    <a:lnTo>
                      <a:pt x="17" y="7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2" y="3"/>
                    </a:lnTo>
                    <a:lnTo>
                      <a:pt x="0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53320" y="5177160"/>
                <a:ext cx="307080" cy="18468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0" y="25"/>
                    </a:moveTo>
                    <a:lnTo>
                      <a:pt x="0" y="25"/>
                    </a:lnTo>
                    <a:lnTo>
                      <a:pt x="49" y="28"/>
                    </a:lnTo>
                    <a:lnTo>
                      <a:pt x="88" y="43"/>
                    </a:lnTo>
                    <a:lnTo>
                      <a:pt x="118" y="62"/>
                    </a:lnTo>
                    <a:lnTo>
                      <a:pt x="139" y="85"/>
                    </a:lnTo>
                    <a:lnTo>
                      <a:pt x="154" y="110"/>
                    </a:lnTo>
                    <a:lnTo>
                      <a:pt x="164" y="136"/>
                    </a:lnTo>
                    <a:lnTo>
                      <a:pt x="169" y="163"/>
                    </a:lnTo>
                    <a:lnTo>
                      <a:pt x="170" y="184"/>
                    </a:lnTo>
                    <a:lnTo>
                      <a:pt x="185" y="184"/>
                    </a:lnTo>
                    <a:lnTo>
                      <a:pt x="184" y="159"/>
                    </a:lnTo>
                    <a:lnTo>
                      <a:pt x="179" y="129"/>
                    </a:lnTo>
                    <a:lnTo>
                      <a:pt x="166" y="99"/>
                    </a:lnTo>
                    <a:lnTo>
                      <a:pt x="149" y="67"/>
                    </a:lnTo>
                    <a:lnTo>
                      <a:pt x="125" y="41"/>
                    </a:lnTo>
                    <a:lnTo>
                      <a:pt x="93" y="21"/>
                    </a:lnTo>
                    <a:lnTo>
                      <a:pt x="51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377880" y="5177160"/>
                <a:ext cx="1675080" cy="23760"/>
              </a:xfrm>
              <a:custGeom>
                <a:avLst/>
                <a:gdLst/>
                <a:ahLst/>
                <a:rect l="l" t="t" r="r" b="b"/>
                <a:pathLst>
                  <a:path w="1009" h="25">
                    <a:moveTo>
                      <a:pt x="9" y="25"/>
                    </a:moveTo>
                    <a:lnTo>
                      <a:pt x="9" y="25"/>
                    </a:lnTo>
                    <a:lnTo>
                      <a:pt x="1009" y="25"/>
                    </a:lnTo>
                    <a:lnTo>
                      <a:pt x="100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2" y="21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17200" y="5177160"/>
                <a:ext cx="1675440" cy="23760"/>
              </a:xfrm>
              <a:custGeom>
                <a:avLst/>
                <a:gdLst/>
                <a:ahLst/>
                <a:rect l="l" t="t" r="r" b="b"/>
                <a:pathLst>
                  <a:path w="1009" h="25">
                    <a:moveTo>
                      <a:pt x="8" y="25"/>
                    </a:moveTo>
                    <a:lnTo>
                      <a:pt x="8" y="25"/>
                    </a:lnTo>
                    <a:lnTo>
                      <a:pt x="1009" y="25"/>
                    </a:lnTo>
                    <a:lnTo>
                      <a:pt x="100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2" y="21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16960" y="5177160"/>
                <a:ext cx="313920" cy="196560"/>
              </a:xfrm>
              <a:custGeom>
                <a:avLst/>
                <a:gdLst/>
                <a:ahLst/>
                <a:rect l="l" t="t" r="r" b="b"/>
                <a:pathLst>
                  <a:path w="189" h="197">
                    <a:moveTo>
                      <a:pt x="17" y="184"/>
                    </a:moveTo>
                    <a:lnTo>
                      <a:pt x="17" y="184"/>
                    </a:lnTo>
                    <a:lnTo>
                      <a:pt x="18" y="163"/>
                    </a:lnTo>
                    <a:lnTo>
                      <a:pt x="23" y="136"/>
                    </a:lnTo>
                    <a:lnTo>
                      <a:pt x="33" y="110"/>
                    </a:lnTo>
                    <a:lnTo>
                      <a:pt x="48" y="85"/>
                    </a:lnTo>
                    <a:lnTo>
                      <a:pt x="70" y="62"/>
                    </a:lnTo>
                    <a:lnTo>
                      <a:pt x="101" y="43"/>
                    </a:lnTo>
                    <a:lnTo>
                      <a:pt x="141" y="28"/>
                    </a:lnTo>
                    <a:lnTo>
                      <a:pt x="189" y="25"/>
                    </a:lnTo>
                    <a:lnTo>
                      <a:pt x="189" y="0"/>
                    </a:lnTo>
                    <a:lnTo>
                      <a:pt x="138" y="7"/>
                    </a:lnTo>
                    <a:lnTo>
                      <a:pt x="96" y="21"/>
                    </a:lnTo>
                    <a:lnTo>
                      <a:pt x="63" y="41"/>
                    </a:lnTo>
                    <a:lnTo>
                      <a:pt x="38" y="67"/>
                    </a:lnTo>
                    <a:lnTo>
                      <a:pt x="20" y="99"/>
                    </a:lnTo>
                    <a:lnTo>
                      <a:pt x="8" y="129"/>
                    </a:lnTo>
                    <a:lnTo>
                      <a:pt x="3" y="159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0" y="184"/>
                    </a:lnTo>
                    <a:lnTo>
                      <a:pt x="3" y="193"/>
                    </a:lnTo>
                    <a:lnTo>
                      <a:pt x="9" y="197"/>
                    </a:lnTo>
                    <a:lnTo>
                      <a:pt x="15" y="193"/>
                    </a:lnTo>
                    <a:lnTo>
                      <a:pt x="18" y="184"/>
                    </a:lnTo>
                    <a:lnTo>
                      <a:pt x="17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415160" y="5361840"/>
                <a:ext cx="29520" cy="72000"/>
              </a:xfrm>
              <a:custGeom>
                <a:avLst/>
                <a:gdLst/>
                <a:ahLst/>
                <a:rect l="l" t="t" r="r" b="b"/>
                <a:pathLst>
                  <a:path w="18" h="73">
                    <a:moveTo>
                      <a:pt x="4" y="69"/>
                    </a:moveTo>
                    <a:lnTo>
                      <a:pt x="16" y="60"/>
                    </a:lnTo>
                    <a:lnTo>
                      <a:pt x="18" y="0"/>
                    </a:lnTo>
                    <a:lnTo>
                      <a:pt x="3" y="0"/>
                    </a:lnTo>
                    <a:lnTo>
                      <a:pt x="1" y="60"/>
                    </a:lnTo>
                    <a:lnTo>
                      <a:pt x="14" y="51"/>
                    </a:lnTo>
                    <a:lnTo>
                      <a:pt x="0" y="60"/>
                    </a:lnTo>
                    <a:lnTo>
                      <a:pt x="3" y="69"/>
                    </a:lnTo>
                    <a:lnTo>
                      <a:pt x="9" y="73"/>
                    </a:lnTo>
                    <a:lnTo>
                      <a:pt x="15" y="69"/>
                    </a:lnTo>
                    <a:lnTo>
                      <a:pt x="18" y="60"/>
                    </a:lnTo>
                    <a:lnTo>
                      <a:pt x="4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222560" y="5378040"/>
                <a:ext cx="215640" cy="128160"/>
              </a:xfrm>
              <a:custGeom>
                <a:avLst/>
                <a:gdLst/>
                <a:ahLst/>
                <a:rect l="l" t="t" r="r" b="b"/>
                <a:pathLst>
                  <a:path w="130" h="127">
                    <a:moveTo>
                      <a:pt x="17" y="115"/>
                    </a:moveTo>
                    <a:lnTo>
                      <a:pt x="17" y="115"/>
                    </a:lnTo>
                    <a:lnTo>
                      <a:pt x="19" y="85"/>
                    </a:lnTo>
                    <a:lnTo>
                      <a:pt x="25" y="60"/>
                    </a:lnTo>
                    <a:lnTo>
                      <a:pt x="34" y="41"/>
                    </a:lnTo>
                    <a:lnTo>
                      <a:pt x="45" y="28"/>
                    </a:lnTo>
                    <a:lnTo>
                      <a:pt x="57" y="21"/>
                    </a:lnTo>
                    <a:lnTo>
                      <a:pt x="76" y="21"/>
                    </a:lnTo>
                    <a:lnTo>
                      <a:pt x="97" y="32"/>
                    </a:lnTo>
                    <a:lnTo>
                      <a:pt x="120" y="51"/>
                    </a:lnTo>
                    <a:lnTo>
                      <a:pt x="130" y="33"/>
                    </a:lnTo>
                    <a:lnTo>
                      <a:pt x="102" y="10"/>
                    </a:lnTo>
                    <a:lnTo>
                      <a:pt x="79" y="0"/>
                    </a:lnTo>
                    <a:lnTo>
                      <a:pt x="57" y="0"/>
                    </a:lnTo>
                    <a:lnTo>
                      <a:pt x="37" y="7"/>
                    </a:lnTo>
                    <a:lnTo>
                      <a:pt x="21" y="26"/>
                    </a:lnTo>
                    <a:lnTo>
                      <a:pt x="10" y="53"/>
                    </a:lnTo>
                    <a:lnTo>
                      <a:pt x="4" y="8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24"/>
                    </a:lnTo>
                    <a:lnTo>
                      <a:pt x="9" y="127"/>
                    </a:lnTo>
                    <a:lnTo>
                      <a:pt x="15" y="124"/>
                    </a:lnTo>
                    <a:lnTo>
                      <a:pt x="17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222560" y="5494320"/>
                <a:ext cx="28080" cy="88200"/>
              </a:xfrm>
              <a:custGeom>
                <a:avLst/>
                <a:gdLst/>
                <a:ahLst/>
                <a:rect l="l" t="t" r="r" b="b"/>
                <a:pathLst>
                  <a:path w="17" h="88">
                    <a:moveTo>
                      <a:pt x="9" y="87"/>
                    </a:moveTo>
                    <a:lnTo>
                      <a:pt x="17" y="7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9" y="65"/>
                    </a:lnTo>
                    <a:lnTo>
                      <a:pt x="0" y="76"/>
                    </a:lnTo>
                    <a:lnTo>
                      <a:pt x="2" y="85"/>
                    </a:lnTo>
                    <a:lnTo>
                      <a:pt x="9" y="88"/>
                    </a:lnTo>
                    <a:lnTo>
                      <a:pt x="15" y="85"/>
                    </a:lnTo>
                    <a:lnTo>
                      <a:pt x="17" y="76"/>
                    </a:lnTo>
                    <a:lnTo>
                      <a:pt x="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08920" y="5554440"/>
                <a:ext cx="428400" cy="39960"/>
              </a:xfrm>
              <a:custGeom>
                <a:avLst/>
                <a:gdLst/>
                <a:ahLst/>
                <a:rect l="l" t="t" r="r" b="b"/>
                <a:pathLst>
                  <a:path w="258" h="41">
                    <a:moveTo>
                      <a:pt x="11" y="21"/>
                    </a:moveTo>
                    <a:lnTo>
                      <a:pt x="10" y="41"/>
                    </a:lnTo>
                    <a:lnTo>
                      <a:pt x="16" y="37"/>
                    </a:lnTo>
                    <a:lnTo>
                      <a:pt x="26" y="35"/>
                    </a:lnTo>
                    <a:lnTo>
                      <a:pt x="39" y="34"/>
                    </a:lnTo>
                    <a:lnTo>
                      <a:pt x="53" y="30"/>
                    </a:lnTo>
                    <a:lnTo>
                      <a:pt x="69" y="28"/>
                    </a:lnTo>
                    <a:lnTo>
                      <a:pt x="85" y="28"/>
                    </a:lnTo>
                    <a:lnTo>
                      <a:pt x="104" y="28"/>
                    </a:lnTo>
                    <a:lnTo>
                      <a:pt x="123" y="27"/>
                    </a:lnTo>
                    <a:lnTo>
                      <a:pt x="141" y="27"/>
                    </a:lnTo>
                    <a:lnTo>
                      <a:pt x="160" y="25"/>
                    </a:lnTo>
                    <a:lnTo>
                      <a:pt x="179" y="25"/>
                    </a:lnTo>
                    <a:lnTo>
                      <a:pt x="198" y="25"/>
                    </a:lnTo>
                    <a:lnTo>
                      <a:pt x="214" y="25"/>
                    </a:lnTo>
                    <a:lnTo>
                      <a:pt x="230" y="27"/>
                    </a:lnTo>
                    <a:lnTo>
                      <a:pt x="245" y="27"/>
                    </a:lnTo>
                    <a:lnTo>
                      <a:pt x="258" y="27"/>
                    </a:lnTo>
                    <a:lnTo>
                      <a:pt x="258" y="5"/>
                    </a:lnTo>
                    <a:lnTo>
                      <a:pt x="245" y="2"/>
                    </a:lnTo>
                    <a:lnTo>
                      <a:pt x="230" y="2"/>
                    </a:lnTo>
                    <a:lnTo>
                      <a:pt x="214" y="0"/>
                    </a:lnTo>
                    <a:lnTo>
                      <a:pt x="198" y="0"/>
                    </a:lnTo>
                    <a:lnTo>
                      <a:pt x="179" y="0"/>
                    </a:lnTo>
                    <a:lnTo>
                      <a:pt x="160" y="0"/>
                    </a:lnTo>
                    <a:lnTo>
                      <a:pt x="141" y="2"/>
                    </a:lnTo>
                    <a:lnTo>
                      <a:pt x="123" y="2"/>
                    </a:lnTo>
                    <a:lnTo>
                      <a:pt x="104" y="4"/>
                    </a:lnTo>
                    <a:lnTo>
                      <a:pt x="85" y="4"/>
                    </a:lnTo>
                    <a:lnTo>
                      <a:pt x="69" y="7"/>
                    </a:lnTo>
                    <a:lnTo>
                      <a:pt x="53" y="9"/>
                    </a:lnTo>
                    <a:lnTo>
                      <a:pt x="39" y="12"/>
                    </a:lnTo>
                    <a:lnTo>
                      <a:pt x="26" y="14"/>
                    </a:lnTo>
                    <a:lnTo>
                      <a:pt x="14" y="16"/>
                    </a:lnTo>
                    <a:lnTo>
                      <a:pt x="5" y="19"/>
                    </a:lnTo>
                    <a:lnTo>
                      <a:pt x="4" y="39"/>
                    </a:lnTo>
                    <a:lnTo>
                      <a:pt x="5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4" y="39"/>
                    </a:lnTo>
                    <a:lnTo>
                      <a:pt x="10" y="41"/>
                    </a:lnTo>
                    <a:lnTo>
                      <a:pt x="1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5760" y="5576760"/>
                <a:ext cx="276840" cy="316440"/>
              </a:xfrm>
              <a:custGeom>
                <a:avLst/>
                <a:gdLst/>
                <a:ahLst/>
                <a:rect l="l" t="t" r="r" b="b"/>
                <a:pathLst>
                  <a:path w="167" h="317">
                    <a:moveTo>
                      <a:pt x="167" y="312"/>
                    </a:moveTo>
                    <a:lnTo>
                      <a:pt x="167" y="305"/>
                    </a:lnTo>
                    <a:lnTo>
                      <a:pt x="159" y="262"/>
                    </a:lnTo>
                    <a:lnTo>
                      <a:pt x="145" y="216"/>
                    </a:lnTo>
                    <a:lnTo>
                      <a:pt x="125" y="174"/>
                    </a:lnTo>
                    <a:lnTo>
                      <a:pt x="104" y="129"/>
                    </a:lnTo>
                    <a:lnTo>
                      <a:pt x="80" y="90"/>
                    </a:lnTo>
                    <a:lnTo>
                      <a:pt x="55" y="53"/>
                    </a:lnTo>
                    <a:lnTo>
                      <a:pt x="31" y="23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21" y="41"/>
                    </a:lnTo>
                    <a:lnTo>
                      <a:pt x="45" y="71"/>
                    </a:lnTo>
                    <a:lnTo>
                      <a:pt x="67" y="105"/>
                    </a:lnTo>
                    <a:lnTo>
                      <a:pt x="91" y="144"/>
                    </a:lnTo>
                    <a:lnTo>
                      <a:pt x="112" y="184"/>
                    </a:lnTo>
                    <a:lnTo>
                      <a:pt x="130" y="227"/>
                    </a:lnTo>
                    <a:lnTo>
                      <a:pt x="144" y="269"/>
                    </a:lnTo>
                    <a:lnTo>
                      <a:pt x="152" y="308"/>
                    </a:lnTo>
                    <a:lnTo>
                      <a:pt x="152" y="301"/>
                    </a:lnTo>
                    <a:lnTo>
                      <a:pt x="152" y="308"/>
                    </a:lnTo>
                    <a:lnTo>
                      <a:pt x="155" y="315"/>
                    </a:lnTo>
                    <a:lnTo>
                      <a:pt x="161" y="317"/>
                    </a:lnTo>
                    <a:lnTo>
                      <a:pt x="166" y="313"/>
                    </a:lnTo>
                    <a:lnTo>
                      <a:pt x="167" y="305"/>
                    </a:lnTo>
                    <a:lnTo>
                      <a:pt x="167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7720" y="5877720"/>
                <a:ext cx="345240" cy="291240"/>
              </a:xfrm>
              <a:custGeom>
                <a:avLst/>
                <a:gdLst/>
                <a:ahLst/>
                <a:rect l="l" t="t" r="r" b="b"/>
                <a:pathLst>
                  <a:path w="208" h="290">
                    <a:moveTo>
                      <a:pt x="5" y="269"/>
                    </a:moveTo>
                    <a:lnTo>
                      <a:pt x="15" y="283"/>
                    </a:lnTo>
                    <a:lnTo>
                      <a:pt x="26" y="255"/>
                    </a:lnTo>
                    <a:lnTo>
                      <a:pt x="46" y="227"/>
                    </a:lnTo>
                    <a:lnTo>
                      <a:pt x="72" y="193"/>
                    </a:lnTo>
                    <a:lnTo>
                      <a:pt x="102" y="161"/>
                    </a:lnTo>
                    <a:lnTo>
                      <a:pt x="132" y="126"/>
                    </a:lnTo>
                    <a:lnTo>
                      <a:pt x="161" y="90"/>
                    </a:lnTo>
                    <a:lnTo>
                      <a:pt x="188" y="51"/>
                    </a:lnTo>
                    <a:lnTo>
                      <a:pt x="208" y="11"/>
                    </a:lnTo>
                    <a:lnTo>
                      <a:pt x="193" y="0"/>
                    </a:lnTo>
                    <a:lnTo>
                      <a:pt x="176" y="37"/>
                    </a:lnTo>
                    <a:lnTo>
                      <a:pt x="151" y="73"/>
                    </a:lnTo>
                    <a:lnTo>
                      <a:pt x="122" y="108"/>
                    </a:lnTo>
                    <a:lnTo>
                      <a:pt x="92" y="143"/>
                    </a:lnTo>
                    <a:lnTo>
                      <a:pt x="62" y="175"/>
                    </a:lnTo>
                    <a:lnTo>
                      <a:pt x="36" y="209"/>
                    </a:lnTo>
                    <a:lnTo>
                      <a:pt x="13" y="241"/>
                    </a:lnTo>
                    <a:lnTo>
                      <a:pt x="0" y="276"/>
                    </a:lnTo>
                    <a:lnTo>
                      <a:pt x="10" y="290"/>
                    </a:lnTo>
                    <a:lnTo>
                      <a:pt x="0" y="276"/>
                    </a:lnTo>
                    <a:lnTo>
                      <a:pt x="1" y="285"/>
                    </a:lnTo>
                    <a:lnTo>
                      <a:pt x="6" y="290"/>
                    </a:lnTo>
                    <a:lnTo>
                      <a:pt x="11" y="290"/>
                    </a:lnTo>
                    <a:lnTo>
                      <a:pt x="15" y="283"/>
                    </a:lnTo>
                    <a:lnTo>
                      <a:pt x="5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6000" y="6092280"/>
                <a:ext cx="607680" cy="76320"/>
              </a:xfrm>
              <a:custGeom>
                <a:avLst/>
                <a:gdLst/>
                <a:ahLst/>
                <a:rect l="l" t="t" r="r" b="b"/>
                <a:pathLst>
                  <a:path w="366" h="76">
                    <a:moveTo>
                      <a:pt x="356" y="7"/>
                    </a:moveTo>
                    <a:lnTo>
                      <a:pt x="358" y="7"/>
                    </a:lnTo>
                    <a:lnTo>
                      <a:pt x="340" y="5"/>
                    </a:lnTo>
                    <a:lnTo>
                      <a:pt x="320" y="4"/>
                    </a:lnTo>
                    <a:lnTo>
                      <a:pt x="297" y="0"/>
                    </a:lnTo>
                    <a:lnTo>
                      <a:pt x="275" y="0"/>
                    </a:lnTo>
                    <a:lnTo>
                      <a:pt x="250" y="0"/>
                    </a:lnTo>
                    <a:lnTo>
                      <a:pt x="225" y="4"/>
                    </a:lnTo>
                    <a:lnTo>
                      <a:pt x="200" y="5"/>
                    </a:lnTo>
                    <a:lnTo>
                      <a:pt x="173" y="9"/>
                    </a:lnTo>
                    <a:lnTo>
                      <a:pt x="148" y="13"/>
                    </a:lnTo>
                    <a:lnTo>
                      <a:pt x="123" y="16"/>
                    </a:lnTo>
                    <a:lnTo>
                      <a:pt x="98" y="21"/>
                    </a:lnTo>
                    <a:lnTo>
                      <a:pt x="75" y="27"/>
                    </a:lnTo>
                    <a:lnTo>
                      <a:pt x="53" y="32"/>
                    </a:lnTo>
                    <a:lnTo>
                      <a:pt x="33" y="39"/>
                    </a:lnTo>
                    <a:lnTo>
                      <a:pt x="15" y="46"/>
                    </a:lnTo>
                    <a:lnTo>
                      <a:pt x="0" y="55"/>
                    </a:lnTo>
                    <a:lnTo>
                      <a:pt x="5" y="76"/>
                    </a:lnTo>
                    <a:lnTo>
                      <a:pt x="20" y="67"/>
                    </a:lnTo>
                    <a:lnTo>
                      <a:pt x="36" y="60"/>
                    </a:lnTo>
                    <a:lnTo>
                      <a:pt x="56" y="53"/>
                    </a:lnTo>
                    <a:lnTo>
                      <a:pt x="77" y="48"/>
                    </a:lnTo>
                    <a:lnTo>
                      <a:pt x="101" y="43"/>
                    </a:lnTo>
                    <a:lnTo>
                      <a:pt x="123" y="37"/>
                    </a:lnTo>
                    <a:lnTo>
                      <a:pt x="148" y="34"/>
                    </a:lnTo>
                    <a:lnTo>
                      <a:pt x="173" y="30"/>
                    </a:lnTo>
                    <a:lnTo>
                      <a:pt x="200" y="27"/>
                    </a:lnTo>
                    <a:lnTo>
                      <a:pt x="225" y="25"/>
                    </a:lnTo>
                    <a:lnTo>
                      <a:pt x="250" y="25"/>
                    </a:lnTo>
                    <a:lnTo>
                      <a:pt x="275" y="25"/>
                    </a:lnTo>
                    <a:lnTo>
                      <a:pt x="297" y="25"/>
                    </a:lnTo>
                    <a:lnTo>
                      <a:pt x="320" y="25"/>
                    </a:lnTo>
                    <a:lnTo>
                      <a:pt x="340" y="27"/>
                    </a:lnTo>
                    <a:lnTo>
                      <a:pt x="358" y="28"/>
                    </a:lnTo>
                    <a:lnTo>
                      <a:pt x="361" y="28"/>
                    </a:lnTo>
                    <a:lnTo>
                      <a:pt x="358" y="28"/>
                    </a:lnTo>
                    <a:lnTo>
                      <a:pt x="365" y="25"/>
                    </a:lnTo>
                    <a:lnTo>
                      <a:pt x="366" y="18"/>
                    </a:lnTo>
                    <a:lnTo>
                      <a:pt x="365" y="11"/>
                    </a:lnTo>
                    <a:lnTo>
                      <a:pt x="358" y="7"/>
                    </a:lnTo>
                    <a:lnTo>
                      <a:pt x="35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47120" y="5941800"/>
                <a:ext cx="74520" cy="178560"/>
              </a:xfrm>
              <a:custGeom>
                <a:avLst/>
                <a:gdLst/>
                <a:ahLst/>
                <a:rect l="l" t="t" r="r" b="b"/>
                <a:pathLst>
                  <a:path w="45" h="178">
                    <a:moveTo>
                      <a:pt x="29" y="0"/>
                    </a:moveTo>
                    <a:lnTo>
                      <a:pt x="20" y="12"/>
                    </a:lnTo>
                    <a:lnTo>
                      <a:pt x="22" y="26"/>
                    </a:lnTo>
                    <a:lnTo>
                      <a:pt x="25" y="46"/>
                    </a:lnTo>
                    <a:lnTo>
                      <a:pt x="27" y="65"/>
                    </a:lnTo>
                    <a:lnTo>
                      <a:pt x="27" y="90"/>
                    </a:lnTo>
                    <a:lnTo>
                      <a:pt x="27" y="111"/>
                    </a:lnTo>
                    <a:lnTo>
                      <a:pt x="21" y="131"/>
                    </a:lnTo>
                    <a:lnTo>
                      <a:pt x="14" y="145"/>
                    </a:lnTo>
                    <a:lnTo>
                      <a:pt x="0" y="157"/>
                    </a:lnTo>
                    <a:lnTo>
                      <a:pt x="5" y="178"/>
                    </a:lnTo>
                    <a:lnTo>
                      <a:pt x="24" y="163"/>
                    </a:lnTo>
                    <a:lnTo>
                      <a:pt x="36" y="141"/>
                    </a:lnTo>
                    <a:lnTo>
                      <a:pt x="42" y="115"/>
                    </a:lnTo>
                    <a:lnTo>
                      <a:pt x="45" y="90"/>
                    </a:lnTo>
                    <a:lnTo>
                      <a:pt x="42" y="65"/>
                    </a:lnTo>
                    <a:lnTo>
                      <a:pt x="40" y="42"/>
                    </a:lnTo>
                    <a:lnTo>
                      <a:pt x="37" y="23"/>
                    </a:lnTo>
                    <a:lnTo>
                      <a:pt x="35" y="9"/>
                    </a:lnTo>
                    <a:lnTo>
                      <a:pt x="26" y="21"/>
                    </a:lnTo>
                    <a:lnTo>
                      <a:pt x="35" y="9"/>
                    </a:lnTo>
                    <a:lnTo>
                      <a:pt x="32" y="2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2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390320" y="5941800"/>
                <a:ext cx="172440" cy="82080"/>
              </a:xfrm>
              <a:custGeom>
                <a:avLst/>
                <a:gdLst/>
                <a:ahLst/>
                <a:rect l="l" t="t" r="r" b="b"/>
                <a:pathLst>
                  <a:path w="104" h="83">
                    <a:moveTo>
                      <a:pt x="103" y="60"/>
                    </a:moveTo>
                    <a:lnTo>
                      <a:pt x="102" y="60"/>
                    </a:lnTo>
                    <a:lnTo>
                      <a:pt x="83" y="62"/>
                    </a:lnTo>
                    <a:lnTo>
                      <a:pt x="69" y="56"/>
                    </a:lnTo>
                    <a:lnTo>
                      <a:pt x="58" y="49"/>
                    </a:lnTo>
                    <a:lnTo>
                      <a:pt x="48" y="39"/>
                    </a:lnTo>
                    <a:lnTo>
                      <a:pt x="39" y="28"/>
                    </a:lnTo>
                    <a:lnTo>
                      <a:pt x="29" y="16"/>
                    </a:lnTo>
                    <a:lnTo>
                      <a:pt x="16" y="5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11" y="26"/>
                    </a:lnTo>
                    <a:lnTo>
                      <a:pt x="19" y="33"/>
                    </a:lnTo>
                    <a:lnTo>
                      <a:pt x="29" y="46"/>
                    </a:lnTo>
                    <a:lnTo>
                      <a:pt x="38" y="56"/>
                    </a:lnTo>
                    <a:lnTo>
                      <a:pt x="50" y="71"/>
                    </a:lnTo>
                    <a:lnTo>
                      <a:pt x="64" y="78"/>
                    </a:lnTo>
                    <a:lnTo>
                      <a:pt x="83" y="83"/>
                    </a:lnTo>
                    <a:lnTo>
                      <a:pt x="104" y="81"/>
                    </a:lnTo>
                    <a:lnTo>
                      <a:pt x="103" y="81"/>
                    </a:lnTo>
                    <a:lnTo>
                      <a:pt x="10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561320" y="5767560"/>
                <a:ext cx="82800" cy="256320"/>
              </a:xfrm>
              <a:custGeom>
                <a:avLst/>
                <a:gdLst/>
                <a:ahLst/>
                <a:rect l="l" t="t" r="r" b="b"/>
                <a:pathLst>
                  <a:path w="50" h="255">
                    <a:moveTo>
                      <a:pt x="39" y="0"/>
                    </a:moveTo>
                    <a:lnTo>
                      <a:pt x="31" y="13"/>
                    </a:lnTo>
                    <a:lnTo>
                      <a:pt x="34" y="59"/>
                    </a:lnTo>
                    <a:lnTo>
                      <a:pt x="32" y="103"/>
                    </a:lnTo>
                    <a:lnTo>
                      <a:pt x="32" y="140"/>
                    </a:lnTo>
                    <a:lnTo>
                      <a:pt x="30" y="172"/>
                    </a:lnTo>
                    <a:lnTo>
                      <a:pt x="24" y="199"/>
                    </a:lnTo>
                    <a:lnTo>
                      <a:pt x="17" y="218"/>
                    </a:lnTo>
                    <a:lnTo>
                      <a:pt x="10" y="229"/>
                    </a:lnTo>
                    <a:lnTo>
                      <a:pt x="0" y="234"/>
                    </a:lnTo>
                    <a:lnTo>
                      <a:pt x="0" y="255"/>
                    </a:lnTo>
                    <a:lnTo>
                      <a:pt x="17" y="246"/>
                    </a:lnTo>
                    <a:lnTo>
                      <a:pt x="30" y="229"/>
                    </a:lnTo>
                    <a:lnTo>
                      <a:pt x="39" y="206"/>
                    </a:lnTo>
                    <a:lnTo>
                      <a:pt x="45" y="176"/>
                    </a:lnTo>
                    <a:lnTo>
                      <a:pt x="47" y="140"/>
                    </a:lnTo>
                    <a:lnTo>
                      <a:pt x="50" y="103"/>
                    </a:lnTo>
                    <a:lnTo>
                      <a:pt x="49" y="59"/>
                    </a:lnTo>
                    <a:lnTo>
                      <a:pt x="46" y="13"/>
                    </a:lnTo>
                    <a:lnTo>
                      <a:pt x="39" y="2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26120" y="5767560"/>
                <a:ext cx="1779840" cy="25920"/>
              </a:xfrm>
              <a:custGeom>
                <a:avLst/>
                <a:gdLst/>
                <a:ahLst/>
                <a:rect l="l" t="t" r="r" b="b"/>
                <a:pathLst>
                  <a:path w="1072" h="25">
                    <a:moveTo>
                      <a:pt x="1064" y="0"/>
                    </a:moveTo>
                    <a:lnTo>
                      <a:pt x="1064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064" y="25"/>
                    </a:lnTo>
                    <a:lnTo>
                      <a:pt x="1064" y="25"/>
                    </a:lnTo>
                    <a:lnTo>
                      <a:pt x="1064" y="25"/>
                    </a:lnTo>
                    <a:lnTo>
                      <a:pt x="1070" y="22"/>
                    </a:lnTo>
                    <a:lnTo>
                      <a:pt x="1072" y="13"/>
                    </a:lnTo>
                    <a:lnTo>
                      <a:pt x="1070" y="4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234080" y="5945760"/>
                <a:ext cx="172800" cy="164520"/>
              </a:xfrm>
              <a:custGeom>
                <a:avLst/>
                <a:gdLst/>
                <a:ahLst/>
                <a:rect l="l" t="t" r="r" b="b"/>
                <a:pathLst>
                  <a:path w="104" h="165">
                    <a:moveTo>
                      <a:pt x="70" y="165"/>
                    </a:moveTo>
                    <a:lnTo>
                      <a:pt x="87" y="151"/>
                    </a:lnTo>
                    <a:lnTo>
                      <a:pt x="97" y="133"/>
                    </a:lnTo>
                    <a:lnTo>
                      <a:pt x="103" y="110"/>
                    </a:lnTo>
                    <a:lnTo>
                      <a:pt x="104" y="87"/>
                    </a:lnTo>
                    <a:lnTo>
                      <a:pt x="103" y="62"/>
                    </a:lnTo>
                    <a:lnTo>
                      <a:pt x="100" y="41"/>
                    </a:lnTo>
                    <a:lnTo>
                      <a:pt x="98" y="22"/>
                    </a:lnTo>
                    <a:lnTo>
                      <a:pt x="95" y="7"/>
                    </a:lnTo>
                    <a:lnTo>
                      <a:pt x="74" y="2"/>
                    </a:lnTo>
                    <a:lnTo>
                      <a:pt x="55" y="0"/>
                    </a:lnTo>
                    <a:lnTo>
                      <a:pt x="39" y="4"/>
                    </a:lnTo>
                    <a:lnTo>
                      <a:pt x="25" y="9"/>
                    </a:lnTo>
                    <a:lnTo>
                      <a:pt x="15" y="18"/>
                    </a:lnTo>
                    <a:lnTo>
                      <a:pt x="7" y="32"/>
                    </a:lnTo>
                    <a:lnTo>
                      <a:pt x="2" y="48"/>
                    </a:lnTo>
                    <a:lnTo>
                      <a:pt x="0" y="66"/>
                    </a:lnTo>
                    <a:lnTo>
                      <a:pt x="7" y="83"/>
                    </a:lnTo>
                    <a:lnTo>
                      <a:pt x="20" y="94"/>
                    </a:lnTo>
                    <a:lnTo>
                      <a:pt x="40" y="103"/>
                    </a:lnTo>
                    <a:lnTo>
                      <a:pt x="62" y="112"/>
                    </a:lnTo>
                    <a:lnTo>
                      <a:pt x="78" y="119"/>
                    </a:lnTo>
                    <a:lnTo>
                      <a:pt x="88" y="129"/>
                    </a:lnTo>
                    <a:lnTo>
                      <a:pt x="87" y="144"/>
                    </a:lnTo>
                    <a:lnTo>
                      <a:pt x="70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347120" y="5941800"/>
                <a:ext cx="74520" cy="178560"/>
              </a:xfrm>
              <a:custGeom>
                <a:avLst/>
                <a:gdLst/>
                <a:ahLst/>
                <a:rect l="l" t="t" r="r" b="b"/>
                <a:pathLst>
                  <a:path w="45" h="178">
                    <a:moveTo>
                      <a:pt x="26" y="21"/>
                    </a:moveTo>
                    <a:lnTo>
                      <a:pt x="20" y="12"/>
                    </a:lnTo>
                    <a:lnTo>
                      <a:pt x="22" y="26"/>
                    </a:lnTo>
                    <a:lnTo>
                      <a:pt x="25" y="46"/>
                    </a:lnTo>
                    <a:lnTo>
                      <a:pt x="27" y="65"/>
                    </a:lnTo>
                    <a:lnTo>
                      <a:pt x="27" y="90"/>
                    </a:lnTo>
                    <a:lnTo>
                      <a:pt x="27" y="111"/>
                    </a:lnTo>
                    <a:lnTo>
                      <a:pt x="21" y="131"/>
                    </a:lnTo>
                    <a:lnTo>
                      <a:pt x="14" y="145"/>
                    </a:lnTo>
                    <a:lnTo>
                      <a:pt x="0" y="157"/>
                    </a:lnTo>
                    <a:lnTo>
                      <a:pt x="5" y="178"/>
                    </a:lnTo>
                    <a:lnTo>
                      <a:pt x="24" y="163"/>
                    </a:lnTo>
                    <a:lnTo>
                      <a:pt x="36" y="141"/>
                    </a:lnTo>
                    <a:lnTo>
                      <a:pt x="42" y="115"/>
                    </a:lnTo>
                    <a:lnTo>
                      <a:pt x="45" y="90"/>
                    </a:lnTo>
                    <a:lnTo>
                      <a:pt x="42" y="65"/>
                    </a:lnTo>
                    <a:lnTo>
                      <a:pt x="40" y="42"/>
                    </a:lnTo>
                    <a:lnTo>
                      <a:pt x="37" y="23"/>
                    </a:lnTo>
                    <a:lnTo>
                      <a:pt x="35" y="9"/>
                    </a:lnTo>
                    <a:lnTo>
                      <a:pt x="29" y="0"/>
                    </a:lnTo>
                    <a:lnTo>
                      <a:pt x="35" y="9"/>
                    </a:lnTo>
                    <a:lnTo>
                      <a:pt x="32" y="2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20" y="12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221120" y="5931720"/>
                <a:ext cx="174240" cy="78120"/>
              </a:xfrm>
              <a:custGeom>
                <a:avLst/>
                <a:gdLst/>
                <a:ahLst/>
                <a:rect l="l" t="t" r="r" b="b"/>
                <a:pathLst>
                  <a:path w="105" h="78">
                    <a:moveTo>
                      <a:pt x="17" y="78"/>
                    </a:moveTo>
                    <a:lnTo>
                      <a:pt x="17" y="78"/>
                    </a:lnTo>
                    <a:lnTo>
                      <a:pt x="17" y="62"/>
                    </a:lnTo>
                    <a:lnTo>
                      <a:pt x="21" y="49"/>
                    </a:lnTo>
                    <a:lnTo>
                      <a:pt x="28" y="39"/>
                    </a:lnTo>
                    <a:lnTo>
                      <a:pt x="36" y="32"/>
                    </a:lnTo>
                    <a:lnTo>
                      <a:pt x="48" y="26"/>
                    </a:lnTo>
                    <a:lnTo>
                      <a:pt x="63" y="25"/>
                    </a:lnTo>
                    <a:lnTo>
                      <a:pt x="82" y="25"/>
                    </a:lnTo>
                    <a:lnTo>
                      <a:pt x="102" y="30"/>
                    </a:lnTo>
                    <a:lnTo>
                      <a:pt x="105" y="9"/>
                    </a:lnTo>
                    <a:lnTo>
                      <a:pt x="82" y="3"/>
                    </a:lnTo>
                    <a:lnTo>
                      <a:pt x="63" y="0"/>
                    </a:lnTo>
                    <a:lnTo>
                      <a:pt x="46" y="5"/>
                    </a:lnTo>
                    <a:lnTo>
                      <a:pt x="31" y="11"/>
                    </a:lnTo>
                    <a:lnTo>
                      <a:pt x="18" y="21"/>
                    </a:lnTo>
                    <a:lnTo>
                      <a:pt x="8" y="39"/>
                    </a:lnTo>
                    <a:lnTo>
                      <a:pt x="2" y="5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17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221120" y="6010200"/>
                <a:ext cx="170640" cy="110520"/>
              </a:xfrm>
              <a:custGeom>
                <a:avLst/>
                <a:gdLst/>
                <a:ahLst/>
                <a:rect l="l" t="t" r="r" b="b"/>
                <a:pathLst>
                  <a:path w="103" h="109">
                    <a:moveTo>
                      <a:pt x="76" y="88"/>
                    </a:moveTo>
                    <a:lnTo>
                      <a:pt x="82" y="108"/>
                    </a:lnTo>
                    <a:lnTo>
                      <a:pt x="101" y="83"/>
                    </a:lnTo>
                    <a:lnTo>
                      <a:pt x="103" y="58"/>
                    </a:lnTo>
                    <a:lnTo>
                      <a:pt x="90" y="42"/>
                    </a:lnTo>
                    <a:lnTo>
                      <a:pt x="71" y="35"/>
                    </a:lnTo>
                    <a:lnTo>
                      <a:pt x="51" y="26"/>
                    </a:lnTo>
                    <a:lnTo>
                      <a:pt x="31" y="17"/>
                    </a:lnTo>
                    <a:lnTo>
                      <a:pt x="20" y="1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0" y="25"/>
                    </a:lnTo>
                    <a:lnTo>
                      <a:pt x="26" y="39"/>
                    </a:lnTo>
                    <a:lnTo>
                      <a:pt x="46" y="48"/>
                    </a:lnTo>
                    <a:lnTo>
                      <a:pt x="68" y="56"/>
                    </a:lnTo>
                    <a:lnTo>
                      <a:pt x="82" y="63"/>
                    </a:lnTo>
                    <a:lnTo>
                      <a:pt x="88" y="69"/>
                    </a:lnTo>
                    <a:lnTo>
                      <a:pt x="88" y="72"/>
                    </a:lnTo>
                    <a:lnTo>
                      <a:pt x="75" y="90"/>
                    </a:lnTo>
                    <a:lnTo>
                      <a:pt x="81" y="109"/>
                    </a:lnTo>
                    <a:lnTo>
                      <a:pt x="75" y="90"/>
                    </a:lnTo>
                    <a:lnTo>
                      <a:pt x="72" y="97"/>
                    </a:lnTo>
                    <a:lnTo>
                      <a:pt x="73" y="104"/>
                    </a:lnTo>
                    <a:lnTo>
                      <a:pt x="77" y="109"/>
                    </a:lnTo>
                    <a:lnTo>
                      <a:pt x="82" y="108"/>
                    </a:lnTo>
                    <a:lnTo>
                      <a:pt x="7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55120" y="5779440"/>
                <a:ext cx="174240" cy="232920"/>
              </a:xfrm>
              <a:custGeom>
                <a:avLst/>
                <a:gdLst/>
                <a:ahLst/>
                <a:rect l="l" t="t" r="r" b="b"/>
                <a:pathLst>
                  <a:path w="105" h="232">
                    <a:moveTo>
                      <a:pt x="64" y="232"/>
                    </a:moveTo>
                    <a:lnTo>
                      <a:pt x="78" y="224"/>
                    </a:lnTo>
                    <a:lnTo>
                      <a:pt x="88" y="210"/>
                    </a:lnTo>
                    <a:lnTo>
                      <a:pt x="95" y="189"/>
                    </a:lnTo>
                    <a:lnTo>
                      <a:pt x="101" y="161"/>
                    </a:lnTo>
                    <a:lnTo>
                      <a:pt x="104" y="127"/>
                    </a:lnTo>
                    <a:lnTo>
                      <a:pt x="105" y="90"/>
                    </a:lnTo>
                    <a:lnTo>
                      <a:pt x="105" y="46"/>
                    </a:lnTo>
                    <a:lnTo>
                      <a:pt x="103" y="0"/>
                    </a:lnTo>
                    <a:lnTo>
                      <a:pt x="84" y="1"/>
                    </a:lnTo>
                    <a:lnTo>
                      <a:pt x="66" y="7"/>
                    </a:lnTo>
                    <a:lnTo>
                      <a:pt x="49" y="14"/>
                    </a:lnTo>
                    <a:lnTo>
                      <a:pt x="32" y="23"/>
                    </a:lnTo>
                    <a:lnTo>
                      <a:pt x="19" y="35"/>
                    </a:lnTo>
                    <a:lnTo>
                      <a:pt x="9" y="51"/>
                    </a:lnTo>
                    <a:lnTo>
                      <a:pt x="1" y="70"/>
                    </a:lnTo>
                    <a:lnTo>
                      <a:pt x="0" y="94"/>
                    </a:lnTo>
                    <a:lnTo>
                      <a:pt x="6" y="111"/>
                    </a:lnTo>
                    <a:lnTo>
                      <a:pt x="22" y="125"/>
                    </a:lnTo>
                    <a:lnTo>
                      <a:pt x="42" y="140"/>
                    </a:lnTo>
                    <a:lnTo>
                      <a:pt x="64" y="154"/>
                    </a:lnTo>
                    <a:lnTo>
                      <a:pt x="81" y="170"/>
                    </a:lnTo>
                    <a:lnTo>
                      <a:pt x="89" y="186"/>
                    </a:lnTo>
                    <a:lnTo>
                      <a:pt x="85" y="207"/>
                    </a:lnTo>
                    <a:lnTo>
                      <a:pt x="64" y="2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61320" y="5769360"/>
                <a:ext cx="82800" cy="254520"/>
              </a:xfrm>
              <a:custGeom>
                <a:avLst/>
                <a:gdLst/>
                <a:ahLst/>
                <a:rect l="l" t="t" r="r" b="b"/>
                <a:pathLst>
                  <a:path w="50" h="253">
                    <a:moveTo>
                      <a:pt x="39" y="21"/>
                    </a:moveTo>
                    <a:lnTo>
                      <a:pt x="31" y="11"/>
                    </a:lnTo>
                    <a:lnTo>
                      <a:pt x="34" y="57"/>
                    </a:lnTo>
                    <a:lnTo>
                      <a:pt x="32" y="101"/>
                    </a:lnTo>
                    <a:lnTo>
                      <a:pt x="32" y="138"/>
                    </a:lnTo>
                    <a:lnTo>
                      <a:pt x="30" y="170"/>
                    </a:lnTo>
                    <a:lnTo>
                      <a:pt x="24" y="197"/>
                    </a:lnTo>
                    <a:lnTo>
                      <a:pt x="17" y="216"/>
                    </a:lnTo>
                    <a:lnTo>
                      <a:pt x="10" y="227"/>
                    </a:lnTo>
                    <a:lnTo>
                      <a:pt x="0" y="232"/>
                    </a:lnTo>
                    <a:lnTo>
                      <a:pt x="0" y="253"/>
                    </a:lnTo>
                    <a:lnTo>
                      <a:pt x="17" y="244"/>
                    </a:lnTo>
                    <a:lnTo>
                      <a:pt x="30" y="227"/>
                    </a:lnTo>
                    <a:lnTo>
                      <a:pt x="39" y="204"/>
                    </a:lnTo>
                    <a:lnTo>
                      <a:pt x="45" y="174"/>
                    </a:lnTo>
                    <a:lnTo>
                      <a:pt x="47" y="138"/>
                    </a:lnTo>
                    <a:lnTo>
                      <a:pt x="50" y="101"/>
                    </a:lnTo>
                    <a:lnTo>
                      <a:pt x="49" y="57"/>
                    </a:lnTo>
                    <a:lnTo>
                      <a:pt x="46" y="11"/>
                    </a:lnTo>
                    <a:lnTo>
                      <a:pt x="39" y="0"/>
                    </a:lnTo>
                    <a:lnTo>
                      <a:pt x="46" y="11"/>
                    </a:lnTo>
                    <a:lnTo>
                      <a:pt x="44" y="2"/>
                    </a:lnTo>
                    <a:lnTo>
                      <a:pt x="39" y="0"/>
                    </a:lnTo>
                    <a:lnTo>
                      <a:pt x="34" y="2"/>
                    </a:lnTo>
                    <a:lnTo>
                      <a:pt x="31" y="11"/>
                    </a:lnTo>
                    <a:lnTo>
                      <a:pt x="3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441800" y="5769360"/>
                <a:ext cx="184320" cy="104040"/>
              </a:xfrm>
              <a:custGeom>
                <a:avLst/>
                <a:gdLst/>
                <a:ahLst/>
                <a:rect l="l" t="t" r="r" b="b"/>
                <a:pathLst>
                  <a:path w="111" h="105">
                    <a:moveTo>
                      <a:pt x="15" y="105"/>
                    </a:moveTo>
                    <a:lnTo>
                      <a:pt x="15" y="105"/>
                    </a:lnTo>
                    <a:lnTo>
                      <a:pt x="17" y="83"/>
                    </a:lnTo>
                    <a:lnTo>
                      <a:pt x="23" y="67"/>
                    </a:lnTo>
                    <a:lnTo>
                      <a:pt x="32" y="55"/>
                    </a:lnTo>
                    <a:lnTo>
                      <a:pt x="44" y="44"/>
                    </a:lnTo>
                    <a:lnTo>
                      <a:pt x="59" y="35"/>
                    </a:lnTo>
                    <a:lnTo>
                      <a:pt x="76" y="28"/>
                    </a:lnTo>
                    <a:lnTo>
                      <a:pt x="92" y="23"/>
                    </a:lnTo>
                    <a:lnTo>
                      <a:pt x="111" y="21"/>
                    </a:lnTo>
                    <a:lnTo>
                      <a:pt x="111" y="0"/>
                    </a:lnTo>
                    <a:lnTo>
                      <a:pt x="92" y="2"/>
                    </a:lnTo>
                    <a:lnTo>
                      <a:pt x="73" y="7"/>
                    </a:lnTo>
                    <a:lnTo>
                      <a:pt x="54" y="14"/>
                    </a:lnTo>
                    <a:lnTo>
                      <a:pt x="37" y="23"/>
                    </a:lnTo>
                    <a:lnTo>
                      <a:pt x="22" y="37"/>
                    </a:lnTo>
                    <a:lnTo>
                      <a:pt x="10" y="57"/>
                    </a:lnTo>
                    <a:lnTo>
                      <a:pt x="2" y="80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41800" y="5873400"/>
                <a:ext cx="172800" cy="150480"/>
              </a:xfrm>
              <a:custGeom>
                <a:avLst/>
                <a:gdLst/>
                <a:ahLst/>
                <a:rect l="l" t="t" r="r" b="b"/>
                <a:pathLst>
                  <a:path w="104" h="148">
                    <a:moveTo>
                      <a:pt x="72" y="127"/>
                    </a:moveTo>
                    <a:lnTo>
                      <a:pt x="76" y="146"/>
                    </a:lnTo>
                    <a:lnTo>
                      <a:pt x="99" y="120"/>
                    </a:lnTo>
                    <a:lnTo>
                      <a:pt x="104" y="92"/>
                    </a:lnTo>
                    <a:lnTo>
                      <a:pt x="94" y="67"/>
                    </a:lnTo>
                    <a:lnTo>
                      <a:pt x="76" y="49"/>
                    </a:lnTo>
                    <a:lnTo>
                      <a:pt x="54" y="35"/>
                    </a:lnTo>
                    <a:lnTo>
                      <a:pt x="34" y="21"/>
                    </a:lnTo>
                    <a:lnTo>
                      <a:pt x="19" y="1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9" y="24"/>
                    </a:lnTo>
                    <a:lnTo>
                      <a:pt x="27" y="42"/>
                    </a:lnTo>
                    <a:lnTo>
                      <a:pt x="47" y="56"/>
                    </a:lnTo>
                    <a:lnTo>
                      <a:pt x="68" y="70"/>
                    </a:lnTo>
                    <a:lnTo>
                      <a:pt x="84" y="84"/>
                    </a:lnTo>
                    <a:lnTo>
                      <a:pt x="89" y="92"/>
                    </a:lnTo>
                    <a:lnTo>
                      <a:pt x="87" y="106"/>
                    </a:lnTo>
                    <a:lnTo>
                      <a:pt x="68" y="129"/>
                    </a:lnTo>
                    <a:lnTo>
                      <a:pt x="72" y="148"/>
                    </a:lnTo>
                    <a:lnTo>
                      <a:pt x="68" y="129"/>
                    </a:lnTo>
                    <a:lnTo>
                      <a:pt x="65" y="136"/>
                    </a:lnTo>
                    <a:lnTo>
                      <a:pt x="67" y="143"/>
                    </a:lnTo>
                    <a:lnTo>
                      <a:pt x="71" y="148"/>
                    </a:lnTo>
                    <a:lnTo>
                      <a:pt x="76" y="146"/>
                    </a:lnTo>
                    <a:lnTo>
                      <a:pt x="72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374080" y="5945760"/>
                <a:ext cx="174240" cy="164520"/>
              </a:xfrm>
              <a:custGeom>
                <a:avLst/>
                <a:gdLst/>
                <a:ahLst/>
                <a:rect l="l" t="t" r="r" b="b"/>
                <a:pathLst>
                  <a:path w="105" h="165">
                    <a:moveTo>
                      <a:pt x="33" y="165"/>
                    </a:moveTo>
                    <a:lnTo>
                      <a:pt x="17" y="151"/>
                    </a:lnTo>
                    <a:lnTo>
                      <a:pt x="7" y="133"/>
                    </a:lnTo>
                    <a:lnTo>
                      <a:pt x="1" y="110"/>
                    </a:lnTo>
                    <a:lnTo>
                      <a:pt x="0" y="87"/>
                    </a:lnTo>
                    <a:lnTo>
                      <a:pt x="1" y="62"/>
                    </a:lnTo>
                    <a:lnTo>
                      <a:pt x="3" y="41"/>
                    </a:lnTo>
                    <a:lnTo>
                      <a:pt x="6" y="22"/>
                    </a:lnTo>
                    <a:lnTo>
                      <a:pt x="8" y="7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5" y="4"/>
                    </a:lnTo>
                    <a:lnTo>
                      <a:pt x="78" y="9"/>
                    </a:lnTo>
                    <a:lnTo>
                      <a:pt x="90" y="18"/>
                    </a:lnTo>
                    <a:lnTo>
                      <a:pt x="98" y="32"/>
                    </a:lnTo>
                    <a:lnTo>
                      <a:pt x="103" y="48"/>
                    </a:lnTo>
                    <a:lnTo>
                      <a:pt x="105" y="66"/>
                    </a:lnTo>
                    <a:lnTo>
                      <a:pt x="98" y="83"/>
                    </a:lnTo>
                    <a:lnTo>
                      <a:pt x="85" y="94"/>
                    </a:lnTo>
                    <a:lnTo>
                      <a:pt x="65" y="103"/>
                    </a:lnTo>
                    <a:lnTo>
                      <a:pt x="43" y="112"/>
                    </a:lnTo>
                    <a:lnTo>
                      <a:pt x="26" y="119"/>
                    </a:lnTo>
                    <a:lnTo>
                      <a:pt x="16" y="129"/>
                    </a:lnTo>
                    <a:lnTo>
                      <a:pt x="17" y="14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359320" y="5941800"/>
                <a:ext cx="74520" cy="178560"/>
              </a:xfrm>
              <a:custGeom>
                <a:avLst/>
                <a:gdLst/>
                <a:ahLst/>
                <a:rect l="l" t="t" r="r" b="b"/>
                <a:pathLst>
                  <a:path w="45" h="178">
                    <a:moveTo>
                      <a:pt x="16" y="0"/>
                    </a:moveTo>
                    <a:lnTo>
                      <a:pt x="10" y="9"/>
                    </a:lnTo>
                    <a:lnTo>
                      <a:pt x="7" y="23"/>
                    </a:lnTo>
                    <a:lnTo>
                      <a:pt x="5" y="42"/>
                    </a:lnTo>
                    <a:lnTo>
                      <a:pt x="2" y="65"/>
                    </a:lnTo>
                    <a:lnTo>
                      <a:pt x="0" y="90"/>
                    </a:lnTo>
                    <a:lnTo>
                      <a:pt x="2" y="115"/>
                    </a:lnTo>
                    <a:lnTo>
                      <a:pt x="9" y="141"/>
                    </a:lnTo>
                    <a:lnTo>
                      <a:pt x="21" y="163"/>
                    </a:lnTo>
                    <a:lnTo>
                      <a:pt x="40" y="178"/>
                    </a:lnTo>
                    <a:lnTo>
                      <a:pt x="45" y="157"/>
                    </a:lnTo>
                    <a:lnTo>
                      <a:pt x="31" y="145"/>
                    </a:lnTo>
                    <a:lnTo>
                      <a:pt x="24" y="131"/>
                    </a:lnTo>
                    <a:lnTo>
                      <a:pt x="17" y="111"/>
                    </a:lnTo>
                    <a:lnTo>
                      <a:pt x="17" y="90"/>
                    </a:lnTo>
                    <a:lnTo>
                      <a:pt x="17" y="65"/>
                    </a:lnTo>
                    <a:lnTo>
                      <a:pt x="20" y="46"/>
                    </a:lnTo>
                    <a:lnTo>
                      <a:pt x="22" y="26"/>
                    </a:lnTo>
                    <a:lnTo>
                      <a:pt x="25" y="12"/>
                    </a:lnTo>
                    <a:lnTo>
                      <a:pt x="19" y="21"/>
                    </a:lnTo>
                    <a:lnTo>
                      <a:pt x="25" y="12"/>
                    </a:lnTo>
                    <a:lnTo>
                      <a:pt x="24" y="3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10" y="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385600" y="593172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06" h="78">
                    <a:moveTo>
                      <a:pt x="106" y="78"/>
                    </a:moveTo>
                    <a:lnTo>
                      <a:pt x="106" y="78"/>
                    </a:lnTo>
                    <a:lnTo>
                      <a:pt x="104" y="58"/>
                    </a:lnTo>
                    <a:lnTo>
                      <a:pt x="98" y="39"/>
                    </a:lnTo>
                    <a:lnTo>
                      <a:pt x="88" y="21"/>
                    </a:lnTo>
                    <a:lnTo>
                      <a:pt x="74" y="11"/>
                    </a:lnTo>
                    <a:lnTo>
                      <a:pt x="59" y="5"/>
                    </a:lnTo>
                    <a:lnTo>
                      <a:pt x="41" y="0"/>
                    </a:lnTo>
                    <a:lnTo>
                      <a:pt x="23" y="3"/>
                    </a:lnTo>
                    <a:lnTo>
                      <a:pt x="0" y="9"/>
                    </a:lnTo>
                    <a:lnTo>
                      <a:pt x="3" y="30"/>
                    </a:lnTo>
                    <a:lnTo>
                      <a:pt x="23" y="25"/>
                    </a:lnTo>
                    <a:lnTo>
                      <a:pt x="41" y="25"/>
                    </a:lnTo>
                    <a:lnTo>
                      <a:pt x="56" y="26"/>
                    </a:lnTo>
                    <a:lnTo>
                      <a:pt x="69" y="32"/>
                    </a:lnTo>
                    <a:lnTo>
                      <a:pt x="78" y="39"/>
                    </a:lnTo>
                    <a:lnTo>
                      <a:pt x="85" y="49"/>
                    </a:lnTo>
                    <a:lnTo>
                      <a:pt x="89" y="62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106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387400" y="6010200"/>
                <a:ext cx="174240" cy="11052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23" y="109"/>
                    </a:moveTo>
                    <a:lnTo>
                      <a:pt x="29" y="90"/>
                    </a:lnTo>
                    <a:lnTo>
                      <a:pt x="15" y="72"/>
                    </a:lnTo>
                    <a:lnTo>
                      <a:pt x="15" y="69"/>
                    </a:lnTo>
                    <a:lnTo>
                      <a:pt x="20" y="63"/>
                    </a:lnTo>
                    <a:lnTo>
                      <a:pt x="37" y="56"/>
                    </a:lnTo>
                    <a:lnTo>
                      <a:pt x="59" y="48"/>
                    </a:lnTo>
                    <a:lnTo>
                      <a:pt x="79" y="39"/>
                    </a:lnTo>
                    <a:lnTo>
                      <a:pt x="95" y="25"/>
                    </a:lnTo>
                    <a:lnTo>
                      <a:pt x="105" y="0"/>
                    </a:lnTo>
                    <a:lnTo>
                      <a:pt x="88" y="0"/>
                    </a:lnTo>
                    <a:lnTo>
                      <a:pt x="85" y="10"/>
                    </a:lnTo>
                    <a:lnTo>
                      <a:pt x="74" y="17"/>
                    </a:lnTo>
                    <a:lnTo>
                      <a:pt x="54" y="26"/>
                    </a:lnTo>
                    <a:lnTo>
                      <a:pt x="34" y="35"/>
                    </a:lnTo>
                    <a:lnTo>
                      <a:pt x="15" y="42"/>
                    </a:lnTo>
                    <a:lnTo>
                      <a:pt x="0" y="58"/>
                    </a:lnTo>
                    <a:lnTo>
                      <a:pt x="3" y="83"/>
                    </a:lnTo>
                    <a:lnTo>
                      <a:pt x="22" y="108"/>
                    </a:lnTo>
                    <a:lnTo>
                      <a:pt x="28" y="88"/>
                    </a:lnTo>
                    <a:lnTo>
                      <a:pt x="22" y="108"/>
                    </a:lnTo>
                    <a:lnTo>
                      <a:pt x="27" y="109"/>
                    </a:lnTo>
                    <a:lnTo>
                      <a:pt x="32" y="104"/>
                    </a:lnTo>
                    <a:lnTo>
                      <a:pt x="32" y="97"/>
                    </a:lnTo>
                    <a:lnTo>
                      <a:pt x="29" y="90"/>
                    </a:lnTo>
                    <a:lnTo>
                      <a:pt x="2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151600" y="5779440"/>
                <a:ext cx="174240" cy="232920"/>
              </a:xfrm>
              <a:custGeom>
                <a:avLst/>
                <a:gdLst/>
                <a:ahLst/>
                <a:rect l="l" t="t" r="r" b="b"/>
                <a:pathLst>
                  <a:path w="105" h="232">
                    <a:moveTo>
                      <a:pt x="41" y="232"/>
                    </a:moveTo>
                    <a:lnTo>
                      <a:pt x="29" y="224"/>
                    </a:lnTo>
                    <a:lnTo>
                      <a:pt x="17" y="210"/>
                    </a:lnTo>
                    <a:lnTo>
                      <a:pt x="10" y="189"/>
                    </a:lnTo>
                    <a:lnTo>
                      <a:pt x="5" y="161"/>
                    </a:lnTo>
                    <a:lnTo>
                      <a:pt x="1" y="127"/>
                    </a:lnTo>
                    <a:lnTo>
                      <a:pt x="0" y="90"/>
                    </a:lnTo>
                    <a:lnTo>
                      <a:pt x="0" y="46"/>
                    </a:lnTo>
                    <a:lnTo>
                      <a:pt x="2" y="0"/>
                    </a:lnTo>
                    <a:lnTo>
                      <a:pt x="21" y="1"/>
                    </a:lnTo>
                    <a:lnTo>
                      <a:pt x="39" y="7"/>
                    </a:lnTo>
                    <a:lnTo>
                      <a:pt x="56" y="14"/>
                    </a:lnTo>
                    <a:lnTo>
                      <a:pt x="72" y="23"/>
                    </a:lnTo>
                    <a:lnTo>
                      <a:pt x="86" y="35"/>
                    </a:lnTo>
                    <a:lnTo>
                      <a:pt x="97" y="51"/>
                    </a:lnTo>
                    <a:lnTo>
                      <a:pt x="104" y="70"/>
                    </a:lnTo>
                    <a:lnTo>
                      <a:pt x="105" y="94"/>
                    </a:lnTo>
                    <a:lnTo>
                      <a:pt x="99" y="111"/>
                    </a:lnTo>
                    <a:lnTo>
                      <a:pt x="82" y="125"/>
                    </a:lnTo>
                    <a:lnTo>
                      <a:pt x="62" y="140"/>
                    </a:lnTo>
                    <a:lnTo>
                      <a:pt x="41" y="154"/>
                    </a:lnTo>
                    <a:lnTo>
                      <a:pt x="25" y="170"/>
                    </a:lnTo>
                    <a:lnTo>
                      <a:pt x="16" y="186"/>
                    </a:lnTo>
                    <a:lnTo>
                      <a:pt x="20" y="207"/>
                    </a:lnTo>
                    <a:lnTo>
                      <a:pt x="41" y="23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36840" y="5769360"/>
                <a:ext cx="82800" cy="254520"/>
              </a:xfrm>
              <a:custGeom>
                <a:avLst/>
                <a:gdLst/>
                <a:ahLst/>
                <a:rect l="l" t="t" r="r" b="b"/>
                <a:pathLst>
                  <a:path w="50" h="253">
                    <a:moveTo>
                      <a:pt x="11" y="0"/>
                    </a:moveTo>
                    <a:lnTo>
                      <a:pt x="4" y="11"/>
                    </a:lnTo>
                    <a:lnTo>
                      <a:pt x="1" y="57"/>
                    </a:lnTo>
                    <a:lnTo>
                      <a:pt x="0" y="101"/>
                    </a:lnTo>
                    <a:lnTo>
                      <a:pt x="3" y="138"/>
                    </a:lnTo>
                    <a:lnTo>
                      <a:pt x="6" y="174"/>
                    </a:lnTo>
                    <a:lnTo>
                      <a:pt x="11" y="204"/>
                    </a:lnTo>
                    <a:lnTo>
                      <a:pt x="20" y="228"/>
                    </a:lnTo>
                    <a:lnTo>
                      <a:pt x="34" y="244"/>
                    </a:lnTo>
                    <a:lnTo>
                      <a:pt x="50" y="253"/>
                    </a:lnTo>
                    <a:lnTo>
                      <a:pt x="50" y="232"/>
                    </a:lnTo>
                    <a:lnTo>
                      <a:pt x="41" y="227"/>
                    </a:lnTo>
                    <a:lnTo>
                      <a:pt x="33" y="214"/>
                    </a:lnTo>
                    <a:lnTo>
                      <a:pt x="26" y="197"/>
                    </a:lnTo>
                    <a:lnTo>
                      <a:pt x="21" y="170"/>
                    </a:lnTo>
                    <a:lnTo>
                      <a:pt x="18" y="138"/>
                    </a:lnTo>
                    <a:lnTo>
                      <a:pt x="18" y="101"/>
                    </a:lnTo>
                    <a:lnTo>
                      <a:pt x="16" y="57"/>
                    </a:lnTo>
                    <a:lnTo>
                      <a:pt x="19" y="11"/>
                    </a:lnTo>
                    <a:lnTo>
                      <a:pt x="11" y="21"/>
                    </a:lnTo>
                    <a:lnTo>
                      <a:pt x="19" y="11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54840" y="5769360"/>
                <a:ext cx="182520" cy="104040"/>
              </a:xfrm>
              <a:custGeom>
                <a:avLst/>
                <a:gdLst/>
                <a:ahLst/>
                <a:rect l="l" t="t" r="r" b="b"/>
                <a:pathLst>
                  <a:path w="110" h="105">
                    <a:moveTo>
                      <a:pt x="110" y="105"/>
                    </a:moveTo>
                    <a:lnTo>
                      <a:pt x="110" y="105"/>
                    </a:lnTo>
                    <a:lnTo>
                      <a:pt x="109" y="80"/>
                    </a:lnTo>
                    <a:lnTo>
                      <a:pt x="102" y="57"/>
                    </a:lnTo>
                    <a:lnTo>
                      <a:pt x="89" y="37"/>
                    </a:lnTo>
                    <a:lnTo>
                      <a:pt x="74" y="23"/>
                    </a:lnTo>
                    <a:lnTo>
                      <a:pt x="57" y="14"/>
                    </a:lnTo>
                    <a:lnTo>
                      <a:pt x="38" y="7"/>
                    </a:lnTo>
                    <a:lnTo>
                      <a:pt x="19" y="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5" y="28"/>
                    </a:lnTo>
                    <a:lnTo>
                      <a:pt x="52" y="35"/>
                    </a:lnTo>
                    <a:lnTo>
                      <a:pt x="67" y="44"/>
                    </a:lnTo>
                    <a:lnTo>
                      <a:pt x="79" y="55"/>
                    </a:lnTo>
                    <a:lnTo>
                      <a:pt x="89" y="67"/>
                    </a:lnTo>
                    <a:lnTo>
                      <a:pt x="94" y="83"/>
                    </a:lnTo>
                    <a:lnTo>
                      <a:pt x="95" y="105"/>
                    </a:lnTo>
                    <a:lnTo>
                      <a:pt x="95" y="105"/>
                    </a:lnTo>
                    <a:lnTo>
                      <a:pt x="11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166360" y="5873400"/>
                <a:ext cx="170640" cy="150480"/>
              </a:xfrm>
              <a:custGeom>
                <a:avLst/>
                <a:gdLst/>
                <a:ahLst/>
                <a:rect l="l" t="t" r="r" b="b"/>
                <a:pathLst>
                  <a:path w="103" h="148">
                    <a:moveTo>
                      <a:pt x="32" y="148"/>
                    </a:moveTo>
                    <a:lnTo>
                      <a:pt x="36" y="129"/>
                    </a:lnTo>
                    <a:lnTo>
                      <a:pt x="17" y="106"/>
                    </a:lnTo>
                    <a:lnTo>
                      <a:pt x="15" y="93"/>
                    </a:lnTo>
                    <a:lnTo>
                      <a:pt x="21" y="84"/>
                    </a:lnTo>
                    <a:lnTo>
                      <a:pt x="36" y="70"/>
                    </a:lnTo>
                    <a:lnTo>
                      <a:pt x="57" y="56"/>
                    </a:lnTo>
                    <a:lnTo>
                      <a:pt x="77" y="42"/>
                    </a:lnTo>
                    <a:lnTo>
                      <a:pt x="95" y="24"/>
                    </a:lnTo>
                    <a:lnTo>
                      <a:pt x="103" y="0"/>
                    </a:lnTo>
                    <a:lnTo>
                      <a:pt x="88" y="0"/>
                    </a:lnTo>
                    <a:lnTo>
                      <a:pt x="85" y="10"/>
                    </a:lnTo>
                    <a:lnTo>
                      <a:pt x="70" y="21"/>
                    </a:lnTo>
                    <a:lnTo>
                      <a:pt x="50" y="35"/>
                    </a:lnTo>
                    <a:lnTo>
                      <a:pt x="28" y="49"/>
                    </a:lnTo>
                    <a:lnTo>
                      <a:pt x="11" y="67"/>
                    </a:lnTo>
                    <a:lnTo>
                      <a:pt x="0" y="90"/>
                    </a:lnTo>
                    <a:lnTo>
                      <a:pt x="5" y="120"/>
                    </a:lnTo>
                    <a:lnTo>
                      <a:pt x="28" y="146"/>
                    </a:lnTo>
                    <a:lnTo>
                      <a:pt x="32" y="127"/>
                    </a:lnTo>
                    <a:lnTo>
                      <a:pt x="28" y="146"/>
                    </a:lnTo>
                    <a:lnTo>
                      <a:pt x="33" y="148"/>
                    </a:lnTo>
                    <a:lnTo>
                      <a:pt x="38" y="143"/>
                    </a:lnTo>
                    <a:lnTo>
                      <a:pt x="38" y="136"/>
                    </a:lnTo>
                    <a:lnTo>
                      <a:pt x="36" y="129"/>
                    </a:lnTo>
                    <a:lnTo>
                      <a:pt x="32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31720" y="5424480"/>
                <a:ext cx="23040" cy="447120"/>
              </a:xfrm>
              <a:custGeom>
                <a:avLst/>
                <a:gdLst/>
                <a:ahLst/>
                <a:rect l="l" t="t" r="r" b="b"/>
                <a:pathLst>
                  <a:path w="14" h="446">
                    <a:moveTo>
                      <a:pt x="0" y="0"/>
                    </a:moveTo>
                    <a:lnTo>
                      <a:pt x="14" y="4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420200" y="541440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2" y="2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0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420200" y="5424480"/>
                <a:ext cx="46080" cy="447120"/>
              </a:xfrm>
              <a:custGeom>
                <a:avLst/>
                <a:gdLst/>
                <a:ahLst/>
                <a:rect l="l" t="t" r="r" b="b"/>
                <a:pathLst>
                  <a:path w="28" h="446">
                    <a:moveTo>
                      <a:pt x="21" y="446"/>
                    </a:moveTo>
                    <a:lnTo>
                      <a:pt x="28" y="446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13" y="446"/>
                    </a:lnTo>
                    <a:lnTo>
                      <a:pt x="21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41800" y="5871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3" y="7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34080" y="5554440"/>
                <a:ext cx="4680" cy="441360"/>
              </a:xfrm>
              <a:custGeom>
                <a:avLst/>
                <a:gdLst/>
                <a:ahLst/>
                <a:rect l="l" t="t" r="r" b="b"/>
                <a:pathLst>
                  <a:path w="3" h="441">
                    <a:moveTo>
                      <a:pt x="2" y="0"/>
                    </a:moveTo>
                    <a:lnTo>
                      <a:pt x="2" y="58"/>
                    </a:lnTo>
                    <a:lnTo>
                      <a:pt x="3" y="193"/>
                    </a:lnTo>
                    <a:lnTo>
                      <a:pt x="3" y="342"/>
                    </a:lnTo>
                    <a:lnTo>
                      <a:pt x="0" y="44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22560" y="5542560"/>
                <a:ext cx="28080" cy="115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12"/>
                    </a:moveTo>
                    <a:lnTo>
                      <a:pt x="15" y="3"/>
                    </a:lnTo>
                    <a:lnTo>
                      <a:pt x="9" y="0"/>
                    </a:lnTo>
                    <a:lnTo>
                      <a:pt x="2" y="3"/>
                    </a:lnTo>
                    <a:lnTo>
                      <a:pt x="0" y="12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222560" y="5554440"/>
                <a:ext cx="31320" cy="441360"/>
              </a:xfrm>
              <a:custGeom>
                <a:avLst/>
                <a:gdLst/>
                <a:ahLst/>
                <a:rect l="l" t="t" r="r" b="b"/>
                <a:pathLst>
                  <a:path w="19" h="441">
                    <a:moveTo>
                      <a:pt x="15" y="441"/>
                    </a:moveTo>
                    <a:lnTo>
                      <a:pt x="19" y="342"/>
                    </a:lnTo>
                    <a:lnTo>
                      <a:pt x="19" y="193"/>
                    </a:lnTo>
                    <a:lnTo>
                      <a:pt x="17" y="58"/>
                    </a:lnTo>
                    <a:lnTo>
                      <a:pt x="16" y="0"/>
                    </a:lnTo>
                    <a:lnTo>
                      <a:pt x="1" y="0"/>
                    </a:lnTo>
                    <a:lnTo>
                      <a:pt x="0" y="58"/>
                    </a:lnTo>
                    <a:lnTo>
                      <a:pt x="1" y="193"/>
                    </a:lnTo>
                    <a:lnTo>
                      <a:pt x="1" y="342"/>
                    </a:lnTo>
                    <a:lnTo>
                      <a:pt x="0" y="441"/>
                    </a:lnTo>
                    <a:lnTo>
                      <a:pt x="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22560" y="599580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2" y="7"/>
                    </a:lnTo>
                    <a:lnTo>
                      <a:pt x="7" y="10"/>
                    </a:lnTo>
                    <a:lnTo>
                      <a:pt x="12" y="7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26200" y="5424480"/>
                <a:ext cx="22680" cy="447120"/>
              </a:xfrm>
              <a:custGeom>
                <a:avLst/>
                <a:gdLst/>
                <a:ahLst/>
                <a:rect l="l" t="t" r="r" b="b"/>
                <a:pathLst>
                  <a:path w="14" h="446">
                    <a:moveTo>
                      <a:pt x="14" y="0"/>
                    </a:moveTo>
                    <a:lnTo>
                      <a:pt x="0" y="44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335920" y="541440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1"/>
                    </a:moveTo>
                    <a:lnTo>
                      <a:pt x="13" y="2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11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312520" y="5424480"/>
                <a:ext cx="47880" cy="447120"/>
              </a:xfrm>
              <a:custGeom>
                <a:avLst/>
                <a:gdLst/>
                <a:ahLst/>
                <a:rect l="l" t="t" r="r" b="b"/>
                <a:pathLst>
                  <a:path w="29" h="446">
                    <a:moveTo>
                      <a:pt x="8" y="446"/>
                    </a:moveTo>
                    <a:lnTo>
                      <a:pt x="15" y="446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0" y="446"/>
                    </a:lnTo>
                    <a:lnTo>
                      <a:pt x="8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312520" y="5871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3" y="7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41840" y="5554440"/>
                <a:ext cx="6120" cy="441360"/>
              </a:xfrm>
              <a:custGeom>
                <a:avLst/>
                <a:gdLst/>
                <a:ahLst/>
                <a:rect l="l" t="t" r="r" b="b"/>
                <a:pathLst>
                  <a:path w="4" h="441">
                    <a:moveTo>
                      <a:pt x="1" y="0"/>
                    </a:moveTo>
                    <a:lnTo>
                      <a:pt x="1" y="58"/>
                    </a:lnTo>
                    <a:lnTo>
                      <a:pt x="0" y="193"/>
                    </a:lnTo>
                    <a:lnTo>
                      <a:pt x="1" y="342"/>
                    </a:lnTo>
                    <a:lnTo>
                      <a:pt x="4" y="44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528520" y="554256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12"/>
                    </a:moveTo>
                    <a:lnTo>
                      <a:pt x="15" y="3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526720" y="5554440"/>
                <a:ext cx="33120" cy="441360"/>
              </a:xfrm>
              <a:custGeom>
                <a:avLst/>
                <a:gdLst/>
                <a:ahLst/>
                <a:rect l="l" t="t" r="r" b="b"/>
                <a:pathLst>
                  <a:path w="20" h="441">
                    <a:moveTo>
                      <a:pt x="20" y="441"/>
                    </a:moveTo>
                    <a:lnTo>
                      <a:pt x="18" y="342"/>
                    </a:lnTo>
                    <a:lnTo>
                      <a:pt x="18" y="193"/>
                    </a:lnTo>
                    <a:lnTo>
                      <a:pt x="19" y="58"/>
                    </a:lnTo>
                    <a:lnTo>
                      <a:pt x="18" y="0"/>
                    </a:lnTo>
                    <a:lnTo>
                      <a:pt x="3" y="0"/>
                    </a:lnTo>
                    <a:lnTo>
                      <a:pt x="1" y="58"/>
                    </a:lnTo>
                    <a:lnTo>
                      <a:pt x="0" y="193"/>
                    </a:lnTo>
                    <a:lnTo>
                      <a:pt x="3" y="342"/>
                    </a:lnTo>
                    <a:lnTo>
                      <a:pt x="5" y="441"/>
                    </a:lnTo>
                    <a:lnTo>
                      <a:pt x="2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35000" y="599580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3" y="7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495360" y="1143000"/>
              <a:ext cx="5838840" cy="6019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cript MT Bold"/>
                </a:rPr>
                <a:t>MARRIAGE CERTIFIC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cript MT Bold"/>
                </a:rPr>
                <a:t>STATE OF GEOR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cript MT Bold"/>
                </a:rPr>
                <a:t>COUNTY OF COB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36760" y="1424160"/>
              <a:ext cx="240048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59000" y="3274920"/>
              <a:ext cx="28288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54760" y="334656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OM: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08960" y="3346560"/>
              <a:ext cx="87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TE R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54040" y="380844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DE: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09320" y="3808440"/>
              <a:ext cx="155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LIICIA H. MONT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68400" y="4314960"/>
              <a:ext cx="51703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34640" y="4384800"/>
              <a:ext cx="448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ABOVE NAMED INDIVIDUALS WERE MARRIED BY ME IN HOL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58400" y="4597560"/>
              <a:ext cx="158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RIMONY ON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08640" y="4597560"/>
              <a:ext cx="34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15T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65040" y="459756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Y OF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92520" y="4597560"/>
              <a:ext cx="109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DECEMBER 20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38280" y="5121360"/>
              <a:ext cx="2168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36560" y="517536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rush Script MT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16920" y="5234040"/>
              <a:ext cx="74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Handwriting"/>
                </a:rPr>
                <a:t>Gerald 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81360" y="5234040"/>
              <a:ext cx="70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Handwriting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Lucida Handwriting"/>
                </a:rPr>
                <a:t>Pitt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47440" y="5462640"/>
              <a:ext cx="155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LD PITT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19320" y="5734080"/>
              <a:ext cx="23400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14360" y="5805360"/>
              <a:ext cx="205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 OF THE PE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409760" y="78868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INSTRUCTIONAL PURPOS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772080" y="990720"/>
            <a:ext cx="1004760" cy="3142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25280" y="57240"/>
            <a:ext cx="6631200" cy="863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79360" y="203040"/>
            <a:ext cx="6349680" cy="1174680"/>
            <a:chOff x="279360" y="203040"/>
            <a:chExt cx="6349680" cy="1174680"/>
          </a:xfrm>
        </p:grpSpPr>
        <p:sp>
          <p:nvSpPr>
            <p:cNvPr id="793" name=""/>
            <p:cNvSpPr/>
            <p:nvPr/>
          </p:nvSpPr>
          <p:spPr>
            <a:xfrm>
              <a:off x="3515760" y="203040"/>
              <a:ext cx="3113280" cy="11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9360" y="203040"/>
              <a:ext cx="3112920" cy="117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271440" y="1441440"/>
            <a:ext cx="6362640" cy="705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9440" y="53208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 SYMB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359880" y="511920"/>
            <a:ext cx="2400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MENT/TERMINATION TO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2000" y="1918800"/>
            <a:ext cx="177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: SEE DISTRI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40560" y="1941840"/>
            <a:ext cx="188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: HOUSING OFF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5240" y="1921320"/>
            <a:ext cx="647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: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74800" y="216396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T STEWART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-428040" y="3032640"/>
            <a:ext cx="5934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just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THE FOLLOWING INDIVIDUAL IS ASSIGNED/TERMINATED GOVERNMENT FAMILY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ARTER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1520" y="4932720"/>
            <a:ext cx="16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EFFECTIVE 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28880" y="5203440"/>
            <a:ext cx="199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AUTHORITY:  AR 210-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-399600" y="5573880"/>
            <a:ext cx="61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just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THIS MOVE IS FOR THE CONVENIENCE OF:  GOVERNMENT/ INDIVIDUAL/ COMM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-217440" y="5914440"/>
            <a:ext cx="47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THIS ACTION IS/ IS NOT TAKEN AS PART OF INTRAPOST MO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8960" y="6249960"/>
            <a:ext cx="1168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762280" y="6906240"/>
            <a:ext cx="1783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ORENCE E LEGGET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: FAM HSG MGT B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49600" y="6487920"/>
            <a:ext cx="522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3040" y="74851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just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5560" y="7688520"/>
            <a:ext cx="12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IVIDUAL  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1200" y="7859880"/>
            <a:ext cx="168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 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3800" y="8018640"/>
            <a:ext cx="154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NCE OFFICE 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41640" y="8177400"/>
            <a:ext cx="8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   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6000" y="8336160"/>
            <a:ext cx="111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LE COPY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71760" y="1903680"/>
            <a:ext cx="89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OC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33120" y="3578760"/>
            <a:ext cx="3035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: PAUL, RAYMOND J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NK: SSG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AN: 999-78-2453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: 23RD MI B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: ADEQUATE FAMILY HOUSING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RESS: 1099 DRUM D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F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08480" y="1052640"/>
            <a:ext cx="26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MENT TO FAMILY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49840" y="1040040"/>
            <a:ext cx="112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SG-TD-EF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24200" y="4957920"/>
            <a:ext cx="13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OCTOBER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12680" y="8202960"/>
            <a:ext cx="310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 FOR INSTRUCTIONAL PURPOSE ON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37120" y="87184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09880" y="990720"/>
            <a:ext cx="1005120" cy="3142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5280" y="7920"/>
            <a:ext cx="6631200" cy="863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85840" y="198360"/>
            <a:ext cx="6343200" cy="1174320"/>
            <a:chOff x="285840" y="198360"/>
            <a:chExt cx="6343200" cy="1174320"/>
          </a:xfrm>
        </p:grpSpPr>
        <p:sp>
          <p:nvSpPr>
            <p:cNvPr id="826" name=""/>
            <p:cNvSpPr/>
            <p:nvPr/>
          </p:nvSpPr>
          <p:spPr>
            <a:xfrm>
              <a:off x="3519000" y="198360"/>
              <a:ext cx="3110040" cy="11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5840" y="198360"/>
              <a:ext cx="3110040" cy="11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271440" y="1441440"/>
            <a:ext cx="6362640" cy="705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9440" y="53208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 SYMB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359880" y="511920"/>
            <a:ext cx="2400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MENT/TERMINATION TO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2000" y="1918800"/>
            <a:ext cx="177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: SEE DISTRI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40560" y="1941840"/>
            <a:ext cx="188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: HOUSING OFF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75240" y="1921320"/>
            <a:ext cx="647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: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74800" y="216396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T STEWART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-428040" y="3032640"/>
            <a:ext cx="59346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just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THE FOLLOWING INDIVIDUAL IS ASSIGNED/TERMINATED GOVERNMENT FAMILY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ARTER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1520" y="4932720"/>
            <a:ext cx="16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EFFECTIVE 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7960" y="5203440"/>
            <a:ext cx="199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AUTHORITY:  AR 210-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-371160" y="5573880"/>
            <a:ext cx="61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just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THIS MOVE IS FOR THE CONVENIENCE OF:  GOVERNMENT/ INDIVIDUAL/ COMM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-188640" y="5847120"/>
            <a:ext cx="47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THIS ACTION IS/ IS NOT TAKEN AS PART OF INTRAPOST MO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8960" y="6249960"/>
            <a:ext cx="11689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AND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62280" y="6906240"/>
            <a:ext cx="17830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ORENCE E LEGGET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: FAM HSG MGT B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49600" y="6487920"/>
            <a:ext cx="522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73960" y="74851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2400" y="7673400"/>
            <a:ext cx="121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 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0040" y="7845120"/>
            <a:ext cx="168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 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3800" y="8027640"/>
            <a:ext cx="155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NCE OFFICE 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1640" y="8177400"/>
            <a:ext cx="8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   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6000" y="8336160"/>
            <a:ext cx="111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LE COPY 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62040" y="1903680"/>
            <a:ext cx="97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OCT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01800" y="3578760"/>
            <a:ext cx="3278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: DOUGLAS, JAMES P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NK: SFC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AN: 999-72-3188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: 23RD DIV BA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INATION: ADEQUATE FAMILY HOUSING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RESS: 1097 DRUM D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FT STEWART, GA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03080" y="1052640"/>
            <a:ext cx="264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INATION OF FAMILY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49840" y="1040040"/>
            <a:ext cx="112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SG-TD-EF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14840" y="4957920"/>
            <a:ext cx="13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 OCTOBER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2680" y="8202960"/>
            <a:ext cx="310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 FOR INSTRUCTIONAL PURPOSE ON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250080" y="865836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6880320" y="8596440"/>
            <a:ext cx="298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45480" y="8763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-228600" y="914400"/>
          <a:ext cx="7086600" cy="74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914400"/>
                    <a:ext cx="7086600" cy="74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"/>
          <p:cNvSpPr/>
          <p:nvPr/>
        </p:nvSpPr>
        <p:spPr>
          <a:xfrm>
            <a:off x="2662200" y="7202520"/>
            <a:ext cx="514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rush Script MT"/>
              </a:rPr>
              <a:t>/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98800" y="4444920"/>
            <a:ext cx="178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rush Script MT"/>
              </a:rPr>
              <a:t>Ronnie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4572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17680" y="1447920"/>
            <a:ext cx="55735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214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7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rve Units and UIC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Form 4187 (Name Ch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Form 4187 (Reduction in Gra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Form 362  Report of Surv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            35                DA 70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GLV-828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ervicemen’s Group Life Insu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ion and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-4 For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ll Attendance Ro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rve Orders (Long To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            40                Reserve Orders (Short Tour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41360" y="609480"/>
            <a:ext cx="58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S ASSOCIATED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RVE P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61240" y="8393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0960" y="112680"/>
            <a:ext cx="6451920" cy="8381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080" y="8888400"/>
            <a:ext cx="63928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95080" y="8621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80880"/>
          <a:ext cx="539244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539244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0" y="0"/>
          <a:ext cx="701028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1028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3730680" y="8283600"/>
            <a:ext cx="1218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atura MT Script Capitals"/>
              </a:rPr>
              <a:t>SPC MARLBO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920" y="4815000"/>
            <a:ext cx="27500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rush Script MT"/>
              </a:rPr>
              <a:t>BRUCE HEATH, CPT, AR, COMMA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72480" y="4135320"/>
            <a:ext cx="6501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41400" bIns="41400" anchor="t">
            <a:spAutoFit/>
          </a:bodyPr>
          <a:p>
            <a:pPr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XXXX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14200" y="8904240"/>
            <a:ext cx="43848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4864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447840" y="2222640"/>
            <a:ext cx="5924520" cy="451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6800" y="2411280"/>
            <a:ext cx="65160" cy="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28880" y="2421000"/>
            <a:ext cx="77760" cy="7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0040" y="2770200"/>
            <a:ext cx="77760" cy="7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28880" y="2592360"/>
            <a:ext cx="777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00040" y="2946240"/>
            <a:ext cx="777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028880" y="2770200"/>
            <a:ext cx="77760" cy="7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7440" y="2592360"/>
            <a:ext cx="7920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028880" y="2946240"/>
            <a:ext cx="777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122560" y="3475080"/>
            <a:ext cx="759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122560" y="3840120"/>
            <a:ext cx="7596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0040" y="3122640"/>
            <a:ext cx="7776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41560" y="2271600"/>
            <a:ext cx="0" cy="445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21240" y="2259000"/>
            <a:ext cx="0" cy="447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2520" y="3271680"/>
            <a:ext cx="591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52720" y="4921200"/>
            <a:ext cx="43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31280" y="6049800"/>
            <a:ext cx="410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2520" y="5119560"/>
            <a:ext cx="15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2520" y="4195800"/>
            <a:ext cx="15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54160" y="6272280"/>
            <a:ext cx="431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37080" y="594216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38520" y="55958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32400" y="5262480"/>
            <a:ext cx="18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32400" y="459576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43560" y="4265640"/>
            <a:ext cx="18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32400" y="393048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32400" y="360216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63800" y="6280200"/>
            <a:ext cx="360" cy="46188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0" y="2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2720" y="2558880"/>
            <a:ext cx="24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4160" y="2919240"/>
            <a:ext cx="24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49560" y="257328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424160" y="3103560"/>
            <a:ext cx="40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04280" y="2252880"/>
            <a:ext cx="1239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  TYPE OF PAYMENT (Check on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8480" y="2387160"/>
            <a:ext cx="5396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A (ADVANC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126800" y="2387160"/>
            <a:ext cx="6037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M (BONUS/RRB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3400" y="2538360"/>
            <a:ext cx="65844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PC (CASUAL)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26080" y="2558880"/>
            <a:ext cx="5702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Q (SEPARAT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9560" y="2736360"/>
            <a:ext cx="5457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J (CONT/PAY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127160" y="2736360"/>
            <a:ext cx="54720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Q (REENLIST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0280" y="2908080"/>
            <a:ext cx="5043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X (PARTIAL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37240" y="2913840"/>
            <a:ext cx="493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THER (LIS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YP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9560" y="3085920"/>
            <a:ext cx="58680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L (BONUS/SRB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028240" y="2553120"/>
            <a:ext cx="961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  SOCIAL SECURITY N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027160" y="2900520"/>
            <a:ext cx="1527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  PERMANENT PARTY STATION ADDRES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11480" y="2295720"/>
            <a:ext cx="24159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 AUTHORIZATION (JUM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60800" y="2413440"/>
            <a:ext cx="22464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r use of this form see AR 37-014-3; the proponent agency is ASA (FM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013200" y="2545200"/>
            <a:ext cx="1002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 NAME (Last, First, Middl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7200" y="2259360"/>
            <a:ext cx="434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ID B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71560" y="3270600"/>
            <a:ext cx="1158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.  VOUCHER DATE (YYMMDD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73360" y="3607200"/>
            <a:ext cx="778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1.  AGENCY CO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6080" y="3281760"/>
            <a:ext cx="1367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 SPECIAL PAYMENT INSTRUCTION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9680" y="4210200"/>
            <a:ext cx="1228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7.  CHECK ADDRESS ( if applicabl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08600" y="5135760"/>
            <a:ext cx="705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8.  PCS ACTION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3480" y="5422680"/>
            <a:ext cx="109728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AYMENT POSTED TO DA FORM 23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1040" y="5657400"/>
            <a:ext cx="13885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EMBER NOT IN POSSESSION OF PCS PACKAG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01480" y="5462640"/>
            <a:ext cx="61920" cy="6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01480" y="5700600"/>
            <a:ext cx="61920" cy="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08240" y="6044040"/>
            <a:ext cx="12268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7. PREPARED BY (Signature/Dat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16960" y="6072480"/>
            <a:ext cx="19418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CEIPT OF AMOUNT SHOWN PAID IS ACKNOWLEDG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27880" y="6285240"/>
            <a:ext cx="101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8.  SIGNATURE OF PAYE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762000" y="6285240"/>
            <a:ext cx="477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9.  DA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470840" y="6285240"/>
            <a:ext cx="12499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0.  APPROVED BY (Signature/Dat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473360" y="5945400"/>
            <a:ext cx="894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6.  PAYROLL 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70120" y="5618520"/>
            <a:ext cx="14007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5b NUMBER OF MONTHS REPAYME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1200" y="5281920"/>
            <a:ext cx="1329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5a  NUMBER OF MONTHS ADVAN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473720" y="3913560"/>
            <a:ext cx="9190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2.  VOUCHER 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471920" y="4278600"/>
            <a:ext cx="7513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3.  AMOUNT PAI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471560" y="4611960"/>
            <a:ext cx="1261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4 CLEAR ACCOUNT ID (Check on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1560" y="4921560"/>
            <a:ext cx="15332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5.  ADVANCE PAY CATEGORY (if applicabl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559400" y="4739760"/>
            <a:ext cx="1429200" cy="140400"/>
            <a:chOff x="4559400" y="4739760"/>
            <a:chExt cx="1429200" cy="140400"/>
          </a:xfrm>
        </p:grpSpPr>
        <p:sp>
          <p:nvSpPr>
            <p:cNvPr id="943" name=""/>
            <p:cNvSpPr/>
            <p:nvPr/>
          </p:nvSpPr>
          <p:spPr>
            <a:xfrm>
              <a:off x="4559400" y="4784040"/>
              <a:ext cx="71280" cy="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73080" y="4784040"/>
              <a:ext cx="71280" cy="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36080" y="4739760"/>
              <a:ext cx="4024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61640" y="4739760"/>
              <a:ext cx="42696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NLIS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2030760" y="4921560"/>
            <a:ext cx="586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9.  REMARK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2120" y="3313440"/>
            <a:ext cx="1780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.  MEMBER CERTIFICATION (Check appropriate item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90600" y="3407040"/>
            <a:ext cx="22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 have received _______previous casual payment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during this reassignment, TDY, or  authorized lea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nder Order No.__________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93840" y="3728160"/>
            <a:ext cx="240804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the best of my knowledge, all payments I ha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eceived have been deducted from my pay accoun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nd all leave I have taken has been posted agains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y leave balance.  I understand that the final paymen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de to me on my separation form active service ma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 adjusted by central site. This adjustment would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ased on a detailed computation of all valid transaction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ffecting my pay account.  I have also been inform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at my final leave and earnings statement will show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ny adjustments that are known on my computation d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45960" y="6755040"/>
            <a:ext cx="158652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FORM  7003, JUL 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73280" y="6769080"/>
            <a:ext cx="16416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87840" y="4764240"/>
            <a:ext cx="76320" cy="8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505480" y="4764240"/>
            <a:ext cx="77760" cy="8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27000" y="176040"/>
            <a:ext cx="1139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4720" y="8736120"/>
            <a:ext cx="4645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00520" y="2687760"/>
            <a:ext cx="257580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9-99-1000           PARSNIP, REGINA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HC, 1/15th ARMOUR  D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 STEWART  GA  31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88480" y="2341440"/>
            <a:ext cx="16430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rd 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 STEWART GA, 314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SN 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 SEP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09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0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395.00        /I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999800" y="3747960"/>
            <a:ext cx="347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059200" y="5046840"/>
            <a:ext cx="23043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 PYMT FOR EMERG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S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1*2010 01-1100 P1190.00 1199 S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76920" y="6221520"/>
            <a:ext cx="63964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/ S / 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**0919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 Reginald Parsnip 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              FOR:Walter  C.  Cory,LTC, F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SEP**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32440" y="778356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Instructional Purposes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261240" y="846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4" name=""/>
          <p:cNvGraphicFramePr/>
          <p:nvPr/>
        </p:nvGraphicFramePr>
        <p:xfrm>
          <a:off x="739800" y="638280"/>
          <a:ext cx="4921200" cy="35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638280"/>
                    <a:ext cx="49212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"/>
          <p:cNvSpPr/>
          <p:nvPr/>
        </p:nvSpPr>
        <p:spPr>
          <a:xfrm>
            <a:off x="482400" y="4684680"/>
            <a:ext cx="2117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T. Stewart, GA site ID is  “L5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5188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228600" y="228600"/>
          <a:ext cx="637236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3723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"/>
          <p:cNvSpPr/>
          <p:nvPr/>
        </p:nvSpPr>
        <p:spPr>
          <a:xfrm>
            <a:off x="325188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1" name=""/>
          <p:cNvGraphicFramePr/>
          <p:nvPr/>
        </p:nvGraphicFramePr>
        <p:xfrm>
          <a:off x="811080" y="415800"/>
          <a:ext cx="5235840" cy="705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415800"/>
                    <a:ext cx="5235840" cy="705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325188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90360" y="23493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338880" y="8667720"/>
            <a:ext cx="29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0" y="0"/>
          <a:ext cx="68580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4946400" y="5226120"/>
            <a:ext cx="941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84280" y="5732640"/>
            <a:ext cx="846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Matura MT Script Capitals"/>
              </a:rPr>
              <a:t>JOHN RILEY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93280" y="5778360"/>
            <a:ext cx="76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17200" y="77072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04200" y="8323200"/>
            <a:ext cx="689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Matura MT Script Capitals"/>
              </a:rPr>
              <a:t>T. J. ROW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258000" y="8686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90360" y="234936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38880" y="8667720"/>
            <a:ext cx="29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0" y="0"/>
          <a:ext cx="6858000" cy="891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91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1717200" y="77198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944800" y="8202600"/>
            <a:ext cx="1620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34080" y="8247240"/>
            <a:ext cx="94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tura MT Script Capitals"/>
              </a:rPr>
              <a:t>T. J. R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61240" y="8610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2" name=""/>
          <p:cNvGraphicFramePr/>
          <p:nvPr/>
        </p:nvGraphicFramePr>
        <p:xfrm>
          <a:off x="-228600" y="-380880"/>
          <a:ext cx="7315200" cy="937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380880"/>
                    <a:ext cx="7315200" cy="937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4272120" y="6729480"/>
            <a:ext cx="141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Matura MT Script Capitals"/>
              </a:rPr>
              <a:t>RICHARD W. TOWNS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65680" y="8001000"/>
            <a:ext cx="63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Matura MT Script Capitals"/>
              </a:rPr>
              <a:t>J.D. R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79720" y="8153280"/>
            <a:ext cx="134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D. R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RD F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 STEWART,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259600" y="8001000"/>
            <a:ext cx="925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Matura MT Script Capitals"/>
              </a:rPr>
              <a:t>JOHN H. LEW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210280" y="8153280"/>
            <a:ext cx="961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H. LEW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TC, F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61240" y="8686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47840" y="1905120"/>
            <a:ext cx="595296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6800" y="2411280"/>
            <a:ext cx="65160" cy="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028880" y="2421000"/>
            <a:ext cx="77760" cy="7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0040" y="2770200"/>
            <a:ext cx="77760" cy="7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28880" y="2592360"/>
            <a:ext cx="777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0040" y="2946240"/>
            <a:ext cx="777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28880" y="2770200"/>
            <a:ext cx="77760" cy="7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87440" y="2592360"/>
            <a:ext cx="7920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28880" y="2946240"/>
            <a:ext cx="777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122560" y="3475080"/>
            <a:ext cx="75960" cy="8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0040" y="3122640"/>
            <a:ext cx="7776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41560" y="2271600"/>
            <a:ext cx="0" cy="445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21240" y="2259000"/>
            <a:ext cx="0" cy="447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52520" y="3271680"/>
            <a:ext cx="591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52720" y="4921200"/>
            <a:ext cx="43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431280" y="6049800"/>
            <a:ext cx="410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52520" y="5119560"/>
            <a:ext cx="15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2520" y="4195800"/>
            <a:ext cx="15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054160" y="6272280"/>
            <a:ext cx="431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37080" y="594216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38520" y="55958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32400" y="5262480"/>
            <a:ext cx="183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32400" y="459576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43560" y="4265640"/>
            <a:ext cx="18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32400" y="393048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32400" y="3602160"/>
            <a:ext cx="18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63800" y="6280200"/>
            <a:ext cx="360" cy="46188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0" y="2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52720" y="2558880"/>
            <a:ext cx="24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054160" y="2919240"/>
            <a:ext cx="24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049560" y="257328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24160" y="3103560"/>
            <a:ext cx="40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4280" y="2252880"/>
            <a:ext cx="1239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.  TYPE OF PAYMENT (Check on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28480" y="2387160"/>
            <a:ext cx="5396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A (ADVANC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126800" y="2387160"/>
            <a:ext cx="6037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M (BONUS/RRB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9200" y="2558880"/>
            <a:ext cx="5000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C (CASUAL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26080" y="2558880"/>
            <a:ext cx="57024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Q (SEPARAT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9560" y="2736360"/>
            <a:ext cx="5457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J (CONT/PAY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127160" y="2736360"/>
            <a:ext cx="54720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Q (REENLIST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30280" y="2908080"/>
            <a:ext cx="5043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X (PARTIAL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37240" y="2913840"/>
            <a:ext cx="493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THER (LIS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YPE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29560" y="3085920"/>
            <a:ext cx="58680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L (BONUS/SRB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028240" y="2553120"/>
            <a:ext cx="9615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.  SOCIAL SECURITY N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027160" y="2900520"/>
            <a:ext cx="1527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  PERMANENT PARTY STATION ADDRES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214720" y="2252880"/>
            <a:ext cx="2409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 AUTHORIZATION (JUM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60800" y="2413440"/>
            <a:ext cx="22464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For use of this form see AR 37-014-3; the proponent agency is ASA (FM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13200" y="2545200"/>
            <a:ext cx="10029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3. NAME (Last, First, Middl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57200" y="2259360"/>
            <a:ext cx="434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PAID B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71560" y="3270600"/>
            <a:ext cx="11584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.  VOUCHER DATE (YYMMDD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73360" y="3607200"/>
            <a:ext cx="778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1.  AGENCY CO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06080" y="3281760"/>
            <a:ext cx="13672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5.  SPECIAL PAYMENT INSTRUCTION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9680" y="4210200"/>
            <a:ext cx="12286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7.  CHECK ADDRESS ( if applicabl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08600" y="5135760"/>
            <a:ext cx="705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8.  PCS ACTION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3480" y="5422680"/>
            <a:ext cx="109728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AYMENT POSTED TO DA FORM 23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1040" y="5657400"/>
            <a:ext cx="13885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EMBER NOT IN POSSESSION OF PCS PACKAG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1480" y="5462640"/>
            <a:ext cx="61920" cy="6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01480" y="5700600"/>
            <a:ext cx="61920" cy="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08240" y="6044040"/>
            <a:ext cx="12268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7. PREPARED BY (Signature/Dat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16960" y="6072480"/>
            <a:ext cx="19418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CEIPT OF AMOUNT SHOWN PAID IS ACKNOWLEDGE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27880" y="6285240"/>
            <a:ext cx="101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8.  SIGNATURE OF PAYE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62000" y="6285240"/>
            <a:ext cx="4770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9.  DA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70840" y="6285240"/>
            <a:ext cx="12499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0.  APPROVED BY (Signature/Dat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473360" y="5945400"/>
            <a:ext cx="8946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6.  PAYROLL 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70120" y="5618520"/>
            <a:ext cx="140076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5b NUMBER OF MONTHS REPAYME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71200" y="5281920"/>
            <a:ext cx="1329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5a  NUMBER OF MONTHS ADVAN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73720" y="3913560"/>
            <a:ext cx="9190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2.  VOUCHER NUMB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71920" y="4278600"/>
            <a:ext cx="7513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3.  AMOUNT PAI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71560" y="4611960"/>
            <a:ext cx="1261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4 CLEAR ACCOUNT ID (Check on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71560" y="4921560"/>
            <a:ext cx="153324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5.  ADVANCE PAY CATEGORY (if applicabl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4559400" y="4739760"/>
            <a:ext cx="1429200" cy="140400"/>
            <a:chOff x="4559400" y="4739760"/>
            <a:chExt cx="1429200" cy="140400"/>
          </a:xfrm>
        </p:grpSpPr>
        <p:sp>
          <p:nvSpPr>
            <p:cNvPr id="1069" name=""/>
            <p:cNvSpPr/>
            <p:nvPr/>
          </p:nvSpPr>
          <p:spPr>
            <a:xfrm>
              <a:off x="4559400" y="4784040"/>
              <a:ext cx="71280" cy="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473080" y="4784040"/>
              <a:ext cx="71280" cy="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36080" y="4739760"/>
              <a:ext cx="4024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61640" y="4739760"/>
              <a:ext cx="42696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NLISTED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2030760" y="4921560"/>
            <a:ext cx="586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9.  REMARK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22120" y="3313440"/>
            <a:ext cx="1780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6.  MEMBER CERTIFICATION (Check appropriate item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190600" y="3407040"/>
            <a:ext cx="22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 have received _______previous casual payment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during this reassignment, TDY, or  authorized lea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nder Order No.__________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193840" y="3728160"/>
            <a:ext cx="240804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the best of my knowledge, all payments I ha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eceived have been deducted from my pay accoun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nd all leave I have taken has been posted agains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y leave balance.  I understand that the final paymen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de to me on my separation form active service ma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 adjusted by central site. This adjustment would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ased on a detailed computation of all valid transaction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ffecting my pay account.  I have also been inform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at my final leave and earnings statement will show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ny adjustments that are known on my computation d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5960" y="6755040"/>
            <a:ext cx="158652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 FORM  7003, JUL 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73280" y="6769080"/>
            <a:ext cx="16416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87840" y="4764240"/>
            <a:ext cx="76320" cy="8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05480" y="4764240"/>
            <a:ext cx="77760" cy="8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927000" y="176040"/>
            <a:ext cx="1139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04720" y="8736120"/>
            <a:ext cx="47325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7200" y="2298600"/>
            <a:ext cx="2062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8800" y="2368440"/>
            <a:ext cx="262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067480" y="2687760"/>
            <a:ext cx="239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88-74-0124        BUNDELL, RONA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55080" y="2411280"/>
            <a:ext cx="16779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RD  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 STEWART GA,  314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SN 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 SEP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064600" y="3056040"/>
            <a:ext cx="252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 CO  1-23RD  ARMOR, FT STEWART GA 31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18440" y="3379680"/>
            <a:ext cx="89640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09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0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5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427360" y="47181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059200" y="5046840"/>
            <a:ext cx="2304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1*2010 01-1100 P1190.00 1199 S999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9400" y="6221520"/>
            <a:ext cx="39898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E T. CL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C, FINANCE SERVIC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ald Bundell</a:t>
            </a:r>
            <a:r>
              <a:rPr b="1" lang="en-US" sz="1000" spc="-1" strike="noStrike">
                <a:solidFill>
                  <a:srgbClr val="000000"/>
                </a:solidFill>
                <a:latin typeface="Script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SEP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4480" y="250020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60400" y="6381720"/>
            <a:ext cx="1740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800" spc="-1" strike="noStrike">
                <a:solidFill>
                  <a:srgbClr val="000000"/>
                </a:solidFill>
                <a:latin typeface="Script"/>
              </a:rPr>
              <a:t>Walter  C.  Cory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1 SEP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lter C. C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TC,FC,Finance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2000" y="6095880"/>
            <a:ext cx="1435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cript"/>
              </a:rPr>
              <a:t>Joe  T. Clark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21 NOV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8760" y="3502080"/>
            <a:ext cx="137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RMY RESERV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PUT REQUIRED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48640" y="8469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7" name=""/>
          <p:cNvGraphicFramePr/>
          <p:nvPr/>
        </p:nvGraphicFramePr>
        <p:xfrm>
          <a:off x="0" y="-22860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"/>
          <p:cNvSpPr/>
          <p:nvPr/>
        </p:nvSpPr>
        <p:spPr>
          <a:xfrm>
            <a:off x="428760" y="8850240"/>
            <a:ext cx="650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7520" bIns="4752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44480" y="7494480"/>
            <a:ext cx="34610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</a:rPr>
              <a:t>JOHN RI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248640" y="8686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16640" y="25380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86960" y="54036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24760" y="74772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60" y="13320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6-12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3240" y="1307160"/>
            <a:ext cx="1444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JUNE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8560" y="2734920"/>
            <a:ext cx="624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DUTY ASSIGNMENT designator is awarded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ted as indicated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68800" y="646272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2360" y="810720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600" y="2087280"/>
            <a:ext cx="648000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N, CHRISTOPHER E. 999-33-8923, SPC, 23RD MED SPT B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8920" y="3236040"/>
            <a:ext cx="65167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Award S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AR 600-2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1 JUNE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TED 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 Sergeant P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Instruction: This order terminates any other Spe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ty assignment designator that the member may have b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r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8643960"/>
            <a:ext cx="21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09320" y="8621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685800" y="-76320"/>
          <a:ext cx="5400720" cy="81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-76320"/>
                    <a:ext cx="5400720" cy="81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"/>
          <p:cNvSpPr/>
          <p:nvPr/>
        </p:nvSpPr>
        <p:spPr>
          <a:xfrm>
            <a:off x="995400" y="5334120"/>
            <a:ext cx="103968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ILEY, JOH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57800" y="5334120"/>
            <a:ext cx="150948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8      74           12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21000" y="766116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8080" y="7315200"/>
            <a:ext cx="3124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Daniel Perron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 1 Sep  20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490640" y="7693200"/>
            <a:ext cx="276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4440" y="8491680"/>
            <a:ext cx="505152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ENT NOTE:  I ONLY WANT TO CHANGE MY FEDERAL T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276720" y="8839080"/>
            <a:ext cx="36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99680" y="1220760"/>
            <a:ext cx="581760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llowing soldier attended a weekend drill.  Certificate of completion is attach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ron, Daniel      888-73-2366         01            **0910  thru  **09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 attended:   **0910   0700 AM to 14:30 P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15  0700 AM to  1000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*0916  0700 AM to  1000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Script"/>
              </a:rPr>
              <a:t>Joseph 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seph W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T, IN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a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40080" y="436680"/>
            <a:ext cx="1722600" cy="247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ill Attendance Ros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67200" y="6600960"/>
            <a:ext cx="1297440" cy="582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NO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C:  1135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5188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5" name=""/>
          <p:cNvGraphicFramePr/>
          <p:nvPr/>
        </p:nvGraphicFramePr>
        <p:xfrm>
          <a:off x="189000" y="420840"/>
          <a:ext cx="6342120" cy="74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420840"/>
                    <a:ext cx="6342120" cy="74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7" name=""/>
          <p:cNvSpPr/>
          <p:nvPr/>
        </p:nvSpPr>
        <p:spPr>
          <a:xfrm>
            <a:off x="517680" y="84916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5188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9" name=""/>
          <p:cNvGraphicFramePr/>
          <p:nvPr/>
        </p:nvGraphicFramePr>
        <p:xfrm>
          <a:off x="230040" y="419040"/>
          <a:ext cx="629316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19040"/>
                    <a:ext cx="629316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289080" y="87202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251880" y="8621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62840" y="531720"/>
            <a:ext cx="3701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60" y="13320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8-12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960" y="1307160"/>
            <a:ext cx="1758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9 AUGUST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600" y="2085480"/>
            <a:ext cx="648000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N, CHRISTOPHER E. 999-33-8923, SPC, 23RD MED SPT B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920" y="3184560"/>
            <a:ext cx="65167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TERMINATE SD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AR 600-2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10 JUNE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 Sergeant P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Instruction: This order terminates any other Spe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ty assignment designator that the member may have b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r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37240" y="8540640"/>
            <a:ext cx="212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8560" y="2734920"/>
            <a:ext cx="6190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DUTY ASSIGNMENT designator is awarded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ted as indicated terminate hazardous duty as ind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09320" y="86216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39080" y="51912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280" y="13572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8-12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83960" y="1307160"/>
            <a:ext cx="1758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AUGUST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080" y="1928880"/>
            <a:ext cx="3989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llowing orders are change as indicat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440" y="54810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1600" y="63313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68800" y="598068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6880" y="78397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7160" y="3570120"/>
            <a:ext cx="5959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taining to: BROWN, CHRISTOPHER E. 999-33-8923, SPC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rd Med Spt Bn, FORT STEWART, GA 31314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reads: Terminate Drill Sergeants Pay (SD1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Changed: REVO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2445840"/>
            <a:ext cx="5564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REVO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much of: Para 1, ORDER 08-121, Headquarters, 23r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mored Division and Fort Stewart, GA dt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9 August 20**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37160" y="8540640"/>
            <a:ext cx="212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61960" y="854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86960" y="53964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360" y="1332000"/>
            <a:ext cx="153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12-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83240" y="1307160"/>
            <a:ext cx="133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9 DEC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320" y="2085480"/>
            <a:ext cx="58370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SON, PAUL E. 000-33-7777, SGT, 23RD MED SPT B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PERFOR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Flight Pay (Crewmember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1 DEC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23200" y="8643960"/>
            <a:ext cx="21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09320" y="854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86960" y="539640"/>
            <a:ext cx="3747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 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360" y="13320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6-12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240" y="1307160"/>
            <a:ext cx="14446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JUNE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880" y="2085480"/>
            <a:ext cx="523044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K, BO E. 999-33-8923, SPC, 23RD MED SPT B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PERFOR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Flight Pay (Non-Crewmember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1 JUNE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23200" y="8643960"/>
            <a:ext cx="299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9320" y="846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16640" y="253080"/>
            <a:ext cx="30420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62840" y="531720"/>
            <a:ext cx="3701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QUARTERS,23RD ARMORED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24760" y="748440"/>
            <a:ext cx="3479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EORGI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360" y="1332000"/>
            <a:ext cx="1644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DERS 08-12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3960" y="1307160"/>
            <a:ext cx="1758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9 AUGUST 20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8920" y="2875680"/>
            <a:ext cx="5830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will perform or terminate hazardous duty as indic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20" y="5938200"/>
            <a:ext cx="185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-COMMAN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)-PSNC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)-SOLD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4080" y="6815520"/>
            <a:ext cx="231948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K. K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, AG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TANT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8800" y="6463440"/>
            <a:ext cx="429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2360" y="8107920"/>
            <a:ext cx="4573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 FOR INSTRUCTIONAL PURPOSE ONLY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20" y="2085480"/>
            <a:ext cx="517392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EK,BO E. 999-33-8923, SPC, 23RD MED SPT B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680" y="3497760"/>
            <a:ext cx="43448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: TERMINAT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TY: DODFMR and AR 37-104-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DUTY: Flight Pay (Non-Crewmember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pay code: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qualification identifier awarded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 DATE: 31 JULY 20**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additional pay terminate: N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: 3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37240" y="8540640"/>
            <a:ext cx="30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85640" y="854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15:40:04Z</dcterms:created>
  <dc:creator>Soldier Support Institute</dc:creator>
  <dc:description/>
  <dc:language>en-US</dc:language>
  <cp:lastModifiedBy>Administrator</cp:lastModifiedBy>
  <cp:lastPrinted>2002-06-09T11:18:51Z</cp:lastPrinted>
  <dcterms:modified xsi:type="dcterms:W3CDTF">2004-10-12T15:08:22Z</dcterms:modified>
  <cp:revision>141</cp:revision>
  <dc:subject/>
  <dc:title>STUDENT HANDOUT</dc:title>
</cp:coreProperties>
</file>